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C640-11E4-4E40-8C9C-6FFC955A4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EF00-01EE-451A-9F14-6ED0444511B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3712E-73E1-447E-9C23-86D81820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E6770-D8A5-4513-A09B-5DC02489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49E2-B006-4C3A-9A1F-BA568644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AE030-3D11-4168-BBBD-496D6D1D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9AD1D-F04D-458C-A24A-0046D5A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E3534-CD74-406B-92E6-3097F81D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80C9E-B328-46B6-9D8B-38D88FD9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12890-0FE4-40BF-B770-2DA82685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50E4D-DC11-4C25-A6F6-BD4DEE6C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E9CE-A38F-4471-A5C9-6CAE8521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3F8E-10D2-4954-BC48-4496A31281B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CD16A-99B9-4843-86F3-4C6A76A2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FFD39-B967-4B61-AC41-D06A02FA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1EE3C-4D68-4443-990D-96F0E3CA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BE2AB-93F4-4E1B-9E98-2410B792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62470-710F-417C-B30E-D16A5693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2CE55-5DE2-4EDA-B303-D86809CA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53C06-19B7-4DAE-B803-9B0E905C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872F9-FBCE-456F-A60B-2B704E7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9EFED-FF2B-4745-9E9C-CCB1B944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9F895-63E3-4AEA-AD60-F3E2C59A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BC4D-6B35-416B-857C-18297886E57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022BA-64B4-413B-B2A3-9CAD3DD5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40692-04C6-4659-B57A-595C1669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83800-92DA-4629-826C-3BA6BB1A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DD21E-28F2-46C1-8D4C-1C3C4958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BC4CB-08A3-4872-8E9B-A5A2075A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A1C46-6B9C-4AD1-A6BD-A398E1FA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5064B-1FB1-4AAA-A54F-D0A0A72B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BCE1-B5C9-45F7-B05C-5D74A3F9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84B8D-4FF1-494C-B071-299DD3EF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557D9-A682-4EEE-BDF9-4DD16017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B8C6B-A1E1-486C-A8ED-2D10CBFA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7E61B-9D4B-4C6C-9EEB-D6EF01E6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D10AE-8091-4BE0-8FE4-E64F2315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41E75-49C4-44A3-A1B8-66969633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009E9-F639-4ECA-9689-112AB82C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0C27F-4BFB-48A8-94B3-CD964A05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9D5CD-352C-4696-A599-2B4ED683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516B5-7F88-48E4-9AE3-5BA7F22E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CDAA9-668E-43BB-8CB4-FF177ABD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AE240-B62F-4909-9F94-F1F3ADC7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61DE0-0494-4360-AA44-75AF07C2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A98DA-89E2-44E5-A226-F3F34A1E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186D6-FCF1-4A21-AD94-883AFC9D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28002-FBF4-4A41-A622-513E4B80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50D25-D4DD-4A11-9FB0-9E9A9990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9F5E0-3D22-4453-8BCA-18F747C8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2DFCC-BFBE-4CAD-AA9C-C9B0555E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B3ED7-C60E-4A2A-84AE-4F04BAA4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9E693-9115-4709-B4E7-21997B15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A618F-13B3-469F-B368-A97322A4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CE4A5-A577-4FCC-9D79-7E7764F6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5C9F4-08AF-4A27-B1E9-1AA94B31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6E8A-0FD0-4CB4-BFA6-B90FCB5E2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1A42F-6676-4C97-99D0-6A3A50F8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A1AE8-9696-403B-A953-2CDD25A2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786D5-CF2D-4E9F-B71B-470F2B8F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BAFB9-840A-48C0-845E-3872CCC0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3AC96-2F1B-4AD9-BF9D-37EDE3DD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5ACC6-B651-4699-90ED-F5262D0D96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59A80-AFDA-4161-8A59-06BE0CCD8B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F9680-A0F2-4815-9ED7-604B1BC8D4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FEBC5-67DC-4A97-AB32-A53671A6E0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3F60A-AFD6-481A-BBF1-152C27CEBB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9A60-49DD-4FCC-9092-72763C5F46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730F7-0A26-4EE1-B500-FC704992C1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3C267-E9BC-41D7-BDD7-62222A1D1F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9454E-F397-4E8D-B5AD-98F3E63E87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80844-4442-4071-96CC-E7AD580284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62AE1-9323-4439-8279-A1174D0476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42AD1-B3FE-4A14-9970-5FF47CF821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6FADC-3760-48B5-927C-1FFF905BE3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709FC-AB35-4CB9-AB86-F3026E89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4EDDB-AFFB-41E9-BDDC-FBC34CB7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8B69D-3CDB-4BCA-85AE-FF227907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8F43-EA36-430D-95A5-00BB5C5FB7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A806E-4B74-4A7A-8639-DABA993D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1834D-859C-469D-A448-AFF3FF45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E4F1E-76B1-4A06-ACA1-5F30F7AF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1006C-821D-4440-BC2D-70542549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1C938-1C18-4182-B174-19E77AC3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6E884-D834-40AC-A85B-70EF7F0A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44969-C09A-4BFB-83E7-5871BB5B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9C87D-9585-4441-9978-3D8CF543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04A88-78D4-462A-83F3-246B7FEE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DF7C-6BD8-4A0F-800E-CFC999ED6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8AD3-EEC2-4C73-B217-DD12E544F50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6037-FD4A-48E0-8AA3-A3FF8C970F8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0A752-0D7F-4077-8219-9BB6AD74C0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497C-F55C-4352-B6BA-0CA75A7BE93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43C5-5671-4313-9B9F-B33DC161DB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6423-BD95-4672-90AA-0CC7C46816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14215-049F-47BB-994B-353FDBC84DA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DE03-DEC4-4BBC-9A73-FF147AB9E48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CC29-E3F6-4ED4-A1EE-E288684E62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0722-C4A5-41B2-B857-79CA0EABD1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0D52-5098-4C83-AD77-58BC92277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1625-7AE9-46B3-8E50-10345BB4849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DEB7-D5FE-4F86-B23F-55C8085C20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C8B8B-83CE-4577-BF1C-070812B9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B4977-B64C-4248-938F-77DC5506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0E9D-D00A-4F85-92F9-58CB6805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C8AF2-36B3-4139-9D1C-1ED74D54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9EA7E-0BDE-4E2D-8A9A-61B3A82B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13CD-9557-4D47-89A2-A45343B1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23E3A-D3EC-419E-9957-62F2EE4C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B8AE-92C5-4105-B8AE-A9338727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92F4-8F14-42C5-8C98-667B10FA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1BD7-8701-4249-8A03-17AD33EC0D3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58EF-2521-47A9-B9B6-060EF0C2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79EC-0B84-41F3-B679-27910B0B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44492-A7F1-4FC7-8AB7-7D59B74B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18889-E289-4FD0-8C5F-8C2B4DD8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2D9DB-AFD2-4A69-897C-E0CE3E4A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6EE02-A34F-4CD3-8B4D-CD12CE33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E8AE4-374A-47AD-94F5-32CE1E2C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EC6C2-DB2D-4A53-9261-04C2E079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11265-14A3-4D20-9B87-9537CD12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52D1F-687E-4996-AE10-1B4F2F42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41A6-1B83-4AFE-BBED-F694886F046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6B047-8BFC-4CC4-8A4A-8356D87B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2F5FD-3D98-451A-815A-BE773C40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396D0-157C-44CE-B4CB-6F86B1FD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A449-0662-4FFB-8804-5E74D4C6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92046-24B0-48FD-9CF2-53B26013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38507-A331-41D8-89EC-9385DC1A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C4500-CE1E-4DB2-972C-39A071A0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AAE37-8E1E-4C99-9BEB-6AC35E1B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0F26E-E2A9-4DCD-8CD5-E80E698C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5BAB8-8432-498F-AB2F-8AB72F9C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2722-117A-4333-A15C-8D8791CA4D7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D5850-6566-4495-BA75-AF224251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503F4-8E0B-4CD2-B0DF-49869AC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FD230-23BE-4A19-9171-ECB5D87D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F07ED-C1A5-4D32-867B-D539E19C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27011-14E9-4283-AC95-30600268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3206F-8B58-4AD9-9DC5-8EEA0FEE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CA8A4-BA18-4538-A1FC-0C910D91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966D1-7C58-431A-807E-EC9B367F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6718B-5B35-45A5-ACCE-78B180FB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7839F-FF78-483B-982E-AA50361A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08ED-5E73-44BA-A4E4-9653AA1BA22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31E6-8524-4016-9B94-6382B52B563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70BF-EA6A-49DD-9957-5E5167AD680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7B17-11D7-4825-8C94-A56B7E34F51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A8DE-B4D7-403E-9381-3CBA17D7262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7656-A3BC-49C9-897B-B6E5F097317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6FAF-6D0C-4C57-B4CC-50CED67E399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5246-2289-460C-87DD-07DFAC42F78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BF68-AAC5-418C-B73B-81C2CC419EA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365F-6227-4C1D-9568-B32F1D8F283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FA22-2586-4A0D-A068-993390DEA04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EB63-00E0-45C0-8957-2BDAA91439B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Establishing Resources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2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Equipment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14080" y="15426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next empty cell in the Resource name colum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Resourc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Gen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Equipment 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3967200" cy="3009960"/>
          </a:xfrm>
          <a:prstGeom prst="rect">
            <a:avLst/>
          </a:prstGeom>
          <a:ln w="0">
            <a:noFill/>
          </a:ln>
        </p:spPr>
      </p:pic>
      <p:sp>
        <p:nvSpPr>
          <p:cNvPr id="574" name="Line Callout 1 (Accent Bar) 13"/>
          <p:cNvSpPr/>
          <p:nvPr/>
        </p:nvSpPr>
        <p:spPr>
          <a:xfrm>
            <a:off x="5486400" y="1600200"/>
            <a:ext cx="3124080" cy="71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56" y="33807"/>
                </a:moveTo>
                <a:lnTo>
                  <a:pt x="-527" y="3433"/>
                </a:lnTo>
              </a:path>
              <a:path w="21600" h="21600">
                <a:moveTo>
                  <a:pt x="-527" y="0"/>
                </a:moveTo>
                <a:lnTo>
                  <a:pt x="-527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the General tab in the Resource Information dialo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Equipment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activate the Resource Information dialog box 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uble-clicking a resource 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uble-clicking an empty cell in the Resource Name colum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ing the Resource Information button on the Standard toolb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4114800" y="4572000"/>
            <a:ext cx="795240" cy="760320"/>
          </a:xfrm>
          <a:prstGeom prst="rect">
            <a:avLst/>
          </a:prstGeom>
          <a:ln w="0">
            <a:noFill/>
          </a:ln>
        </p:spPr>
      </p:pic>
      <p:sp>
        <p:nvSpPr>
          <p:cNvPr id="578" name="TextBox 8"/>
          <p:cNvSpPr/>
          <p:nvPr/>
        </p:nvSpPr>
        <p:spPr>
          <a:xfrm>
            <a:off x="5486400" y="4800600"/>
            <a:ext cx="2895480" cy="3070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Information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Equipment Resourc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Equipment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503280" y="1542960"/>
            <a:ext cx="368784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24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 the equipment resource n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24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Work as the resource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24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967200" cy="3009960"/>
          </a:xfrm>
          <a:prstGeom prst="rect">
            <a:avLst/>
          </a:prstGeom>
          <a:ln w="0">
            <a:noFill/>
          </a:ln>
        </p:spPr>
      </p:pic>
      <p:sp>
        <p:nvSpPr>
          <p:cNvPr id="583" name="Line Callout 1 (Accent Bar) 13"/>
          <p:cNvSpPr/>
          <p:nvPr/>
        </p:nvSpPr>
        <p:spPr>
          <a:xfrm>
            <a:off x="2666880" y="3657600"/>
            <a:ext cx="2130480" cy="71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760" y="-39862"/>
                </a:moveTo>
                <a:lnTo>
                  <a:pt x="22373" y="3433"/>
                </a:lnTo>
              </a:path>
              <a:path w="21600" h="21600">
                <a:moveTo>
                  <a:pt x="22373" y="0"/>
                </a:moveTo>
                <a:lnTo>
                  <a:pt x="22373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the equipment resourc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Callout 1 (Accent Bar) 13"/>
          <p:cNvSpPr/>
          <p:nvPr/>
        </p:nvSpPr>
        <p:spPr>
          <a:xfrm>
            <a:off x="2286000" y="4572000"/>
            <a:ext cx="1905120" cy="71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1606" y="-49065"/>
                </a:moveTo>
                <a:lnTo>
                  <a:pt x="22464" y="3433"/>
                </a:lnTo>
              </a:path>
              <a:path w="21600" h="21600">
                <a:moveTo>
                  <a:pt x="22464" y="0"/>
                </a:moveTo>
                <a:lnTo>
                  <a:pt x="22464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Work as the resource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Equipment Resourc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Equipment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533520" y="1447560"/>
            <a:ext cx="3124080" cy="3786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just Max. Units for the equipment resource, if necess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e to enter equipment resources as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rcRect l="0" t="0" r="18750" b="32160"/>
          <a:stretch/>
        </p:blipFill>
        <p:spPr>
          <a:xfrm>
            <a:off x="4191120" y="1676520"/>
            <a:ext cx="4360680" cy="2120760"/>
          </a:xfrm>
          <a:prstGeom prst="rect">
            <a:avLst/>
          </a:prstGeom>
          <a:ln w="0">
            <a:noFill/>
          </a:ln>
        </p:spPr>
      </p:pic>
      <p:sp>
        <p:nvSpPr>
          <p:cNvPr id="589" name="Line Callout 1 (Accent Bar) 13"/>
          <p:cNvSpPr/>
          <p:nvPr/>
        </p:nvSpPr>
        <p:spPr>
          <a:xfrm>
            <a:off x="3809880" y="4343400"/>
            <a:ext cx="2130480" cy="71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420" y="-29897"/>
                </a:moveTo>
                <a:lnTo>
                  <a:pt x="22373" y="3433"/>
                </a:lnTo>
              </a:path>
              <a:path w="21600" h="21600">
                <a:moveTo>
                  <a:pt x="22373" y="0"/>
                </a:moveTo>
                <a:lnTo>
                  <a:pt x="22373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just Max. Units for equipmen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Equipment Resourc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Material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Material 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ounded Rectangle 9"/>
          <p:cNvSpPr/>
          <p:nvPr/>
        </p:nvSpPr>
        <p:spPr>
          <a:xfrm>
            <a:off x="2057400" y="4419720"/>
            <a:ext cx="6477120" cy="761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the material label in the Material Label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6"/>
          <p:cNvSpPr/>
          <p:nvPr/>
        </p:nvSpPr>
        <p:spPr>
          <a:xfrm>
            <a:off x="609480" y="1600200"/>
            <a:ext cx="716292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ext empty cell in the Resource Nam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ounded Rectangle 7"/>
          <p:cNvSpPr/>
          <p:nvPr/>
        </p:nvSpPr>
        <p:spPr>
          <a:xfrm>
            <a:off x="1219320" y="2666880"/>
            <a:ext cx="6492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the material resourc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ounded Rectangle 8"/>
          <p:cNvSpPr/>
          <p:nvPr/>
        </p:nvSpPr>
        <p:spPr>
          <a:xfrm>
            <a:off x="1676520" y="3581280"/>
            <a:ext cx="647676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Material in the Type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Down Arrow 10"/>
          <p:cNvSpPr/>
          <p:nvPr/>
        </p:nvSpPr>
        <p:spPr>
          <a:xfrm>
            <a:off x="1219320" y="2362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Down Arrow 14"/>
          <p:cNvSpPr/>
          <p:nvPr/>
        </p:nvSpPr>
        <p:spPr>
          <a:xfrm>
            <a:off x="1752480" y="3276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own Arrow 15"/>
          <p:cNvSpPr/>
          <p:nvPr/>
        </p:nvSpPr>
        <p:spPr>
          <a:xfrm>
            <a:off x="2286000" y="41148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Material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rcRect l="0" t="0" r="0" b="27336"/>
          <a:stretch/>
        </p:blipFill>
        <p:spPr>
          <a:xfrm>
            <a:off x="4038480" y="1752480"/>
            <a:ext cx="4579920" cy="1940040"/>
          </a:xfrm>
          <a:prstGeom prst="rect">
            <a:avLst/>
          </a:prstGeom>
          <a:ln w="0">
            <a:noFill/>
          </a:ln>
        </p:spPr>
      </p:pic>
      <p:sp>
        <p:nvSpPr>
          <p:cNvPr id="602" name="TextBox 12"/>
          <p:cNvSpPr/>
          <p:nvPr/>
        </p:nvSpPr>
        <p:spPr>
          <a:xfrm>
            <a:off x="914400" y="2209680"/>
            <a:ext cx="2362320" cy="733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material label is the unit of measure used to track consum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Callout 1 (Accent Bar) 13"/>
          <p:cNvSpPr/>
          <p:nvPr/>
        </p:nvSpPr>
        <p:spPr>
          <a:xfrm>
            <a:off x="6093000" y="4343400"/>
            <a:ext cx="15271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736" y="-63630"/>
                </a:moveTo>
                <a:lnTo>
                  <a:pt x="-1078" y="6480"/>
                </a:lnTo>
              </a:path>
              <a:path w="21600" h="21600">
                <a:moveTo>
                  <a:pt x="-1078" y="0"/>
                </a:moveTo>
                <a:lnTo>
                  <a:pt x="-1078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terial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Callout 1 (Accent Bar) 13"/>
          <p:cNvSpPr/>
          <p:nvPr/>
        </p:nvSpPr>
        <p:spPr>
          <a:xfrm>
            <a:off x="3048120" y="4267080"/>
            <a:ext cx="152712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830" y="-52830"/>
                </a:moveTo>
                <a:lnTo>
                  <a:pt x="22678" y="6480"/>
                </a:lnTo>
              </a:path>
              <a:path w="21600" h="21600">
                <a:moveTo>
                  <a:pt x="22678" y="0"/>
                </a:moveTo>
                <a:lnTo>
                  <a:pt x="22678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Material Resourc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Cost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Cost 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Rounded Rectangle 6"/>
          <p:cNvSpPr/>
          <p:nvPr/>
        </p:nvSpPr>
        <p:spPr>
          <a:xfrm>
            <a:off x="609480" y="1600200"/>
            <a:ext cx="7162920" cy="8380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the next empty cell in the Resource Nam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ounded Rectangle 7"/>
          <p:cNvSpPr/>
          <p:nvPr/>
        </p:nvSpPr>
        <p:spPr>
          <a:xfrm>
            <a:off x="1219320" y="2666880"/>
            <a:ext cx="6492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the cost resourc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ounded Rectangle 8"/>
          <p:cNvSpPr/>
          <p:nvPr/>
        </p:nvSpPr>
        <p:spPr>
          <a:xfrm>
            <a:off x="1676520" y="3581280"/>
            <a:ext cx="647676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Cost in the Type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own Arrow 10"/>
          <p:cNvSpPr/>
          <p:nvPr/>
        </p:nvSpPr>
        <p:spPr>
          <a:xfrm>
            <a:off x="1219320" y="23623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own Arrow 14"/>
          <p:cNvSpPr/>
          <p:nvPr/>
        </p:nvSpPr>
        <p:spPr>
          <a:xfrm>
            <a:off x="1752480" y="3276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Cost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3520" y="538200"/>
            <a:ext cx="815328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Cost Resourc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Box 8"/>
          <p:cNvSpPr/>
          <p:nvPr/>
        </p:nvSpPr>
        <p:spPr>
          <a:xfrm>
            <a:off x="838080" y="1676520"/>
            <a:ext cx="2057400" cy="1159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 cost resource doesn’t depend on the amount of work on a task or the duration of a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rcRect l="0" t="0" r="9393" b="37282"/>
          <a:stretch/>
        </p:blipFill>
        <p:spPr>
          <a:xfrm>
            <a:off x="3200400" y="2286000"/>
            <a:ext cx="5334120" cy="2232000"/>
          </a:xfrm>
          <a:prstGeom prst="rect">
            <a:avLst/>
          </a:prstGeom>
          <a:ln w="0">
            <a:noFill/>
          </a:ln>
        </p:spPr>
      </p:pic>
      <p:sp>
        <p:nvSpPr>
          <p:cNvPr id="617" name="Line Callout 1 (Accent Bar) 13"/>
          <p:cNvSpPr/>
          <p:nvPr/>
        </p:nvSpPr>
        <p:spPr>
          <a:xfrm>
            <a:off x="838080" y="4572000"/>
            <a:ext cx="15271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9846" y="-8190"/>
                </a:moveTo>
                <a:lnTo>
                  <a:pt x="22678" y="6480"/>
                </a:lnTo>
              </a:path>
              <a:path w="21600" h="21600">
                <a:moveTo>
                  <a:pt x="22678" y="0"/>
                </a:moveTo>
                <a:lnTo>
                  <a:pt x="22678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Resource Pay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3280" y="538200"/>
            <a:ext cx="825984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Resource Cos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Content Placeholder 12"/>
          <p:cNvSpPr/>
          <p:nvPr/>
        </p:nvSpPr>
        <p:spPr>
          <a:xfrm>
            <a:off x="533520" y="1447920"/>
            <a:ext cx="335268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Std. Rate field for the desired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 the rate (hourly, daily, weekly, month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rcRect l="0" t="0" r="18750" b="30917"/>
          <a:stretch/>
        </p:blipFill>
        <p:spPr>
          <a:xfrm>
            <a:off x="3962520" y="1752480"/>
            <a:ext cx="4589280" cy="2590920"/>
          </a:xfrm>
          <a:prstGeom prst="rect">
            <a:avLst/>
          </a:prstGeom>
          <a:ln w="0">
            <a:noFill/>
          </a:ln>
        </p:spPr>
      </p:pic>
      <p:sp>
        <p:nvSpPr>
          <p:cNvPr id="622" name="Line Callout 1 (Accent Bar) 13"/>
          <p:cNvSpPr/>
          <p:nvPr/>
        </p:nvSpPr>
        <p:spPr>
          <a:xfrm>
            <a:off x="3505320" y="4572000"/>
            <a:ext cx="259056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88" y="-103371"/>
                </a:moveTo>
                <a:lnTo>
                  <a:pt x="22235" y="4629"/>
                </a:lnTo>
              </a:path>
              <a:path w="21600" h="21600">
                <a:moveTo>
                  <a:pt x="22235" y="0"/>
                </a:moveTo>
                <a:lnTo>
                  <a:pt x="2223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urly rate for Scott Se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Resource Pay Ra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rcRect l="0" t="0" r="18750" b="30917"/>
          <a:stretch/>
        </p:blipFill>
        <p:spPr>
          <a:xfrm>
            <a:off x="3962520" y="1600200"/>
            <a:ext cx="4552920" cy="2971800"/>
          </a:xfrm>
          <a:prstGeom prst="rect">
            <a:avLst/>
          </a:prstGeom>
          <a:ln w="0">
            <a:noFill/>
          </a:ln>
        </p:spPr>
      </p:pic>
      <p:sp>
        <p:nvSpPr>
          <p:cNvPr id="625" name="Line Callout 1 (Accent Bar) 13"/>
          <p:cNvSpPr/>
          <p:nvPr/>
        </p:nvSpPr>
        <p:spPr>
          <a:xfrm>
            <a:off x="762120" y="4267080"/>
            <a:ext cx="2895480" cy="8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7842" y="-8836"/>
                </a:moveTo>
                <a:lnTo>
                  <a:pt x="22168" y="2945"/>
                </a:lnTo>
              </a:path>
              <a:path w="21600" h="21600">
                <a:moveTo>
                  <a:pt x="22168" y="0"/>
                </a:moveTo>
                <a:lnTo>
                  <a:pt x="22168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r a material resource, the standard rate is per unit of consum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Callout 1 (Accent Bar) 13"/>
          <p:cNvSpPr/>
          <p:nvPr/>
        </p:nvSpPr>
        <p:spPr>
          <a:xfrm>
            <a:off x="838080" y="1828800"/>
            <a:ext cx="2895840" cy="83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895" y="14073"/>
                </a:moveTo>
                <a:lnTo>
                  <a:pt x="22168" y="2945"/>
                </a:lnTo>
              </a:path>
              <a:path w="21600" h="21600">
                <a:moveTo>
                  <a:pt x="22168" y="0"/>
                </a:moveTo>
                <a:lnTo>
                  <a:pt x="22168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rates entered by hour, day, week, or 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Resource Cost Inform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239076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people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individual people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a resource that represents multiple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equipment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equipment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source Working Tim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8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ounded Rectangle 6"/>
          <p:cNvSpPr/>
          <p:nvPr/>
        </p:nvSpPr>
        <p:spPr>
          <a:xfrm>
            <a:off x="609480" y="1600200"/>
            <a:ext cx="71629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 on the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ounded Rectangle 7"/>
          <p:cNvSpPr/>
          <p:nvPr/>
        </p:nvSpPr>
        <p:spPr>
          <a:xfrm>
            <a:off x="1219320" y="2438280"/>
            <a:ext cx="6492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hange Working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ounded Rectangle 8"/>
          <p:cNvSpPr/>
          <p:nvPr/>
        </p:nvSpPr>
        <p:spPr>
          <a:xfrm>
            <a:off x="1600200" y="3352680"/>
            <a:ext cx="647712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hange Working Times dialog box is ac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Down Arrow 10"/>
          <p:cNvSpPr/>
          <p:nvPr/>
        </p:nvSpPr>
        <p:spPr>
          <a:xfrm>
            <a:off x="1219320" y="2133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Down Arrow 14"/>
          <p:cNvSpPr/>
          <p:nvPr/>
        </p:nvSpPr>
        <p:spPr>
          <a:xfrm>
            <a:off x="1752480" y="3048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Nonworking Times for an Individual Work Re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source Working Tim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rcRect l="0" t="0" r="0" b="47762"/>
          <a:stretch/>
        </p:blipFill>
        <p:spPr>
          <a:xfrm>
            <a:off x="3962520" y="1676520"/>
            <a:ext cx="4579920" cy="2630520"/>
          </a:xfrm>
          <a:prstGeom prst="rect">
            <a:avLst/>
          </a:prstGeom>
          <a:ln w="0">
            <a:noFill/>
          </a:ln>
        </p:spPr>
      </p:pic>
      <p:sp>
        <p:nvSpPr>
          <p:cNvPr id="639" name="Content Placeholder 12"/>
          <p:cNvSpPr/>
          <p:nvPr/>
        </p:nvSpPr>
        <p:spPr>
          <a:xfrm>
            <a:off x="533520" y="1600200"/>
            <a:ext cx="34290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desired resource in the For calenda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desired exception dates on the cale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Callout 1 (Accent Bar) 13"/>
          <p:cNvSpPr/>
          <p:nvPr/>
        </p:nvSpPr>
        <p:spPr>
          <a:xfrm>
            <a:off x="1066680" y="4648320"/>
            <a:ext cx="259092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753" y="-104400"/>
                </a:moveTo>
                <a:lnTo>
                  <a:pt x="22235" y="4629"/>
                </a:lnTo>
              </a:path>
              <a:path w="21600" h="21600">
                <a:moveTo>
                  <a:pt x="22235" y="0"/>
                </a:moveTo>
                <a:lnTo>
                  <a:pt x="2223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selected in the For calenda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Callout 1 (Accent Bar) 13"/>
          <p:cNvSpPr/>
          <p:nvPr/>
        </p:nvSpPr>
        <p:spPr>
          <a:xfrm>
            <a:off x="6095880" y="4648320"/>
            <a:ext cx="228600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60" y="-28800"/>
                </a:moveTo>
                <a:lnTo>
                  <a:pt x="-720" y="4629"/>
                </a:lnTo>
              </a:path>
              <a:path w="21600" h="21600">
                <a:moveTo>
                  <a:pt x="-720" y="0"/>
                </a:moveTo>
                <a:lnTo>
                  <a:pt x="-72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xception dates selected on cale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4876560" y="38095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Establish Nonworking Times for an Individual Work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source Working Tim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rcRect l="0" t="50946" r="0" b="0"/>
          <a:stretch/>
        </p:blipFill>
        <p:spPr>
          <a:xfrm>
            <a:off x="4343400" y="1676520"/>
            <a:ext cx="4275000" cy="2359080"/>
          </a:xfrm>
          <a:prstGeom prst="rect">
            <a:avLst/>
          </a:prstGeom>
          <a:ln w="0">
            <a:noFill/>
          </a:ln>
        </p:spPr>
      </p:pic>
      <p:sp>
        <p:nvSpPr>
          <p:cNvPr id="646" name="Content Placeholder 12"/>
          <p:cNvSpPr/>
          <p:nvPr/>
        </p:nvSpPr>
        <p:spPr>
          <a:xfrm>
            <a:off x="533520" y="1523880"/>
            <a:ext cx="3962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 description  of the exception time into the Nam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Star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ected exception dates appear automatical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Callout 1 (Accent Bar) 13"/>
          <p:cNvSpPr/>
          <p:nvPr/>
        </p:nvSpPr>
        <p:spPr>
          <a:xfrm>
            <a:off x="4876920" y="4495680"/>
            <a:ext cx="144756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66" y="-60390"/>
                </a:moveTo>
                <a:lnTo>
                  <a:pt x="-1137" y="3240"/>
                </a:lnTo>
              </a:path>
              <a:path w="21600" h="21600">
                <a:moveTo>
                  <a:pt x="-1137" y="0"/>
                </a:moveTo>
                <a:lnTo>
                  <a:pt x="-1137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scription of excep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Callout 1 (Accent Bar) 13"/>
          <p:cNvSpPr/>
          <p:nvPr/>
        </p:nvSpPr>
        <p:spPr>
          <a:xfrm>
            <a:off x="7162920" y="4419720"/>
            <a:ext cx="137160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5" y="-59400"/>
                </a:moveTo>
                <a:lnTo>
                  <a:pt x="-1200" y="3240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xception start and finish 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Establish Nonworking Times for an Individual Work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source Working Tim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1" name="Rounded Rectangle 6"/>
          <p:cNvSpPr/>
          <p:nvPr/>
        </p:nvSpPr>
        <p:spPr>
          <a:xfrm>
            <a:off x="609480" y="1600200"/>
            <a:ext cx="7162920" cy="60948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ols on the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ounded Rectangle 7"/>
          <p:cNvSpPr/>
          <p:nvPr/>
        </p:nvSpPr>
        <p:spPr>
          <a:xfrm>
            <a:off x="1219320" y="2438280"/>
            <a:ext cx="6492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Change Working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ounded Rectangle 8"/>
          <p:cNvSpPr/>
          <p:nvPr/>
        </p:nvSpPr>
        <p:spPr>
          <a:xfrm>
            <a:off x="1600200" y="3352680"/>
            <a:ext cx="647712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hange Working Times dialog box is ac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Down Arrow 10"/>
          <p:cNvSpPr/>
          <p:nvPr/>
        </p:nvSpPr>
        <p:spPr>
          <a:xfrm>
            <a:off x="1219320" y="2133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Down Arrow 14"/>
          <p:cNvSpPr/>
          <p:nvPr/>
        </p:nvSpPr>
        <p:spPr>
          <a:xfrm>
            <a:off x="1752480" y="3048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a Specific Work Schedule for a Re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source Working Tim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rcRect l="0" t="0" r="0" b="47762"/>
          <a:stretch/>
        </p:blipFill>
        <p:spPr>
          <a:xfrm>
            <a:off x="4038480" y="1752480"/>
            <a:ext cx="4516560" cy="2359080"/>
          </a:xfrm>
          <a:prstGeom prst="rect">
            <a:avLst/>
          </a:prstGeom>
          <a:ln w="0">
            <a:noFill/>
          </a:ln>
        </p:spPr>
      </p:pic>
      <p:sp>
        <p:nvSpPr>
          <p:cNvPr id="659" name="Content Placeholder 12"/>
          <p:cNvSpPr/>
          <p:nvPr/>
        </p:nvSpPr>
        <p:spPr>
          <a:xfrm>
            <a:off x="533520" y="1600200"/>
            <a:ext cx="327636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desired resource in the For calenda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oll the calendar to the desired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Callout 1 (Accent Bar) 13"/>
          <p:cNvSpPr/>
          <p:nvPr/>
        </p:nvSpPr>
        <p:spPr>
          <a:xfrm>
            <a:off x="1295280" y="4648320"/>
            <a:ext cx="259092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82" y="-101829"/>
                </a:moveTo>
                <a:lnTo>
                  <a:pt x="22235" y="4629"/>
                </a:lnTo>
              </a:path>
              <a:path w="21600" h="21600">
                <a:moveTo>
                  <a:pt x="22235" y="0"/>
                </a:moveTo>
                <a:lnTo>
                  <a:pt x="2223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selected in the For calenda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Callout 1 (Accent Bar) 13"/>
          <p:cNvSpPr/>
          <p:nvPr/>
        </p:nvSpPr>
        <p:spPr>
          <a:xfrm>
            <a:off x="6095880" y="4572000"/>
            <a:ext cx="190512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048" y="-77657"/>
                </a:moveTo>
                <a:lnTo>
                  <a:pt x="-864" y="4629"/>
                </a:lnTo>
              </a:path>
              <a:path w="21600" h="21600">
                <a:moveTo>
                  <a:pt x="-864" y="0"/>
                </a:moveTo>
                <a:lnTo>
                  <a:pt x="-864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alendar scrolled to desired 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a Specific Work Schedule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source Working Tim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rcRect l="0" t="50946" r="0" b="0"/>
          <a:stretch/>
        </p:blipFill>
        <p:spPr>
          <a:xfrm>
            <a:off x="3809880" y="1676520"/>
            <a:ext cx="4808520" cy="2359080"/>
          </a:xfrm>
          <a:prstGeom prst="rect">
            <a:avLst/>
          </a:prstGeom>
          <a:ln w="0">
            <a:noFill/>
          </a:ln>
        </p:spPr>
      </p:pic>
      <p:sp>
        <p:nvSpPr>
          <p:cNvPr id="665" name="Content Placeholder 12"/>
          <p:cNvSpPr/>
          <p:nvPr/>
        </p:nvSpPr>
        <p:spPr>
          <a:xfrm>
            <a:off x="533520" y="1600200"/>
            <a:ext cx="327636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89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Work Weeks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89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Detail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Details dialog box is activ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Callout 1 (Accent Bar) 8"/>
          <p:cNvSpPr/>
          <p:nvPr/>
        </p:nvSpPr>
        <p:spPr>
          <a:xfrm>
            <a:off x="5486400" y="4267080"/>
            <a:ext cx="144792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521" y="-99525"/>
                </a:moveTo>
                <a:lnTo>
                  <a:pt x="22737" y="5400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tails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Callout 1 (Accent Bar) 8"/>
          <p:cNvSpPr/>
          <p:nvPr/>
        </p:nvSpPr>
        <p:spPr>
          <a:xfrm>
            <a:off x="3200400" y="4495680"/>
            <a:ext cx="144792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111" y="-123525"/>
                </a:moveTo>
                <a:lnTo>
                  <a:pt x="22737" y="5400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ork Weeks 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a Specific Work Schedule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5341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source Working Tim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3895560" cy="2857680"/>
          </a:xfrm>
          <a:prstGeom prst="rect">
            <a:avLst/>
          </a:prstGeom>
          <a:ln w="0">
            <a:noFill/>
          </a:ln>
        </p:spPr>
      </p:pic>
      <p:sp>
        <p:nvSpPr>
          <p:cNvPr id="671" name="Content Placeholder 12"/>
          <p:cNvSpPr/>
          <p:nvPr/>
        </p:nvSpPr>
        <p:spPr>
          <a:xfrm>
            <a:off x="533520" y="1600200"/>
            <a:ext cx="3962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desired days in the Select day(s)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Set day(s) to these specific working time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 in working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Callout 1 (Accent Bar) 8"/>
          <p:cNvSpPr/>
          <p:nvPr/>
        </p:nvSpPr>
        <p:spPr>
          <a:xfrm>
            <a:off x="4419720" y="4572000"/>
            <a:ext cx="20574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900" y="-31635"/>
                </a:moveTo>
                <a:lnTo>
                  <a:pt x="22400" y="3240"/>
                </a:lnTo>
              </a:path>
              <a:path w="21600" h="21600">
                <a:moveTo>
                  <a:pt x="22400" y="0"/>
                </a:moveTo>
                <a:lnTo>
                  <a:pt x="224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y in the beginning and ending working t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a Specific Work Schedule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source Working Tim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95560" cy="2705400"/>
          </a:xfrm>
          <a:prstGeom prst="rect">
            <a:avLst/>
          </a:prstGeom>
          <a:ln w="0">
            <a:noFill/>
          </a:ln>
        </p:spPr>
      </p:pic>
      <p:sp>
        <p:nvSpPr>
          <p:cNvPr id="676" name="Content Placeholder 12"/>
          <p:cNvSpPr/>
          <p:nvPr/>
        </p:nvSpPr>
        <p:spPr>
          <a:xfrm>
            <a:off x="533520" y="1523880"/>
            <a:ext cx="39621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desired days in the Select day(s)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Set days to nonworking time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a Specific Work Schedule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justing Resource Working Tim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729240" cy="3728880"/>
          </a:xfrm>
          <a:prstGeom prst="rect">
            <a:avLst/>
          </a:prstGeom>
          <a:ln w="0">
            <a:noFill/>
          </a:ln>
        </p:spPr>
      </p:pic>
      <p:sp>
        <p:nvSpPr>
          <p:cNvPr id="680" name="Line Callout 1 (Accent Bar) 8"/>
          <p:cNvSpPr/>
          <p:nvPr/>
        </p:nvSpPr>
        <p:spPr>
          <a:xfrm>
            <a:off x="7238880" y="2057400"/>
            <a:ext cx="12193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381" y="16850"/>
                </a:moveTo>
                <a:lnTo>
                  <a:pt x="-1350" y="3600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dified working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Callout 1 (Accent Bar) 8"/>
          <p:cNvSpPr/>
          <p:nvPr/>
        </p:nvSpPr>
        <p:spPr>
          <a:xfrm>
            <a:off x="6934320" y="3505320"/>
            <a:ext cx="1447560" cy="12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668" y="-9291"/>
                </a:moveTo>
                <a:lnTo>
                  <a:pt x="-1137" y="1906"/>
                </a:lnTo>
              </a:path>
              <a:path w="21600" h="21600">
                <a:moveTo>
                  <a:pt x="-1137" y="0"/>
                </a:moveTo>
                <a:lnTo>
                  <a:pt x="-1137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ridays are “grayed out” to indicate nonworking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Callout 1 (Accent Bar) 8"/>
          <p:cNvSpPr/>
          <p:nvPr/>
        </p:nvSpPr>
        <p:spPr>
          <a:xfrm>
            <a:off x="762120" y="2057400"/>
            <a:ext cx="121896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3144" y="-4350"/>
                </a:moveTo>
                <a:lnTo>
                  <a:pt x="22950" y="3600"/>
                </a:lnTo>
              </a:path>
              <a:path w="21600" h="21600">
                <a:moveTo>
                  <a:pt x="22950" y="0"/>
                </a:moveTo>
                <a:lnTo>
                  <a:pt x="229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ame of resource calend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a Specific Work Schedule for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5341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Resource No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tach a Note to a Resou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ach additional information about a resource by attaching a n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resource note provides details regarding how and why a resource is scheduled the way that it 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the Resource Notes button to add a resource no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987480" cy="944640"/>
          </a:xfrm>
          <a:prstGeom prst="rect">
            <a:avLst/>
          </a:prstGeom>
          <a:ln w="0">
            <a:noFill/>
          </a:ln>
        </p:spPr>
      </p:pic>
      <p:sp>
        <p:nvSpPr>
          <p:cNvPr id="688" name="TextBox 8"/>
          <p:cNvSpPr/>
          <p:nvPr/>
        </p:nvSpPr>
        <p:spPr>
          <a:xfrm>
            <a:off x="4648320" y="4648320"/>
            <a:ext cx="2361960" cy="3070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Notes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57200" y="1600200"/>
          <a:ext cx="8229600" cy="1828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materi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materi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cost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cost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Resource No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tach a Note to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503280" y="1542960"/>
            <a:ext cx="399240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Resource Notes button on the Standard toolb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 desired information in the Notes 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814920" cy="3124080"/>
          </a:xfrm>
          <a:prstGeom prst="rect">
            <a:avLst/>
          </a:prstGeom>
          <a:ln w="0">
            <a:noFill/>
          </a:ln>
        </p:spPr>
      </p:pic>
      <p:sp>
        <p:nvSpPr>
          <p:cNvPr id="693" name="Line Callout 1 (Accent Bar) 8"/>
          <p:cNvSpPr/>
          <p:nvPr/>
        </p:nvSpPr>
        <p:spPr>
          <a:xfrm>
            <a:off x="3048120" y="4343400"/>
            <a:ext cx="1600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586" y="-41882"/>
                </a:moveTo>
                <a:lnTo>
                  <a:pt x="22629" y="2314"/>
                </a:lnTo>
              </a:path>
              <a:path w="21600" h="21600">
                <a:moveTo>
                  <a:pt x="22629" y="0"/>
                </a:moveTo>
                <a:lnTo>
                  <a:pt x="22629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ource name indicates to which resource the note will be atta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Adding Resource Not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tach a Note to a Resour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rcRect l="0" t="0" r="29180" b="49915"/>
          <a:stretch/>
        </p:blipFill>
        <p:spPr>
          <a:xfrm>
            <a:off x="4038480" y="2209680"/>
            <a:ext cx="4488120" cy="2140200"/>
          </a:xfrm>
          <a:prstGeom prst="rect">
            <a:avLst/>
          </a:prstGeom>
          <a:ln w="0">
            <a:noFill/>
          </a:ln>
        </p:spPr>
      </p:pic>
      <p:sp>
        <p:nvSpPr>
          <p:cNvPr id="697" name="Content Placeholder 9"/>
          <p:cNvSpPr/>
          <p:nvPr/>
        </p:nvSpPr>
        <p:spPr>
          <a:xfrm>
            <a:off x="503280" y="1542960"/>
            <a:ext cx="3611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ote icon appears in the Indicators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to the icon to see the note in a Screen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uble-click the icon to display the full text of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people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equipment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material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cost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Content Placeholder 6"/>
          <p:cNvSpPr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resource pay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just resource working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resourc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457200" y="1600200"/>
          <a:ext cx="8229600" cy="2666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resource pay 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 resource cost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just resource working 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nonworking times for an individual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a specific work schedule for a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resource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ach a note to a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rcRect l="0" t="0" r="0" b="25000"/>
          <a:stretch/>
        </p:blipFill>
        <p:spPr>
          <a:xfrm>
            <a:off x="1828800" y="1981080"/>
            <a:ext cx="5694480" cy="3202200"/>
          </a:xfrm>
          <a:prstGeom prst="rect">
            <a:avLst/>
          </a:prstGeom>
          <a:ln w="0">
            <a:noFill/>
          </a:ln>
        </p:spPr>
      </p:pic>
      <p:sp>
        <p:nvSpPr>
          <p:cNvPr id="541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Resource Sheet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People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3" name="Rounded Rectangle 9"/>
          <p:cNvSpPr/>
          <p:nvPr/>
        </p:nvSpPr>
        <p:spPr>
          <a:xfrm>
            <a:off x="2057400" y="4572000"/>
            <a:ext cx="6477120" cy="7621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ter resources in the Resource Nam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6"/>
          <p:cNvSpPr/>
          <p:nvPr/>
        </p:nvSpPr>
        <p:spPr>
          <a:xfrm>
            <a:off x="609480" y="1676520"/>
            <a:ext cx="7162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sources on the Project Guide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7"/>
          <p:cNvSpPr/>
          <p:nvPr/>
        </p:nvSpPr>
        <p:spPr>
          <a:xfrm>
            <a:off x="1219320" y="2514600"/>
            <a:ext cx="6492600" cy="871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pecify people and equipment for the proj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le 8"/>
          <p:cNvSpPr/>
          <p:nvPr/>
        </p:nvSpPr>
        <p:spPr>
          <a:xfrm>
            <a:off x="1676520" y="3657600"/>
            <a:ext cx="64767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ect Enter resource ma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Down Arrow 14"/>
          <p:cNvSpPr/>
          <p:nvPr/>
        </p:nvSpPr>
        <p:spPr>
          <a:xfrm>
            <a:off x="1752480" y="3352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own Arrow 15"/>
          <p:cNvSpPr/>
          <p:nvPr/>
        </p:nvSpPr>
        <p:spPr>
          <a:xfrm>
            <a:off x="2286000" y="4267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Individual Peopl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People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52" name="Text Placeholder 3" descr=""/>
          <p:cNvPicPr/>
          <p:nvPr/>
        </p:nvPicPr>
        <p:blipFill>
          <a:blip r:embed="rId1"/>
          <a:srcRect l="0" t="0" r="31875" b="25000"/>
          <a:stretch/>
        </p:blipFill>
        <p:spPr>
          <a:xfrm>
            <a:off x="4191120" y="1600200"/>
            <a:ext cx="4432320" cy="3659040"/>
          </a:xfrm>
          <a:prstGeom prst="rect">
            <a:avLst/>
          </a:prstGeom>
          <a:ln w="0">
            <a:noFill/>
          </a:ln>
        </p:spPr>
      </p:pic>
      <p:sp>
        <p:nvSpPr>
          <p:cNvPr id="553" name="Content Placeholder 10"/>
          <p:cNvSpPr/>
          <p:nvPr/>
        </p:nvSpPr>
        <p:spPr>
          <a:xfrm>
            <a:off x="514440" y="1542960"/>
            <a:ext cx="35240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 resources in the Resource Nam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Done in the Specify Resources pane when 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Individual People Resourc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People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6" name="Rounded Rectangle 9"/>
          <p:cNvSpPr/>
          <p:nvPr/>
        </p:nvSpPr>
        <p:spPr>
          <a:xfrm>
            <a:off x="2057400" y="4343400"/>
            <a:ext cx="64771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the maximum units for the new resource in the Max. Units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le 6"/>
          <p:cNvSpPr/>
          <p:nvPr/>
        </p:nvSpPr>
        <p:spPr>
          <a:xfrm>
            <a:off x="838080" y="160020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7"/>
          <p:cNvSpPr/>
          <p:nvPr/>
        </p:nvSpPr>
        <p:spPr>
          <a:xfrm>
            <a:off x="1219320" y="2438280"/>
            <a:ext cx="38862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Resour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ounded Rectangle 8"/>
          <p:cNvSpPr/>
          <p:nvPr/>
        </p:nvSpPr>
        <p:spPr>
          <a:xfrm>
            <a:off x="1676520" y="3352680"/>
            <a:ext cx="6476760" cy="8384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the new group resource into the Resource Nam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Down Arrow 10"/>
          <p:cNvSpPr/>
          <p:nvPr/>
        </p:nvSpPr>
        <p:spPr>
          <a:xfrm>
            <a:off x="1219320" y="21337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own Arrow 14"/>
          <p:cNvSpPr/>
          <p:nvPr/>
        </p:nvSpPr>
        <p:spPr>
          <a:xfrm>
            <a:off x="1752480" y="3048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own Arrow 15"/>
          <p:cNvSpPr/>
          <p:nvPr/>
        </p:nvSpPr>
        <p:spPr>
          <a:xfrm>
            <a:off x="2286000" y="41148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a Resource that Represents Multipl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stablishing People Resourc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rcRect l="0" t="0" r="18750" b="46233"/>
          <a:stretch/>
        </p:blipFill>
        <p:spPr>
          <a:xfrm>
            <a:off x="3505320" y="1752480"/>
            <a:ext cx="5116320" cy="2060640"/>
          </a:xfrm>
          <a:prstGeom prst="rect">
            <a:avLst/>
          </a:prstGeom>
          <a:ln w="0">
            <a:noFill/>
          </a:ln>
        </p:spPr>
      </p:pic>
      <p:sp>
        <p:nvSpPr>
          <p:cNvPr id="566" name="Content Placeholder 10"/>
          <p:cNvSpPr/>
          <p:nvPr/>
        </p:nvSpPr>
        <p:spPr>
          <a:xfrm>
            <a:off x="514440" y="1542960"/>
            <a:ext cx="2457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roup resource represents a group of people doing the sam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Callout 1 (Accent Bar) 6"/>
          <p:cNvSpPr/>
          <p:nvPr/>
        </p:nvSpPr>
        <p:spPr>
          <a:xfrm>
            <a:off x="1447920" y="4572000"/>
            <a:ext cx="22860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410" y="-45450"/>
                </a:moveTo>
                <a:lnTo>
                  <a:pt x="22320" y="3240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und Technician” is the new group re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Callout 1 (Accent Bar) 6"/>
          <p:cNvSpPr/>
          <p:nvPr/>
        </p:nvSpPr>
        <p:spPr>
          <a:xfrm>
            <a:off x="4114800" y="4114800"/>
            <a:ext cx="2286000" cy="99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570" y="-24438"/>
                </a:moveTo>
                <a:lnTo>
                  <a:pt x="22320" y="2492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x. Units indicates the number of individual resources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 fontScale="7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a Resource that Represents Multiple Peop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5-31T20:24:40Z</dcterms:modified>
  <cp:revision>184</cp:revision>
  <dc:subject/>
  <dc:title>Establishing Resources</dc:title>
</cp:coreProperties>
</file>