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B6CA-1042-4B6C-BB6B-B72D4C859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334D-1DF4-4990-847F-6C028C700D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CA17E-DDCF-47AF-9CF5-10D92B4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D9E4D-65A9-4B40-BA44-AF0CE25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26288-EFD8-4C03-ADA3-AD120182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10F4-85B0-4C8E-8E04-A635FA47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330EF-C52D-46EB-84CF-097543C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B095-7C32-49E9-98AE-EA0E919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19F18-1C34-497C-9229-A301A5C6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1D7B1-C830-4C03-9C13-3CBD40EB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5134-3362-402E-A6DC-A120EFC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6CDC-0AE6-4CA0-A843-8AF09077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2749-9588-4A2E-959D-9B5BAC173E1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C4AA-E65C-4258-B99A-4C641EA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804E-51CF-4107-BBBE-67AF806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C84C-9A37-4B7B-A9B2-3528E35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3FBF-8950-4997-9E8D-30D2AB0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A3597-B123-460B-A095-F2A1F42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557A-B858-4FCC-B301-0B707C5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78F3-0497-4B74-9C16-9C5045C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48BA-9867-45E5-9549-B560DFB0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8F34-72A6-452C-8C45-A96C4201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C5795-190C-4D3F-9BC7-FCE17353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BFF0-3E90-45B1-A1DF-5BC29B61BE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5BA55-B3EB-4528-B068-3A31394F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8CDDB-E639-43BB-BE19-90D358D3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AE5C5-2A0A-4DC7-B9E0-14E5104C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CAC4-83CF-4A71-8A2D-78B52387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7955E-87D0-4550-9291-4A26BC10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3A540-1574-4E0B-8CDB-F1DBEF67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88338-C599-49C5-9C32-BA7866C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7F5B4-E2D0-49B9-8CDB-BD3C4DA1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95626-A927-44C4-9918-B33667F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C27F6-BF7B-48E5-A3F1-92324F27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45C8B-588A-49A0-BCD4-E7E5D8DA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2B7AA-628B-4670-8985-0058202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F3233-2FAF-4CE9-BF8E-2D0F1CBC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6099-4356-4D89-9C97-1D6CC0ED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BC5B9-5939-4BBC-92D1-C765ADC6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E0FD2-0BC6-4187-9CB3-5E729AE2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9BEE-643F-44B0-85E6-D4D14E3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17FF-6DFF-439A-AC0F-09D1B58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7D8FA-344F-4AE5-A237-C386361F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1448E-D6FD-4533-981F-017DF24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CC9F-B1C9-4907-83C2-AFBE22F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9BEC-764E-445A-9005-B091FA4B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AF56-AB62-40FA-AFA3-028A7CB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2800E-1DAC-4990-AFAD-16C1C47A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8FFDE-E04B-484B-867B-DED96CA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1AABB-68C6-480A-BAE4-3E96A3DF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CF27E-402F-4F75-9D53-1965EE3E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1266E-26A4-40B9-BF9D-B0FFACBC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1A790-D2AC-46B1-806D-ECC5427D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BF6F3-B503-4707-9E57-B2708FA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EE49-9099-4FF3-A9E5-7E5F2B8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3E169-D7AF-4BB6-AA78-AF4315E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D714-CF07-483E-9A85-D6EEC3E06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A8A8-66A0-44ED-9DC3-C1B71C4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FBC3D-21A3-4338-926B-BC22F97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E41F7-7B41-4AD1-8890-ED2C4CD9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912A-E922-4C22-AB07-F23AC965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A58C6-7B9D-4BCF-AEB7-17CD715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83880-85B6-4C62-ACF4-167E856D73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29307-249D-42AA-91F2-8507D59884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52655-B39E-44C4-A7C6-6698FC6F9C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043D-F5F2-401C-A3EB-AFF5E2E392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21BCE-0C29-42A6-BBF7-30A3B8C38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3B12-4A4D-435D-877D-D2E20DDC2E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3110-6EEF-4C6E-8AB9-54ABBB204F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D1002-FE7C-4EB1-AD1E-CA247AED3A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BEFDC-818A-49C0-AB5C-3E608EB1B8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65BD2-B7FD-4747-8FBC-40404AF767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1081-1109-494B-9FB9-7E28A861C1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76270-A6C1-4314-B40E-3CC11EF666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90D04-3110-4C36-9AC0-B291346D0B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C4931-4392-4438-913A-29CDCDC5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73026-4663-49F2-AD7B-5AA325D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D3D19-E291-43E7-BFDA-B5916061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CDAA-CEDE-47C6-A799-7DE80D232A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127A1-35ED-433F-B97E-FDF45FEB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12F3F-5AE8-425C-BB10-E8214A89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E9BC4-7B3D-4230-91FA-D0D79F0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5D074-DE10-4165-BA4C-D0DCA43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5F41A-C998-4463-86FF-7C474599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756D7-C4F0-4B9E-B737-2590E24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1CC15-AE95-4E05-B025-2453C54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2A817-0B98-4BB3-8455-CEAA224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2DB19-79BB-4555-AB4D-350896FA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92DB-55DD-4577-9CB7-3136DE41A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A6E1-85E5-43C4-810A-4A6DA6C479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5987-D03F-4835-B9E7-8D999A13DC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1201-897D-46A5-A7E2-9764BE70E9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3000-C9E7-4AD0-8C9D-620945679F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A79D-F459-444D-A4E5-A0DA0821CF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C65E-D863-4726-A1E6-ADFA541088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E788-C748-4D6A-957F-F626BE0A42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F905-426A-4288-BD38-CD580232E5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12EA-2D03-4810-9A70-A911BAF02D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9979-5491-462C-85CD-F075CE0E92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CD8A-095F-43D1-9588-A1D092C88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2DE8-3626-4D99-A2AD-A83653DFF3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36AA-6852-46F7-B103-C9C7433545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716F-BA6B-42F1-A03F-17E473C6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4014-DED1-47B3-B2A8-8C07261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61BD-4BD9-4AA4-BB12-20E1270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8525-AD61-4264-A469-C4B933C0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B855-4C80-444D-8E92-70753CF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0897-B9D8-4BAC-8B22-CDDD7283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D692-1907-42C2-9D93-3BA3D18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96AE-3C39-499E-8D0B-B95B17F0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C457-E6E1-4E4C-8FB1-A04F70D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F54E-2455-4611-B40F-DF71E6DC00D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36C0-3561-489B-949E-5466550B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0256-681F-4F7F-9DED-C7252C1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F70F-2DEC-4640-BA53-A08E9AFF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CA7D-1991-4A93-A013-DC4DCDF4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7573-2339-4463-AA90-99CF570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326A0-F8C1-47BD-BF29-D9EC1AC2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C1D3-5443-4FA4-B3AB-3256BF0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EF44-EE9F-4166-8FDA-9E9B8E1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5043-214B-4667-B43D-AB183346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6066-D4D0-4E40-850A-7E0286AC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3059-3102-46DE-A8E9-66E6B7B96B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F17D-3BF5-4268-88DA-E9753BC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06D7-CB7C-427B-A86A-C17FAEE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0280-5003-4805-A1D5-E1DCD1D0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C75D-BF4A-470B-ACBF-FF5EDCC6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8E61-3A89-4E29-8E76-C288AD19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1C75-D7C5-41E5-AD57-7A8BE7BC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7FC5-EFC8-477D-86C7-38FE1CF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C8AE-66DA-4DCA-9841-BF544A56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75A62-1715-4131-B263-983162A6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DD7D-BBB8-4CD5-A270-44B5093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5931-4EF4-4164-8D2B-8C07508819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D5C8-1B7A-4C53-8C7C-8E2741E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1764-624B-4BF2-8BC0-51C03BE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A75EB-94DE-4EAF-A844-7AF5E4A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3376-CB7C-48E0-9E17-505C1F8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825C-EC6D-4F2B-9A8F-489BEFD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BC4B-FBE1-4E45-87AE-4C35DB50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3F52-7CE1-431F-B565-E85AC05D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553A-4590-49DA-AB4C-B703C7AB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FEF63-06FF-4024-953A-EE3B3012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B1F9-97AB-46C1-9D06-1BE1F45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EB3-293E-49F6-903B-61C0DC1FED0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2FE-2A45-4026-B347-5F16A97AD6C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34A-74CB-46D7-AC93-A7C4D3358F1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D63D-F04B-4461-9C19-AEDDD01F951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47EB-5A4F-4560-B089-FC6DE954495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4EE-5576-431E-9308-F8534912429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8471-732D-48E6-9CD9-EFEE41097BF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33C-0544-4627-9D33-E4831E392E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C2C2-B177-4B06-9BCB-E9584B892E5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41A2-E006-44EE-9D4A-D7A39797DC5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A9F-BB4B-40AD-89FC-2A965EA82A8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BDC-0CCF-4FC0-844B-FCDF7DD11DB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ff"/>
                </a:solidFill>
                <a:latin typeface="Verdana"/>
              </a:rPr>
              <a:t>Project Information: Sorting, Grouping, and Filtering</a:t>
            </a:r>
            <a:endParaRPr b="1" lang="en-US" sz="41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5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6" name="Rounded Rectangle 6"/>
          <p:cNvSpPr/>
          <p:nvPr/>
        </p:nvSpPr>
        <p:spPr>
          <a:xfrm>
            <a:off x="1523880" y="3809880"/>
            <a:ext cx="6172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ame section, click Desc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6"/>
          <p:cNvSpPr/>
          <p:nvPr/>
        </p:nvSpPr>
        <p:spPr>
          <a:xfrm>
            <a:off x="533520" y="1600200"/>
            <a:ext cx="586728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ort by section, selec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ounded Rectangle 7"/>
          <p:cNvSpPr/>
          <p:nvPr/>
        </p:nvSpPr>
        <p:spPr>
          <a:xfrm>
            <a:off x="838080" y="2362320"/>
            <a:ext cx="603576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ame section, click Asc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le 8"/>
          <p:cNvSpPr/>
          <p:nvPr/>
        </p:nvSpPr>
        <p:spPr>
          <a:xfrm>
            <a:off x="1143000" y="3124080"/>
            <a:ext cx="57150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Then by section, selec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Down Arrow 10"/>
          <p:cNvSpPr/>
          <p:nvPr/>
        </p:nvSpPr>
        <p:spPr>
          <a:xfrm>
            <a:off x="11430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own Arrow 14"/>
          <p:cNvSpPr/>
          <p:nvPr/>
        </p:nvSpPr>
        <p:spPr>
          <a:xfrm>
            <a:off x="19810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Down Arrow 14"/>
          <p:cNvSpPr/>
          <p:nvPr/>
        </p:nvSpPr>
        <p:spPr>
          <a:xfrm>
            <a:off x="2590920" y="3581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6"/>
          <p:cNvSpPr/>
          <p:nvPr/>
        </p:nvSpPr>
        <p:spPr>
          <a:xfrm>
            <a:off x="1905120" y="4495680"/>
            <a:ext cx="624816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Permanently renumber resources is NOT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own Arrow 14"/>
          <p:cNvSpPr/>
          <p:nvPr/>
        </p:nvSpPr>
        <p:spPr>
          <a:xfrm>
            <a:off x="304812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3962160" cy="26290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8" name="Line Callout 1 (Accent Bar) 13"/>
          <p:cNvSpPr/>
          <p:nvPr/>
        </p:nvSpPr>
        <p:spPr>
          <a:xfrm>
            <a:off x="990720" y="198108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2650" y="13371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rt dialog box with two-level sort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38280" y="28195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Callout 1 (Accent Bar) 13"/>
          <p:cNvSpPr/>
          <p:nvPr/>
        </p:nvSpPr>
        <p:spPr>
          <a:xfrm>
            <a:off x="990720" y="380988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2650" y="10379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manently renumber resources is turned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33523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ource Sheet view is sorted to display resources sorted first by Group (Equipment, Talent) and then by Cost within each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ounded Rectangle 6"/>
          <p:cNvSpPr/>
          <p:nvPr/>
        </p:nvSpPr>
        <p:spPr>
          <a:xfrm>
            <a:off x="3352680" y="19051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rcRect l="0" t="0" r="18732" b="0"/>
          <a:stretch/>
        </p:blipFill>
        <p:spPr>
          <a:xfrm>
            <a:off x="2133720" y="1676520"/>
            <a:ext cx="3976560" cy="3687480"/>
          </a:xfrm>
          <a:prstGeom prst="rect">
            <a:avLst/>
          </a:prstGeom>
          <a:ln w="0">
            <a:noFill/>
          </a:ln>
        </p:spPr>
      </p:pic>
      <p:sp>
        <p:nvSpPr>
          <p:cNvPr id="608" name="Line Callout 1 (Accent Bar) 13"/>
          <p:cNvSpPr/>
          <p:nvPr/>
        </p:nvSpPr>
        <p:spPr>
          <a:xfrm>
            <a:off x="609480" y="1905120"/>
            <a:ext cx="106704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2264" y="-5032"/>
                </a:moveTo>
                <a:lnTo>
                  <a:pt x="23143" y="2945"/>
                </a:lnTo>
              </a:path>
              <a:path w="21600" h="21600">
                <a:moveTo>
                  <a:pt x="23143" y="0"/>
                </a:moveTo>
                <a:lnTo>
                  <a:pt x="23143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rted first by Group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Callout 1 (Accent Bar) 13"/>
          <p:cNvSpPr/>
          <p:nvPr/>
        </p:nvSpPr>
        <p:spPr>
          <a:xfrm>
            <a:off x="7086600" y="2362320"/>
            <a:ext cx="12952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747" y="-12090"/>
                </a:moveTo>
                <a:lnTo>
                  <a:pt x="-1271" y="2160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then by Cost in descending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2" name="Content Placeholder 10"/>
          <p:cNvSpPr/>
          <p:nvPr/>
        </p:nvSpPr>
        <p:spPr>
          <a:xfrm>
            <a:off x="1295280" y="3962520"/>
            <a:ext cx="72392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is restored to the origin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le 6"/>
          <p:cNvSpPr/>
          <p:nvPr/>
        </p:nvSpPr>
        <p:spPr>
          <a:xfrm>
            <a:off x="2514600" y="17524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le 6"/>
          <p:cNvSpPr/>
          <p:nvPr/>
        </p:nvSpPr>
        <p:spPr>
          <a:xfrm>
            <a:off x="3581280" y="2666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own Arrow 14"/>
          <p:cNvSpPr/>
          <p:nvPr/>
        </p:nvSpPr>
        <p:spPr>
          <a:xfrm>
            <a:off x="365760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8" name="Content Placeholder 10"/>
          <p:cNvSpPr/>
          <p:nvPr/>
        </p:nvSpPr>
        <p:spPr>
          <a:xfrm>
            <a:off x="51444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y of ordering task or resource information in a view by the criteria you spe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ort using predefin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create you own sort order with up to thre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 for one instance, sorting does not change the actual data of your projec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ne instance is when you select to reorder resource or task IDs after sor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visual indicator that a view has been sorted other than the order in which the rows of data app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not save custom sort set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4" name="Content Placeholder 6"/>
          <p:cNvSpPr/>
          <p:nvPr/>
        </p:nvSpPr>
        <p:spPr>
          <a:xfrm>
            <a:off x="533520" y="152388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Level Undo is new to Project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you to undo sets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do intended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verse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75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ables you to experiment with different scenarios without causing permanent undesired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75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n more useful when used in combination with Visual Change Highligh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3280" y="538200"/>
            <a:ext cx="825984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Rounded Rectangle 6"/>
          <p:cNvSpPr/>
          <p:nvPr/>
        </p:nvSpPr>
        <p:spPr>
          <a:xfrm>
            <a:off x="822240" y="2133720"/>
            <a:ext cx="367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1219320" y="3048120"/>
            <a:ext cx="4740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Group by: No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own Arrow 10"/>
          <p:cNvSpPr/>
          <p:nvPr/>
        </p:nvSpPr>
        <p:spPr>
          <a:xfrm>
            <a:off x="1432080" y="2743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ed Rectangle 7"/>
          <p:cNvSpPr/>
          <p:nvPr/>
        </p:nvSpPr>
        <p:spPr>
          <a:xfrm>
            <a:off x="2041560" y="396252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own Arrow 10"/>
          <p:cNvSpPr/>
          <p:nvPr/>
        </p:nvSpPr>
        <p:spPr>
          <a:xfrm>
            <a:off x="2041560" y="3657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rcRect l="0" t="0" r="17561" b="0"/>
          <a:stretch/>
        </p:blipFill>
        <p:spPr>
          <a:xfrm>
            <a:off x="4267080" y="1676520"/>
            <a:ext cx="3940200" cy="36018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5" name="Line Callout 1 (Accent Bar) 13"/>
          <p:cNvSpPr/>
          <p:nvPr/>
        </p:nvSpPr>
        <p:spPr>
          <a:xfrm>
            <a:off x="1066680" y="2057400"/>
            <a:ext cx="2210040" cy="49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972" y="4474"/>
                </a:moveTo>
                <a:lnTo>
                  <a:pt x="22345" y="5033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ummary data rows shaded y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15825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rt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rt data in a resource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data in a resource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457200" y="3110040"/>
          <a:ext cx="8229600" cy="6397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te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nd apply a filter in a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custom fi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ounded Rectangle 6"/>
          <p:cNvSpPr/>
          <p:nvPr/>
        </p:nvSpPr>
        <p:spPr>
          <a:xfrm>
            <a:off x="822240" y="1752480"/>
            <a:ext cx="367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ed Rectangle 7"/>
          <p:cNvSpPr/>
          <p:nvPr/>
        </p:nvSpPr>
        <p:spPr>
          <a:xfrm>
            <a:off x="1219320" y="2666880"/>
            <a:ext cx="5790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Group by: Resour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Down Arrow 10"/>
          <p:cNvSpPr/>
          <p:nvPr/>
        </p:nvSpPr>
        <p:spPr>
          <a:xfrm>
            <a:off x="143208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ounded Rectangle 7"/>
          <p:cNvSpPr/>
          <p:nvPr/>
        </p:nvSpPr>
        <p:spPr>
          <a:xfrm>
            <a:off x="2041560" y="358128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own Arrow 10"/>
          <p:cNvSpPr/>
          <p:nvPr/>
        </p:nvSpPr>
        <p:spPr>
          <a:xfrm>
            <a:off x="204156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7"/>
          <p:cNvSpPr/>
          <p:nvPr/>
        </p:nvSpPr>
        <p:spPr>
          <a:xfrm>
            <a:off x="2803680" y="449568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Resour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own Arrow 10"/>
          <p:cNvSpPr/>
          <p:nvPr/>
        </p:nvSpPr>
        <p:spPr>
          <a:xfrm>
            <a:off x="2803680" y="4191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9" name="Rounded Rectangle 6"/>
          <p:cNvSpPr/>
          <p:nvPr/>
        </p:nvSpPr>
        <p:spPr>
          <a:xfrm>
            <a:off x="822240" y="1752480"/>
            <a:ext cx="20732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ounded Rectangle 7"/>
          <p:cNvSpPr/>
          <p:nvPr/>
        </p:nvSpPr>
        <p:spPr>
          <a:xfrm>
            <a:off x="1219320" y="266688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Group by: Resour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own Arrow 10"/>
          <p:cNvSpPr/>
          <p:nvPr/>
        </p:nvSpPr>
        <p:spPr>
          <a:xfrm>
            <a:off x="143208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ounded Rectangle 7"/>
          <p:cNvSpPr/>
          <p:nvPr/>
        </p:nvSpPr>
        <p:spPr>
          <a:xfrm>
            <a:off x="2041560" y="358128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Down Arrow 10"/>
          <p:cNvSpPr/>
          <p:nvPr/>
        </p:nvSpPr>
        <p:spPr>
          <a:xfrm>
            <a:off x="204156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ounded Rectangle 7"/>
          <p:cNvSpPr/>
          <p:nvPr/>
        </p:nvSpPr>
        <p:spPr>
          <a:xfrm>
            <a:off x="2803680" y="449568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Resourc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own Arrow 10"/>
          <p:cNvSpPr/>
          <p:nvPr/>
        </p:nvSpPr>
        <p:spPr>
          <a:xfrm>
            <a:off x="2803680" y="4191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4752720" cy="3146400"/>
          </a:xfrm>
          <a:prstGeom prst="rect">
            <a:avLst/>
          </a:prstGeom>
          <a:ln w="0">
            <a:noFill/>
          </a:ln>
        </p:spPr>
      </p:pic>
      <p:sp>
        <p:nvSpPr>
          <p:cNvPr id="659" name="Line Callout 1 (Accent Bar) 8"/>
          <p:cNvSpPr/>
          <p:nvPr/>
        </p:nvSpPr>
        <p:spPr>
          <a:xfrm>
            <a:off x="838080" y="1676520"/>
            <a:ext cx="19051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548" y="14050"/>
                </a:moveTo>
                <a:lnTo>
                  <a:pt x="22464" y="36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 the Names box, key “Resource Groups by Co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Callout 1 (Accent Bar) 8"/>
          <p:cNvSpPr/>
          <p:nvPr/>
        </p:nvSpPr>
        <p:spPr>
          <a:xfrm>
            <a:off x="914400" y="2666880"/>
            <a:ext cx="19051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2156" y="1250"/>
                </a:moveTo>
                <a:lnTo>
                  <a:pt x="22464" y="360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this field and then select or key “Co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Callout 1 (Accent Bar) 8"/>
          <p:cNvSpPr/>
          <p:nvPr/>
        </p:nvSpPr>
        <p:spPr>
          <a:xfrm>
            <a:off x="914400" y="3657600"/>
            <a:ext cx="19051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4988" y="-51030"/>
                </a:moveTo>
                <a:lnTo>
                  <a:pt x="22464" y="6480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Desc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Callout 1 (Accent Bar) 8"/>
          <p:cNvSpPr/>
          <p:nvPr/>
        </p:nvSpPr>
        <p:spPr>
          <a:xfrm>
            <a:off x="914400" y="4495680"/>
            <a:ext cx="190512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092" y="-12793"/>
                </a:moveTo>
                <a:lnTo>
                  <a:pt x="22464" y="4629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his button 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03280" y="1542960"/>
            <a:ext cx="8183520" cy="743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Define Group Intervals dialog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Rounded Rectangle 6"/>
          <p:cNvSpPr/>
          <p:nvPr/>
        </p:nvSpPr>
        <p:spPr>
          <a:xfrm>
            <a:off x="838080" y="2133720"/>
            <a:ext cx="6019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Group on box, selec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ed Rectangle 7"/>
          <p:cNvSpPr/>
          <p:nvPr/>
        </p:nvSpPr>
        <p:spPr>
          <a:xfrm>
            <a:off x="1235160" y="3048120"/>
            <a:ext cx="59277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Group interval box, key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own Arrow 10"/>
          <p:cNvSpPr/>
          <p:nvPr/>
        </p:nvSpPr>
        <p:spPr>
          <a:xfrm>
            <a:off x="1447920" y="2743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7"/>
          <p:cNvSpPr/>
          <p:nvPr/>
        </p:nvSpPr>
        <p:spPr>
          <a:xfrm>
            <a:off x="1905120" y="3886200"/>
            <a:ext cx="2361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own Arrow 10"/>
          <p:cNvSpPr/>
          <p:nvPr/>
        </p:nvSpPr>
        <p:spPr>
          <a:xfrm>
            <a:off x="2057400" y="36576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3" name="Rounded Rectangle 7"/>
          <p:cNvSpPr/>
          <p:nvPr/>
        </p:nvSpPr>
        <p:spPr>
          <a:xfrm>
            <a:off x="914400" y="16002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 in the More Group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7"/>
          <p:cNvSpPr/>
          <p:nvPr/>
        </p:nvSpPr>
        <p:spPr>
          <a:xfrm>
            <a:off x="2286000" y="3733920"/>
            <a:ext cx="54100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Best Fi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7"/>
          <p:cNvSpPr/>
          <p:nvPr/>
        </p:nvSpPr>
        <p:spPr>
          <a:xfrm>
            <a:off x="1752480" y="2666880"/>
            <a:ext cx="54104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uble-click the Resource Name column h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own Arrow 10"/>
          <p:cNvSpPr/>
          <p:nvPr/>
        </p:nvSpPr>
        <p:spPr>
          <a:xfrm>
            <a:off x="1828800" y="2438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own Arrow 10"/>
          <p:cNvSpPr/>
          <p:nvPr/>
        </p:nvSpPr>
        <p:spPr>
          <a:xfrm>
            <a:off x="2514600" y="3505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781520" cy="36036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1" name="Line Callout 1 (Accent Bar) 8"/>
          <p:cNvSpPr/>
          <p:nvPr/>
        </p:nvSpPr>
        <p:spPr>
          <a:xfrm>
            <a:off x="762120" y="2895480"/>
            <a:ext cx="21333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082" y="-29550"/>
                </a:moveTo>
                <a:lnTo>
                  <a:pt x="22371" y="36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then by cost at $500 inc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Callout 1 (Accent Bar) 8"/>
          <p:cNvSpPr/>
          <p:nvPr/>
        </p:nvSpPr>
        <p:spPr>
          <a:xfrm>
            <a:off x="762120" y="1828800"/>
            <a:ext cx="21333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989" y="50"/>
                </a:moveTo>
                <a:lnTo>
                  <a:pt x="22371" y="36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ata grouped first by resourc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5" name="Rounded Rectangle 6"/>
          <p:cNvSpPr/>
          <p:nvPr/>
        </p:nvSpPr>
        <p:spPr>
          <a:xfrm>
            <a:off x="1584360" y="1676520"/>
            <a:ext cx="367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ounded Rectangle 7"/>
          <p:cNvSpPr/>
          <p:nvPr/>
        </p:nvSpPr>
        <p:spPr>
          <a:xfrm>
            <a:off x="1981080" y="25146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Group by: Resource Groups b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own Arrow 10"/>
          <p:cNvSpPr/>
          <p:nvPr/>
        </p:nvSpPr>
        <p:spPr>
          <a:xfrm>
            <a:off x="2193840" y="2286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ounded Rectangle 7"/>
          <p:cNvSpPr/>
          <p:nvPr/>
        </p:nvSpPr>
        <p:spPr>
          <a:xfrm>
            <a:off x="2803680" y="3657600"/>
            <a:ext cx="45115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o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Down Arrow 10"/>
          <p:cNvSpPr/>
          <p:nvPr/>
        </p:nvSpPr>
        <p:spPr>
          <a:xfrm>
            <a:off x="297180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Group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14080" y="1542960"/>
            <a:ext cx="809604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y to reorder task or resource information in a table and display summary values for each group according to selected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does not change the structure of the projec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use predefined groups or create your 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ounded Rectangle 6"/>
          <p:cNvSpPr/>
          <p:nvPr/>
        </p:nvSpPr>
        <p:spPr>
          <a:xfrm>
            <a:off x="914400" y="1676520"/>
            <a:ext cx="2301840" cy="4572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ounded Rectangle 7"/>
          <p:cNvSpPr/>
          <p:nvPr/>
        </p:nvSpPr>
        <p:spPr>
          <a:xfrm>
            <a:off x="1311120" y="2286000"/>
            <a:ext cx="32004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wn Arrow 10"/>
          <p:cNvSpPr/>
          <p:nvPr/>
        </p:nvSpPr>
        <p:spPr>
          <a:xfrm>
            <a:off x="1523880" y="20574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ed Rectangle 7"/>
          <p:cNvSpPr/>
          <p:nvPr/>
        </p:nvSpPr>
        <p:spPr>
          <a:xfrm>
            <a:off x="2073240" y="2971800"/>
            <a:ext cx="52419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uto Filter button on the Formatting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n Arrow 10"/>
          <p:cNvSpPr/>
          <p:nvPr/>
        </p:nvSpPr>
        <p:spPr>
          <a:xfrm>
            <a:off x="2301840" y="274320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ounded Rectangle 7"/>
          <p:cNvSpPr/>
          <p:nvPr/>
        </p:nvSpPr>
        <p:spPr>
          <a:xfrm>
            <a:off x="2301840" y="4038480"/>
            <a:ext cx="6232680" cy="12193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just the Gantt Chart width so that the Task Name, Duration, and Start columns ar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Down Arrow 10"/>
          <p:cNvSpPr/>
          <p:nvPr/>
        </p:nvSpPr>
        <p:spPr>
          <a:xfrm>
            <a:off x="253044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781520" cy="36036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Content Placeholder 9"/>
          <p:cNvSpPr/>
          <p:nvPr/>
        </p:nvSpPr>
        <p:spPr>
          <a:xfrm>
            <a:off x="533520" y="2819520"/>
            <a:ext cx="320040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down arrow in the Task Name column heading and then click (Custo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Callout 1 (Accent Bar) 8"/>
          <p:cNvSpPr/>
          <p:nvPr/>
        </p:nvSpPr>
        <p:spPr>
          <a:xfrm>
            <a:off x="1295280" y="1828800"/>
            <a:ext cx="17528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839" y="-2325"/>
                </a:moveTo>
                <a:lnTo>
                  <a:pt x="22539" y="5400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utoFilter ar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2629080"/>
          </a:xfrm>
          <a:prstGeom prst="rect">
            <a:avLst/>
          </a:prstGeom>
          <a:ln w="0">
            <a:noFill/>
          </a:ln>
        </p:spPr>
      </p:pic>
      <p:sp>
        <p:nvSpPr>
          <p:cNvPr id="538" name="Line Callout 1 (Accent Bar) 6"/>
          <p:cNvSpPr/>
          <p:nvPr/>
        </p:nvSpPr>
        <p:spPr>
          <a:xfrm>
            <a:off x="685800" y="1676520"/>
            <a:ext cx="1295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221" y="21263"/>
                </a:moveTo>
                <a:lnTo>
                  <a:pt x="22871" y="4000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imary 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Callout 1 (Accent Bar) 6"/>
          <p:cNvSpPr/>
          <p:nvPr/>
        </p:nvSpPr>
        <p:spPr>
          <a:xfrm>
            <a:off x="685800" y="2666880"/>
            <a:ext cx="129528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644" y="9386"/>
                </a:moveTo>
                <a:lnTo>
                  <a:pt x="22871" y="4629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ary 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Callout 1 (Accent Bar) 6"/>
          <p:cNvSpPr/>
          <p:nvPr/>
        </p:nvSpPr>
        <p:spPr>
          <a:xfrm>
            <a:off x="685800" y="3581280"/>
            <a:ext cx="129528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432" y="-3986"/>
                </a:moveTo>
                <a:lnTo>
                  <a:pt x="22871" y="4629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rtiary 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Callout 1 (Accent Bar) 6"/>
          <p:cNvSpPr/>
          <p:nvPr/>
        </p:nvSpPr>
        <p:spPr>
          <a:xfrm>
            <a:off x="7010280" y="373392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25" y="-44700"/>
                </a:moveTo>
                <a:lnTo>
                  <a:pt x="-1200" y="360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rt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Callout 1 (Accent Bar) 6"/>
          <p:cNvSpPr/>
          <p:nvPr/>
        </p:nvSpPr>
        <p:spPr>
          <a:xfrm>
            <a:off x="762120" y="4419720"/>
            <a:ext cx="13716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75" y="-6225"/>
                </a:moveTo>
                <a:lnTo>
                  <a:pt x="22800" y="27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manently renumber resources check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Callout 1 (Accent Bar) 6"/>
          <p:cNvSpPr/>
          <p:nvPr/>
        </p:nvSpPr>
        <p:spPr>
          <a:xfrm>
            <a:off x="6934320" y="1752480"/>
            <a:ext cx="137160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025" y="11580"/>
                </a:moveTo>
                <a:lnTo>
                  <a:pt x="-1200" y="216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cending and descending buttons for each s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Placeholder 3"/>
          <p:cNvSpPr/>
          <p:nvPr/>
        </p:nvSpPr>
        <p:spPr>
          <a:xfrm>
            <a:off x="53352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Sort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115320" cy="1857600"/>
          </a:xfrm>
          <a:prstGeom prst="rect">
            <a:avLst/>
          </a:prstGeom>
          <a:ln w="0">
            <a:noFill/>
          </a:ln>
        </p:spPr>
      </p:pic>
      <p:sp>
        <p:nvSpPr>
          <p:cNvPr id="711" name="Line Callout 1 (Accent Bar) 8"/>
          <p:cNvSpPr/>
          <p:nvPr/>
        </p:nvSpPr>
        <p:spPr>
          <a:xfrm>
            <a:off x="914400" y="1676520"/>
            <a:ext cx="11430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980" y="50805"/>
                </a:moveTo>
                <a:lnTo>
                  <a:pt x="23040" y="3240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“conta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Callout 1 (Accent Bar) 8"/>
          <p:cNvSpPr/>
          <p:nvPr/>
        </p:nvSpPr>
        <p:spPr>
          <a:xfrm>
            <a:off x="5257800" y="1752480"/>
            <a:ext cx="17524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735" y="83475"/>
                </a:moveTo>
                <a:lnTo>
                  <a:pt x="-939" y="5400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“shoo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Callout 1 (Accent Bar) 8"/>
          <p:cNvSpPr/>
          <p:nvPr/>
        </p:nvSpPr>
        <p:spPr>
          <a:xfrm>
            <a:off x="3200400" y="4876920"/>
            <a:ext cx="17524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78" y="-25125"/>
                </a:moveTo>
                <a:lnTo>
                  <a:pt x="22539" y="5400"/>
                </a:lnTo>
              </a:path>
              <a:path w="21600" h="21600">
                <a:moveTo>
                  <a:pt x="22539" y="0"/>
                </a:moveTo>
                <a:lnTo>
                  <a:pt x="225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OK when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rcRect l="0" t="0" r="0" b="62137"/>
          <a:stretch/>
        </p:blipFill>
        <p:spPr>
          <a:xfrm>
            <a:off x="914400" y="3124080"/>
            <a:ext cx="7194600" cy="2149560"/>
          </a:xfrm>
          <a:prstGeom prst="rect">
            <a:avLst/>
          </a:prstGeom>
          <a:ln w="0">
            <a:noFill/>
          </a:ln>
        </p:spPr>
      </p:pic>
      <p:sp>
        <p:nvSpPr>
          <p:cNvPr id="717" name="TextBox 12"/>
          <p:cNvSpPr/>
          <p:nvPr/>
        </p:nvSpPr>
        <p:spPr>
          <a:xfrm>
            <a:off x="5791320" y="1676520"/>
            <a:ext cx="190476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lter shows only tasks that contain the word “shoot,” as well as their summary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Callout 1 (Accent Bar) 7"/>
          <p:cNvSpPr/>
          <p:nvPr/>
        </p:nvSpPr>
        <p:spPr>
          <a:xfrm>
            <a:off x="2819520" y="1752480"/>
            <a:ext cx="12952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79" y="27690"/>
                </a:moveTo>
                <a:lnTo>
                  <a:pt x="-1271" y="2160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iltered column heading appears in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ounded Rectangle 7"/>
          <p:cNvSpPr/>
          <p:nvPr/>
        </p:nvSpPr>
        <p:spPr>
          <a:xfrm>
            <a:off x="1981080" y="1905120"/>
            <a:ext cx="4648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utoFilter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Content Placeholder 9"/>
          <p:cNvSpPr/>
          <p:nvPr/>
        </p:nvSpPr>
        <p:spPr>
          <a:xfrm>
            <a:off x="914400" y="2895480"/>
            <a:ext cx="71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Filter is turned off and all of the tasks  in the project are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Filter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nd Apply a 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Content Placeholder 9"/>
          <p:cNvSpPr/>
          <p:nvPr/>
        </p:nvSpPr>
        <p:spPr>
          <a:xfrm>
            <a:off x="503280" y="1542960"/>
            <a:ext cx="803124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ol that enables you to see in a table only the information that meets selec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ing only changes the data’s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two ways to apply filters to a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defined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Fil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Custom Filter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Fil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ounded Rectangle 7"/>
          <p:cNvSpPr/>
          <p:nvPr/>
        </p:nvSpPr>
        <p:spPr>
          <a:xfrm>
            <a:off x="914400" y="2666880"/>
            <a:ext cx="50292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Filtered for: Al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ounded Rectangle 6"/>
          <p:cNvSpPr/>
          <p:nvPr/>
        </p:nvSpPr>
        <p:spPr>
          <a:xfrm>
            <a:off x="609480" y="1981080"/>
            <a:ext cx="495324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Down Arrow 10"/>
          <p:cNvSpPr/>
          <p:nvPr/>
        </p:nvSpPr>
        <p:spPr>
          <a:xfrm>
            <a:off x="1219320" y="24382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8"/>
          <p:cNvSpPr/>
          <p:nvPr/>
        </p:nvSpPr>
        <p:spPr>
          <a:xfrm>
            <a:off x="1447920" y="3352680"/>
            <a:ext cx="4800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or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own Arrow 14"/>
          <p:cNvSpPr/>
          <p:nvPr/>
        </p:nvSpPr>
        <p:spPr>
          <a:xfrm>
            <a:off x="175248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ounded Rectangle 8"/>
          <p:cNvSpPr/>
          <p:nvPr/>
        </p:nvSpPr>
        <p:spPr>
          <a:xfrm>
            <a:off x="1981080" y="4038480"/>
            <a:ext cx="449604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Down Arrow 14"/>
          <p:cNvSpPr/>
          <p:nvPr/>
        </p:nvSpPr>
        <p:spPr>
          <a:xfrm>
            <a:off x="2133720" y="3809880"/>
            <a:ext cx="457200" cy="292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971960" cy="247680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Custom Filter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Filt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Line Callout 1 (Accent Bar) 7"/>
          <p:cNvSpPr/>
          <p:nvPr/>
        </p:nvSpPr>
        <p:spPr>
          <a:xfrm>
            <a:off x="457200" y="1600200"/>
            <a:ext cx="12952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538" y="42825"/>
                </a:moveTo>
                <a:lnTo>
                  <a:pt x="22871" y="5400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the filt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Callout 1 (Accent Bar) 7"/>
          <p:cNvSpPr/>
          <p:nvPr/>
        </p:nvSpPr>
        <p:spPr>
          <a:xfrm>
            <a:off x="3429000" y="167652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03" y="7942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or select “Nam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Callout 1 (Accent Bar) 7"/>
          <p:cNvSpPr/>
          <p:nvPr/>
        </p:nvSpPr>
        <p:spPr>
          <a:xfrm>
            <a:off x="5943600" y="175248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3" y="7762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or select “conta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Callout 1 (Accent Bar) 7"/>
          <p:cNvSpPr/>
          <p:nvPr/>
        </p:nvSpPr>
        <p:spPr>
          <a:xfrm>
            <a:off x="6400800" y="243828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983" y="4282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“shoo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Callout 1 (Accent Bar) 7"/>
          <p:cNvSpPr/>
          <p:nvPr/>
        </p:nvSpPr>
        <p:spPr>
          <a:xfrm>
            <a:off x="1219320" y="487692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-6037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“An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Callout 1 (Accent Bar) 7"/>
          <p:cNvSpPr/>
          <p:nvPr/>
        </p:nvSpPr>
        <p:spPr>
          <a:xfrm>
            <a:off x="3200400" y="495288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343" y="-6637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or select “Actual Finis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Callout 1 (Accent Bar) 7"/>
          <p:cNvSpPr/>
          <p:nvPr/>
        </p:nvSpPr>
        <p:spPr>
          <a:xfrm>
            <a:off x="5181480" y="4952880"/>
            <a:ext cx="15242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783" y="-66375"/>
                </a:moveTo>
                <a:lnTo>
                  <a:pt x="-1080" y="5400"/>
                </a:lnTo>
              </a:path>
              <a:path w="21600" h="21600">
                <a:moveTo>
                  <a:pt x="-1080" y="0"/>
                </a:moveTo>
                <a:lnTo>
                  <a:pt x="-10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or select “equal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Callout 1 (Accent Bar) 7"/>
          <p:cNvSpPr/>
          <p:nvPr/>
        </p:nvSpPr>
        <p:spPr>
          <a:xfrm>
            <a:off x="7086600" y="4952880"/>
            <a:ext cx="12952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368" y="-68100"/>
                </a:moveTo>
                <a:lnTo>
                  <a:pt x="-1271" y="5400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“N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Custom Filter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Filt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Content Placeholder 9"/>
          <p:cNvSpPr/>
          <p:nvPr/>
        </p:nvSpPr>
        <p:spPr>
          <a:xfrm>
            <a:off x="990720" y="335268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w filter you have created is applied to the 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ounded Rectangle 6"/>
          <p:cNvSpPr/>
          <p:nvPr/>
        </p:nvSpPr>
        <p:spPr>
          <a:xfrm>
            <a:off x="2590920" y="16765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ounded Rectangle 7"/>
          <p:cNvSpPr/>
          <p:nvPr/>
        </p:nvSpPr>
        <p:spPr>
          <a:xfrm>
            <a:off x="3048120" y="2514600"/>
            <a:ext cx="25905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own Arrow 10"/>
          <p:cNvSpPr/>
          <p:nvPr/>
        </p:nvSpPr>
        <p:spPr>
          <a:xfrm>
            <a:off x="320040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Custom Filter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Filter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rcRect l="0" t="0" r="0" b="71464"/>
          <a:stretch/>
        </p:blipFill>
        <p:spPr>
          <a:xfrm>
            <a:off x="609480" y="3505320"/>
            <a:ext cx="7810560" cy="1679400"/>
          </a:xfrm>
          <a:prstGeom prst="rect">
            <a:avLst/>
          </a:prstGeom>
          <a:ln w="0">
            <a:noFill/>
          </a:ln>
        </p:spPr>
      </p:pic>
      <p:sp>
        <p:nvSpPr>
          <p:cNvPr id="755" name="Line Callout 1 (Accent Bar) 7"/>
          <p:cNvSpPr/>
          <p:nvPr/>
        </p:nvSpPr>
        <p:spPr>
          <a:xfrm>
            <a:off x="1905120" y="1600200"/>
            <a:ext cx="1752480" cy="14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193" y="36071"/>
                </a:moveTo>
                <a:lnTo>
                  <a:pt x="-939" y="1705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e the gaps in the task IDs. This is one way to tell that a filter has been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2"/>
          <p:cNvSpPr/>
          <p:nvPr/>
        </p:nvSpPr>
        <p:spPr>
          <a:xfrm>
            <a:off x="5791320" y="1676520"/>
            <a:ext cx="137160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antt Chart view with Unfinished Shoots filter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Custom Filter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Custom Filt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Content Placeholder 9"/>
          <p:cNvSpPr/>
          <p:nvPr/>
        </p:nvSpPr>
        <p:spPr>
          <a:xfrm>
            <a:off x="2743200" y="3886200"/>
            <a:ext cx="487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removes the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6"/>
          <p:cNvSpPr/>
          <p:nvPr/>
        </p:nvSpPr>
        <p:spPr>
          <a:xfrm>
            <a:off x="2057400" y="1676520"/>
            <a:ext cx="2819520" cy="533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7"/>
          <p:cNvSpPr/>
          <p:nvPr/>
        </p:nvSpPr>
        <p:spPr>
          <a:xfrm>
            <a:off x="2362320" y="2362320"/>
            <a:ext cx="373356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Filtered for: Unfinished Sh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own Arrow 10"/>
          <p:cNvSpPr/>
          <p:nvPr/>
        </p:nvSpPr>
        <p:spPr>
          <a:xfrm>
            <a:off x="2666880" y="213372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8"/>
          <p:cNvSpPr/>
          <p:nvPr/>
        </p:nvSpPr>
        <p:spPr>
          <a:xfrm>
            <a:off x="2895480" y="3352680"/>
            <a:ext cx="3657600" cy="5335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l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Down Arrow 14"/>
          <p:cNvSpPr/>
          <p:nvPr/>
        </p:nvSpPr>
        <p:spPr>
          <a:xfrm>
            <a:off x="3200400" y="3137040"/>
            <a:ext cx="457200" cy="291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Rounded Rectangle 6"/>
          <p:cNvSpPr/>
          <p:nvPr/>
        </p:nvSpPr>
        <p:spPr>
          <a:xfrm>
            <a:off x="822240" y="213372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7"/>
          <p:cNvSpPr/>
          <p:nvPr/>
        </p:nvSpPr>
        <p:spPr>
          <a:xfrm>
            <a:off x="1432080" y="3048120"/>
            <a:ext cx="6492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able:Entr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own Arrow 10"/>
          <p:cNvSpPr/>
          <p:nvPr/>
        </p:nvSpPr>
        <p:spPr>
          <a:xfrm>
            <a:off x="1432080" y="2743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4899240" cy="36925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5"/>
          <p:cNvSpPr/>
          <p:nvPr/>
        </p:nvSpPr>
        <p:spPr>
          <a:xfrm>
            <a:off x="838080" y="1905120"/>
            <a:ext cx="1752840" cy="730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Sheet view showing Summary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Callout 1 (Accent Bar) 6"/>
          <p:cNvSpPr/>
          <p:nvPr/>
        </p:nvSpPr>
        <p:spPr>
          <a:xfrm>
            <a:off x="1219320" y="3200400"/>
            <a:ext cx="12952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8491" y="-48700"/>
                </a:moveTo>
                <a:lnTo>
                  <a:pt x="22871" y="3600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per resource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762120" y="175248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7"/>
          <p:cNvSpPr/>
          <p:nvPr/>
        </p:nvSpPr>
        <p:spPr>
          <a:xfrm>
            <a:off x="1355760" y="2557440"/>
            <a:ext cx="2759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own Arrow 10"/>
          <p:cNvSpPr/>
          <p:nvPr/>
        </p:nvSpPr>
        <p:spPr>
          <a:xfrm>
            <a:off x="137160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ounded Rectangle 8"/>
          <p:cNvSpPr/>
          <p:nvPr/>
        </p:nvSpPr>
        <p:spPr>
          <a:xfrm>
            <a:off x="1905120" y="335268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ort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own Arrow 14"/>
          <p:cNvSpPr/>
          <p:nvPr/>
        </p:nvSpPr>
        <p:spPr>
          <a:xfrm>
            <a:off x="190512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4197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rt by dialog box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ounded Rectangle 6"/>
          <p:cNvSpPr/>
          <p:nvPr/>
        </p:nvSpPr>
        <p:spPr>
          <a:xfrm>
            <a:off x="762120" y="1600200"/>
            <a:ext cx="56386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ort by section, selec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7"/>
          <p:cNvSpPr/>
          <p:nvPr/>
        </p:nvSpPr>
        <p:spPr>
          <a:xfrm>
            <a:off x="1355760" y="2405160"/>
            <a:ext cx="63403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he same section, click Desc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0"/>
          <p:cNvSpPr/>
          <p:nvPr/>
        </p:nvSpPr>
        <p:spPr>
          <a:xfrm>
            <a:off x="1371600" y="215892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ounded Rectangle 8"/>
          <p:cNvSpPr/>
          <p:nvPr/>
        </p:nvSpPr>
        <p:spPr>
          <a:xfrm>
            <a:off x="1905120" y="3200400"/>
            <a:ext cx="6248160" cy="12952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that the Permanently renumber resources check box is NOT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4"/>
          <p:cNvSpPr/>
          <p:nvPr/>
        </p:nvSpPr>
        <p:spPr>
          <a:xfrm>
            <a:off x="2209680" y="2959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ounded Rectangle 6"/>
          <p:cNvSpPr/>
          <p:nvPr/>
        </p:nvSpPr>
        <p:spPr>
          <a:xfrm>
            <a:off x="2362320" y="4648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own Arrow 14"/>
          <p:cNvSpPr/>
          <p:nvPr/>
        </p:nvSpPr>
        <p:spPr>
          <a:xfrm>
            <a:off x="2895480" y="4419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rcRect l="0" t="0" r="17561" b="0"/>
          <a:stretch/>
        </p:blipFill>
        <p:spPr>
          <a:xfrm>
            <a:off x="4191120" y="1600200"/>
            <a:ext cx="4039920" cy="369396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838080" y="1600200"/>
            <a:ext cx="1752840" cy="1372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ummary table is sorted from the highest to the lowest value in the cost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Callout 1 (Accent Bar) 6"/>
          <p:cNvSpPr/>
          <p:nvPr/>
        </p:nvSpPr>
        <p:spPr>
          <a:xfrm>
            <a:off x="1371600" y="4038480"/>
            <a:ext cx="13716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0375" y="-33750"/>
                </a:moveTo>
                <a:lnTo>
                  <a:pt x="22800" y="2492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rted by cost in descending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rting Data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8" name="Rounded Rectangle 6"/>
          <p:cNvSpPr/>
          <p:nvPr/>
        </p:nvSpPr>
        <p:spPr>
          <a:xfrm>
            <a:off x="762120" y="175248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ounded Rectangle 7"/>
          <p:cNvSpPr/>
          <p:nvPr/>
        </p:nvSpPr>
        <p:spPr>
          <a:xfrm>
            <a:off x="1355760" y="2557440"/>
            <a:ext cx="27590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int to 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ounded Rectangle 8"/>
          <p:cNvSpPr/>
          <p:nvPr/>
        </p:nvSpPr>
        <p:spPr>
          <a:xfrm>
            <a:off x="1905120" y="335268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ort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0"/>
          <p:cNvSpPr/>
          <p:nvPr/>
        </p:nvSpPr>
        <p:spPr>
          <a:xfrm>
            <a:off x="1371600" y="231156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4"/>
          <p:cNvSpPr/>
          <p:nvPr/>
        </p:nvSpPr>
        <p:spPr>
          <a:xfrm>
            <a:off x="1905120" y="311148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ontent Placeholder 10"/>
          <p:cNvSpPr/>
          <p:nvPr/>
        </p:nvSpPr>
        <p:spPr>
          <a:xfrm>
            <a:off x="1828800" y="4343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rt by dialog box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rt Data in a Resource View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05T20:13:26Z</dcterms:modified>
  <cp:revision>199</cp:revision>
  <dc:subject/>
  <dc:title>Project Basics</dc:title>
</cp:coreProperties>
</file>