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B209B-20D0-460D-8FCE-4605822D1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A41B-0486-4231-9B99-DA5AFF6F690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A9773-77AA-4E39-BE06-C0B73AD5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53C9E-9695-4287-84A5-D277277A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5EB42-69E6-4D17-8F2D-745B9A5C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5BF4D-ED50-4F44-AC13-E59B738A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72939-8E59-4E78-A8A6-BC58C36D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77351-97C0-4200-BAF8-20DA899F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60B98-8356-4C3C-90AA-81928B79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9E8CA-DEC6-4264-9A7C-61E708B9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F4F22-CFB4-459B-A697-05651EFF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9DE8B-1A01-45D6-9A87-497640D0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717BF-32FE-4C53-9A9B-27272710151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DA04C-03C7-4C92-8735-9577B736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7BD12-2388-4946-80C6-43E891CB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51606-CE18-4A1A-8F43-497C2AEC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79518-B732-4088-BAD3-55F5607C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238A6-48B5-4307-BD52-7954397E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94173-D515-4AA1-B344-652C3C59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76163-23EA-46C4-9FC2-18F6C96D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93C48-94F7-49A2-B287-123D7917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CB445-A5C3-46FA-BDA1-0EDF7BAE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40965-862E-458C-9C83-49085E86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53F1-D82E-4AD1-971C-17D8CCCE06D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B9C5D-C68C-4862-BDE2-A903AD4F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0E1F9-642D-4906-978E-0E3860ED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B0A94-0860-4652-BD30-95922FEC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36FA7-35A7-493A-813B-15F4BCF2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084E9-A655-4BAE-A8B1-302983AE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C0352-6C5E-4FCE-8041-3F7E38D4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C5FFE-C193-4DB1-96C3-FA1595B7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2D71F-27E4-4E78-A304-7DE89241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63A6C-CFF0-4B94-B917-CFAF550A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FED71-2E15-4072-8309-AB1EE613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B96ED-672A-46DA-B13D-BE04C94F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0D154-D5D3-40AA-A73B-9D0259D7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D0488-B106-40AA-A28A-E719E603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1D771-ACD5-47BF-80AD-B86E2960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4EB8B-6B79-43AB-ACB2-4C7330B4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3490F-66D0-45D8-8E48-C6672C6C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63704-45E9-4E34-ABE2-1FE2F46C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3FC7A-384A-4469-98F0-EB2CFCD8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C3E48-44D8-443D-B707-C5E005B7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966BC-D3BE-4167-A04A-01079BD1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CB518-147C-4FDC-8D88-5D22FE3E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7809E-ACEB-476E-80FC-6502B427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8BAB1-C7D9-42D7-886F-B9F6E868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0DD4B-055C-4287-B255-ED198408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CED26-06CF-42B5-859B-A65EEC62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2E15A-7834-478B-B7AC-E10EE4C0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1AAF3-4264-42CD-A964-B9C511E9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73D04-1E13-49F4-904A-7B0B9004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30071-2145-4564-86A7-9B284C61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6CABE-711C-4389-B155-04681F44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C7EF9-CF40-46E7-A30D-BD7BF97C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91762-A82E-467D-8EFA-538E60BA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DF074-A09C-467D-AB9D-A3509D8B7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38AA7-B85C-45B9-9645-55364C37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B036C-8674-44DC-9E20-0B73991A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DF3BD-03E6-4C35-AF95-1B22C848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949DF-6446-463B-95DE-C51A35CC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BBEE7-6DFD-4716-94AA-ED4C9B87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1DD89-0D7B-4FB5-BDBB-17090B0A5B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776BD-675A-4F05-82B6-398B9BDDAD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36BB6-9ED7-46F1-868F-86F2CA12FB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04622-05DF-4282-B1AB-B251CB8458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7C27E-D144-4FCC-9191-ED05F22E03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5B385-4896-4FC4-9633-7A7E634600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71A59-9B17-4F54-8171-D773459BE3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1024B-AAED-42E3-B390-2075DAC333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5063D-E8AF-495B-9D35-CB93D3F921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42CAA-EEE0-4A76-9D61-1BCB92414A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1363C-47D8-41C2-8760-03F65BF4D2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88FD8-B936-48F7-9078-5B51185C36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A2AD3-8D00-47FA-BE61-D1ED62587E7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478C57-8719-43C6-9868-1559D4A9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AB688-6E55-4A55-B0E3-E6FB677A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00CB6-87DD-49E4-B7E8-CEBD23E7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63C90-DE51-4B39-84F9-B71514330C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0C9B7E-468B-4C99-93F6-C0C9BEEB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38568-82C3-405E-87B0-31236327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70439-4E52-459F-BE79-6D995BF0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F045E-1D2B-483B-8105-54A32424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EB431-0C2E-41D9-A70E-9E8EF062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E1BCB-6631-4DAC-8DC8-57B0950B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2C98D-68B4-4519-A594-28AE7B8D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D2EA0-C729-4511-AE65-D9C0E554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9FA38-0ED5-4697-B844-6D763C9C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3FA13-FD65-4161-9C69-3F3E13963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F383-C7D7-44A1-8637-B21787B2507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09BEC-22D9-48E2-98E1-6CCACEBE47F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7C8EC-250E-4D2D-9108-B7D2210A62C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8DA9F-F259-40F4-BFCC-0C6799511BF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73AAA-258C-4AB5-879A-207B7341959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B1F13-D69B-4094-94B3-BAF9D3472F2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07726-3229-44D6-AB9C-A4D27E7A538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171DE-AE3F-4002-B2D8-0707D862EF8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9AA7F-DC37-4EA5-8598-CB97BC49B63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1AA30-6AF3-4135-A89B-075B8859DBD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17859-512D-4B26-B5E6-A6B0EE134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69769-7A30-4D70-897C-50E1A833494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27562-E5DF-4F57-A2A4-54B8ED69778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A5AB3-D059-4F86-B8EC-80FF42E9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85C64-54D2-42B8-AF62-CEB04031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7AB8F-48BA-415F-8B00-B407D4DA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A3C0B-ACBC-4DFC-BED9-7ECAE7E4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F5D59-81FF-4AED-B770-5C91C7A0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ECCAB-2A94-4135-9C08-ABF9E5B7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2CAA5-1256-46E9-8466-22F6DF1B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4C0B9-7D7D-4FB1-AC0F-87BFE197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B15CA-6960-47A7-9153-0FEB9C2F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303D-6B68-4480-9620-93D33315C58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82403-A49E-48D9-8A2A-A6E0994A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0FD9A-AD9B-4E6B-81C9-004B52E5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7F4A5-59FE-4735-A42B-18680EA6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723AA-AC3D-4387-9B4C-371DB1CE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17617-654C-41E5-88EC-6FA6BE38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AE45C-8A1C-4882-A13F-9C52D375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9869A-8112-45AC-8B4D-E8A8EEBE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01489-36D2-4B16-9CC0-D755AAEA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743CD-BA97-4CE3-863E-1CC7A701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5B593-4895-41CB-B181-77FF69B1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A53B-E938-468F-86B9-CC2C776A6AF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DE2E0-BD62-49AE-988A-0126951F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82A17-A6A1-43CA-AAF9-B42CAE4D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F3B3B-AE43-4B69-80C2-D729ACAF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9BCFC-B276-4711-9E11-0A20DD7A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0AE75-6FAE-4B5B-8485-31D4E0ED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0E57A-D0E1-41F3-A94F-3126557D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9C600-46B5-4C55-81D7-305806E4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A2948-CF1B-44C7-BC32-6F417479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D1E78-5E98-4440-AC8E-1BA16E66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2A438-23B0-4842-9CAD-0B470A9E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0ABCD-EEF9-43F5-8EBC-914357CEC0D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CCFE4-03B0-4B10-A7F6-AB04A4FC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18EA1-57E6-49AB-B298-65ABD091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07430-7CD3-4902-A0B2-6A322F9E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5CE9B-A462-44F8-B06C-48210C45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CF3CC-F888-449D-ADED-C3106461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5EE0B-4BE9-4175-A537-1D2C48EA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54589-2A30-4FB3-BB5F-233C8DF6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B0712-6B51-4A7C-A344-205FBA67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B9072-9948-463B-8A52-D94CBC38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9EC42-EAED-46BD-B231-FFDE2D03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8AD5-58F1-40DF-BC92-A9CE597F611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ound Single Corner Rectangle 9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6A50-C667-46E0-85D3-045F6F38942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44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7C5B-BFAF-4D3E-8EF5-2F14699E059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48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9BD0-5A21-4662-97BD-0ED6FB13CFE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Rounded Rectangle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5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C2B4-F2BE-46B3-91D2-4CC6E4E41E9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90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6666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666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4D67-960B-4F8E-9C81-1C349684B69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Rounded Rectangle 9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4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1C43-F18D-446D-BC78-27A4ABA5C30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179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6666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666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210B-DD8B-4488-BBF3-D9FDAE1712F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2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0354-4AF9-42D5-A276-3DF956DBC8C2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6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049B-A776-4A79-B602-3AA323961E2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DA21-84E1-425D-8BEE-AA6233CDBDD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35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7F5B-A53F-4ABE-B87B-28A41452AF9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66ff"/>
                </a:solidFill>
                <a:latin typeface="Verdana"/>
              </a:rPr>
              <a:t>Fine-Tuning Resources</a:t>
            </a:r>
            <a:endParaRPr b="1" lang="en-US" sz="45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Lesson 12</a:t>
            </a:r>
            <a:endParaRPr b="0" lang="en-US" sz="2000" spc="-1" strike="noStrike">
              <a:solidFill>
                <a:srgbClr val="66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ntering Material Resource R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81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two types of consumption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xed consumption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able consumption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 Variable Consumption Rate for a Material Resour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ntering Material Resource R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84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able consumption r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amount of the material resource consumed is dependent upon the duration of th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you enter a variable consumption rate for a material resource’s assignment, Project calculates the total quantity and cost of the resource consumed based on the task’s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 Variable Consumption Rate for a Material Resour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ntering Material Resource R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87" name="Content Placeholder 5"/>
          <p:cNvSpPr/>
          <p:nvPr/>
        </p:nvSpPr>
        <p:spPr>
          <a:xfrm>
            <a:off x="503280" y="1371600"/>
            <a:ext cx="78026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dvantage to using a variable rate of consumption is that as the duration of the task changes, so do the calculated amount and cost of the material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 Variable Consumption Rate for a Material Resour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ntering Costs per Use for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90" name="Rounded Rectangle 7"/>
          <p:cNvSpPr/>
          <p:nvPr/>
        </p:nvSpPr>
        <p:spPr>
          <a:xfrm>
            <a:off x="1203480" y="2481120"/>
            <a:ext cx="6797520" cy="9478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Specify people and equipment for the projec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link in the Resource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ounded Rectangle 6"/>
          <p:cNvSpPr/>
          <p:nvPr/>
        </p:nvSpPr>
        <p:spPr>
          <a:xfrm>
            <a:off x="609480" y="16765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ounded Rectangle 8"/>
          <p:cNvSpPr/>
          <p:nvPr/>
        </p:nvSpPr>
        <p:spPr>
          <a:xfrm>
            <a:off x="1371600" y="3594240"/>
            <a:ext cx="5867280" cy="8380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resource 11 on the Simple Resource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Down Arrow 10"/>
          <p:cNvSpPr/>
          <p:nvPr/>
        </p:nvSpPr>
        <p:spPr>
          <a:xfrm>
            <a:off x="121932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Down Arrow 14"/>
          <p:cNvSpPr/>
          <p:nvPr/>
        </p:nvSpPr>
        <p:spPr>
          <a:xfrm>
            <a:off x="1752480" y="33526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ounded Rectangle 8"/>
          <p:cNvSpPr/>
          <p:nvPr/>
        </p:nvSpPr>
        <p:spPr>
          <a:xfrm>
            <a:off x="1905120" y="46483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Resource Information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Down Arrow 14"/>
          <p:cNvSpPr/>
          <p:nvPr/>
        </p:nvSpPr>
        <p:spPr>
          <a:xfrm>
            <a:off x="2286000" y="44067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 Cost per Use for a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ntering Costs per Use for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99" name="Rounded Rectangle 7"/>
          <p:cNvSpPr/>
          <p:nvPr/>
        </p:nvSpPr>
        <p:spPr>
          <a:xfrm>
            <a:off x="1203480" y="2481120"/>
            <a:ext cx="5273640" cy="9478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he A(Default) tab under Cost Rat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ounded Rectangle 6"/>
          <p:cNvSpPr/>
          <p:nvPr/>
        </p:nvSpPr>
        <p:spPr>
          <a:xfrm>
            <a:off x="609480" y="1676520"/>
            <a:ext cx="35053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he Costs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ounded Rectangle 8"/>
          <p:cNvSpPr/>
          <p:nvPr/>
        </p:nvSpPr>
        <p:spPr>
          <a:xfrm>
            <a:off x="1371600" y="3594240"/>
            <a:ext cx="5867280" cy="8380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100 in the first row of the Per Use Cost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Down Arrow 10"/>
          <p:cNvSpPr/>
          <p:nvPr/>
        </p:nvSpPr>
        <p:spPr>
          <a:xfrm>
            <a:off x="121932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Down Arrow 14"/>
          <p:cNvSpPr/>
          <p:nvPr/>
        </p:nvSpPr>
        <p:spPr>
          <a:xfrm>
            <a:off x="1752480" y="33526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 Cost per Use for a Resour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ntering Costs per Use for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06" name="Rounded Rectangle 7"/>
          <p:cNvSpPr/>
          <p:nvPr/>
        </p:nvSpPr>
        <p:spPr>
          <a:xfrm>
            <a:off x="2422440" y="1905120"/>
            <a:ext cx="4206960" cy="1023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End from the Cost Accrual drop-down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ounded Rectangle 8"/>
          <p:cNvSpPr/>
          <p:nvPr/>
        </p:nvSpPr>
        <p:spPr>
          <a:xfrm>
            <a:off x="3429000" y="3094200"/>
            <a:ext cx="1981080" cy="5968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ss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Down Arrow 14"/>
          <p:cNvSpPr/>
          <p:nvPr/>
        </p:nvSpPr>
        <p:spPr>
          <a:xfrm>
            <a:off x="4038480" y="285264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 Cost per Use for a Resour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ntering Costs per Use for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11" name="Text Placeholder 3" descr=""/>
          <p:cNvPicPr/>
          <p:nvPr/>
        </p:nvPicPr>
        <p:blipFill>
          <a:blip r:embed="rId1"/>
          <a:stretch/>
        </p:blipFill>
        <p:spPr>
          <a:xfrm>
            <a:off x="3505320" y="1676520"/>
            <a:ext cx="4808520" cy="3649680"/>
          </a:xfrm>
          <a:prstGeom prst="rect">
            <a:avLst/>
          </a:prstGeom>
          <a:ln w="0">
            <a:noFill/>
          </a:ln>
        </p:spPr>
      </p:pic>
      <p:sp>
        <p:nvSpPr>
          <p:cNvPr id="612" name="Line Callout 1 (Accent Bar) 6"/>
          <p:cNvSpPr/>
          <p:nvPr/>
        </p:nvSpPr>
        <p:spPr>
          <a:xfrm>
            <a:off x="762120" y="3962520"/>
            <a:ext cx="13716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89375" y="-7136"/>
                </a:moveTo>
                <a:lnTo>
                  <a:pt x="22800" y="2314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$100 maintenance fee for each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Callout 1 (Accent Bar) 6"/>
          <p:cNvSpPr/>
          <p:nvPr/>
        </p:nvSpPr>
        <p:spPr>
          <a:xfrm>
            <a:off x="762120" y="2057400"/>
            <a:ext cx="1371600" cy="5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8575" y="31700"/>
                </a:moveTo>
                <a:lnTo>
                  <a:pt x="22800" y="36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st Rate Tabl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 Cost per Use for a Resour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ntering Costs per Use for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16" name="Rounded Rectangle 7"/>
          <p:cNvSpPr/>
          <p:nvPr/>
        </p:nvSpPr>
        <p:spPr>
          <a:xfrm>
            <a:off x="2438280" y="2819520"/>
            <a:ext cx="4206960" cy="1023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Done in the Specify Resource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ounded Rectangle 8"/>
          <p:cNvSpPr/>
          <p:nvPr/>
        </p:nvSpPr>
        <p:spPr>
          <a:xfrm>
            <a:off x="3429000" y="1981080"/>
            <a:ext cx="1523880" cy="5968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Down Arrow 14"/>
          <p:cNvSpPr/>
          <p:nvPr/>
        </p:nvSpPr>
        <p:spPr>
          <a:xfrm>
            <a:off x="4038480" y="25146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 Cost per Use for a Resour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ntering Costs per Use for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1" name="Content Placeholder 5"/>
          <p:cNvSpPr/>
          <p:nvPr/>
        </p:nvSpPr>
        <p:spPr>
          <a:xfrm>
            <a:off x="503280" y="1542960"/>
            <a:ext cx="780264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resource can have a cost per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may be in place of or in addition to the costs derived from their pay rates or consumption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specify whether per-use cost should accrue at the beginning or end of the task to which it is as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 Cost per Use for a Resour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ssigning Multiple Pay R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4" name="Rounded Rectangle 7"/>
          <p:cNvSpPr/>
          <p:nvPr/>
        </p:nvSpPr>
        <p:spPr>
          <a:xfrm>
            <a:off x="1203480" y="2481120"/>
            <a:ext cx="3520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Resource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ounded Rectangle 6"/>
          <p:cNvSpPr/>
          <p:nvPr/>
        </p:nvSpPr>
        <p:spPr>
          <a:xfrm>
            <a:off x="609480" y="167652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ounded Rectangle 8"/>
          <p:cNvSpPr/>
          <p:nvPr/>
        </p:nvSpPr>
        <p:spPr>
          <a:xfrm>
            <a:off x="1752480" y="3276720"/>
            <a:ext cx="49532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name of resource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Down Arrow 10"/>
          <p:cNvSpPr/>
          <p:nvPr/>
        </p:nvSpPr>
        <p:spPr>
          <a:xfrm>
            <a:off x="121932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Down Arrow 14"/>
          <p:cNvSpPr/>
          <p:nvPr/>
        </p:nvSpPr>
        <p:spPr>
          <a:xfrm>
            <a:off x="1752480" y="30351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ounded Rectangle 8"/>
          <p:cNvSpPr/>
          <p:nvPr/>
        </p:nvSpPr>
        <p:spPr>
          <a:xfrm>
            <a:off x="2209680" y="4114800"/>
            <a:ext cx="6400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Resource Information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Down Arrow 14"/>
          <p:cNvSpPr/>
          <p:nvPr/>
        </p:nvSpPr>
        <p:spPr>
          <a:xfrm>
            <a:off x="2209680" y="38736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sign Multiple Pay Rates for a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kills Matrix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457200" y="1600200"/>
          <a:ext cx="8229600" cy="198108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 material resource consumption 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 a variable consumption rate for a material re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 costs per use for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 a cost per use for a re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ounded Rectangle 8"/>
          <p:cNvSpPr/>
          <p:nvPr/>
        </p:nvSpPr>
        <p:spPr>
          <a:xfrm>
            <a:off x="2362320" y="4038480"/>
            <a:ext cx="1828800" cy="609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15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ounded Rectangle 8"/>
          <p:cNvSpPr/>
          <p:nvPr/>
        </p:nvSpPr>
        <p:spPr>
          <a:xfrm>
            <a:off x="2895480" y="4800600"/>
            <a:ext cx="228600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ss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Down Arrow 14"/>
          <p:cNvSpPr/>
          <p:nvPr/>
        </p:nvSpPr>
        <p:spPr>
          <a:xfrm>
            <a:off x="2895480" y="45720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ssigning Multiple Pay R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36" name="Rounded Rectangle 7"/>
          <p:cNvSpPr/>
          <p:nvPr/>
        </p:nvSpPr>
        <p:spPr>
          <a:xfrm>
            <a:off x="1432080" y="2286000"/>
            <a:ext cx="6188040" cy="6523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B tab under Cost rat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ounded Rectangle 6"/>
          <p:cNvSpPr/>
          <p:nvPr/>
        </p:nvSpPr>
        <p:spPr>
          <a:xfrm>
            <a:off x="838080" y="1523880"/>
            <a:ext cx="3429000" cy="609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Costs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ounded Rectangle 8"/>
          <p:cNvSpPr/>
          <p:nvPr/>
        </p:nvSpPr>
        <p:spPr>
          <a:xfrm>
            <a:off x="1828800" y="3048120"/>
            <a:ext cx="5638680" cy="8380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$0.00/h directly below the Standard Rate column h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Down Arrow 10"/>
          <p:cNvSpPr/>
          <p:nvPr/>
        </p:nvSpPr>
        <p:spPr>
          <a:xfrm>
            <a:off x="1447920" y="207000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Down Arrow 14"/>
          <p:cNvSpPr/>
          <p:nvPr/>
        </p:nvSpPr>
        <p:spPr>
          <a:xfrm>
            <a:off x="1981080" y="280656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Down Arrow 14"/>
          <p:cNvSpPr/>
          <p:nvPr/>
        </p:nvSpPr>
        <p:spPr>
          <a:xfrm>
            <a:off x="2438280" y="38098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sign Multiple Pay Rates for a Resour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ssigning Multiple Pay R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44" name="Rounded Rectangle 8"/>
          <p:cNvSpPr/>
          <p:nvPr/>
        </p:nvSpPr>
        <p:spPr>
          <a:xfrm>
            <a:off x="2362320" y="1905120"/>
            <a:ext cx="35812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22.50/h in the Overtime Rat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ounded Rectangle 8"/>
          <p:cNvSpPr/>
          <p:nvPr/>
        </p:nvSpPr>
        <p:spPr>
          <a:xfrm>
            <a:off x="3048120" y="2971800"/>
            <a:ext cx="228600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ss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Down Arrow 14"/>
          <p:cNvSpPr/>
          <p:nvPr/>
        </p:nvSpPr>
        <p:spPr>
          <a:xfrm>
            <a:off x="3657600" y="27432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sign Multiple Pay Rates for a Resour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ssigning Multiple Pay R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808520" cy="3649680"/>
          </a:xfrm>
          <a:prstGeom prst="rect">
            <a:avLst/>
          </a:prstGeom>
          <a:ln w="0">
            <a:noFill/>
          </a:ln>
        </p:spPr>
      </p:pic>
      <p:sp>
        <p:nvSpPr>
          <p:cNvPr id="650" name="Line Callout 1 (Accent Bar) 13"/>
          <p:cNvSpPr/>
          <p:nvPr/>
        </p:nvSpPr>
        <p:spPr>
          <a:xfrm>
            <a:off x="533520" y="2057400"/>
            <a:ext cx="1218960" cy="73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8375" y="19200"/>
                </a:moveTo>
                <a:lnTo>
                  <a:pt x="22950" y="2244"/>
                </a:lnTo>
              </a:path>
              <a:path w="21600" h="21600">
                <a:moveTo>
                  <a:pt x="22950" y="0"/>
                </a:moveTo>
                <a:lnTo>
                  <a:pt x="2295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st Rate Tabl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Callout 1 (Accent Bar) 13"/>
          <p:cNvSpPr/>
          <p:nvPr/>
        </p:nvSpPr>
        <p:spPr>
          <a:xfrm>
            <a:off x="7315200" y="1828800"/>
            <a:ext cx="11430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8000" y="33662"/>
                </a:moveTo>
                <a:lnTo>
                  <a:pt x="-1440" y="2244"/>
                </a:lnTo>
              </a:path>
              <a:path w="21600" h="21600">
                <a:moveTo>
                  <a:pt x="-1440" y="0"/>
                </a:moveTo>
                <a:lnTo>
                  <a:pt x="-144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vertime rate of $22.50/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Callout 1 (Accent Bar) 13"/>
          <p:cNvSpPr/>
          <p:nvPr/>
        </p:nvSpPr>
        <p:spPr>
          <a:xfrm>
            <a:off x="7238880" y="3809880"/>
            <a:ext cx="11430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160" y="21694"/>
                </a:moveTo>
                <a:lnTo>
                  <a:pt x="-1440" y="2244"/>
                </a:lnTo>
              </a:path>
              <a:path w="21600" h="21600">
                <a:moveTo>
                  <a:pt x="-1440" y="0"/>
                </a:moveTo>
                <a:lnTo>
                  <a:pt x="-144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lick OK when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sign Multiple Pay Rates for a Resour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ssigning Multiple Pay R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55" name="Content Placeholder 5"/>
          <p:cNvSpPr/>
          <p:nvPr/>
        </p:nvSpPr>
        <p:spPr>
          <a:xfrm>
            <a:off x="457200" y="160020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andard pay rate (Rate Table A) is used for all of a resource’s assignments unless you specify a different rat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sign Multiple Pay Rates for a Resour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ssigning Multiple Pay R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58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 rate ta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source pay rates that are stored on the Costs tab of the Resource Information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 given resource, you can enter up to five cost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you assign a resource to a task, you can specify which rate table should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sign Multiple Pay Rates for a Resour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ing Different Cost R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1" name="Rounded Rectangle 9"/>
          <p:cNvSpPr/>
          <p:nvPr/>
        </p:nvSpPr>
        <p:spPr>
          <a:xfrm>
            <a:off x="1981080" y="3505320"/>
            <a:ext cx="2133720" cy="533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Go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ounded Rectangle 6"/>
          <p:cNvSpPr/>
          <p:nvPr/>
        </p:nvSpPr>
        <p:spPr>
          <a:xfrm>
            <a:off x="533520" y="1523880"/>
            <a:ext cx="2133360" cy="5079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ounded Rectangle 7"/>
          <p:cNvSpPr/>
          <p:nvPr/>
        </p:nvSpPr>
        <p:spPr>
          <a:xfrm>
            <a:off x="914400" y="2184480"/>
            <a:ext cx="2911320" cy="482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ask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ounded Rectangle 8"/>
          <p:cNvSpPr/>
          <p:nvPr/>
        </p:nvSpPr>
        <p:spPr>
          <a:xfrm>
            <a:off x="1371600" y="2819520"/>
            <a:ext cx="1905120" cy="533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Down Arrow 10"/>
          <p:cNvSpPr/>
          <p:nvPr/>
        </p:nvSpPr>
        <p:spPr>
          <a:xfrm>
            <a:off x="1143000" y="1981080"/>
            <a:ext cx="45720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Down Arrow 14"/>
          <p:cNvSpPr/>
          <p:nvPr/>
        </p:nvSpPr>
        <p:spPr>
          <a:xfrm>
            <a:off x="1676520" y="25909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Down Arrow 15"/>
          <p:cNvSpPr/>
          <p:nvPr/>
        </p:nvSpPr>
        <p:spPr>
          <a:xfrm>
            <a:off x="2133720" y="3257640"/>
            <a:ext cx="45720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ounded Rectangle 9"/>
          <p:cNvSpPr/>
          <p:nvPr/>
        </p:nvSpPr>
        <p:spPr>
          <a:xfrm>
            <a:off x="2514600" y="4191120"/>
            <a:ext cx="335268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6 in the ID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Down Arrow 15"/>
          <p:cNvSpPr/>
          <p:nvPr/>
        </p:nvSpPr>
        <p:spPr>
          <a:xfrm>
            <a:off x="2666880" y="3962520"/>
            <a:ext cx="45720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ounded Rectangle 9"/>
          <p:cNvSpPr/>
          <p:nvPr/>
        </p:nvSpPr>
        <p:spPr>
          <a:xfrm>
            <a:off x="3048120" y="4876920"/>
            <a:ext cx="2133360" cy="533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Down Arrow 15"/>
          <p:cNvSpPr/>
          <p:nvPr/>
        </p:nvSpPr>
        <p:spPr>
          <a:xfrm>
            <a:off x="3352680" y="4705200"/>
            <a:ext cx="45720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pply a Different Cost Rate to an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 Different Cost R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74" name="Rounded Rectangle 9"/>
          <p:cNvSpPr/>
          <p:nvPr/>
        </p:nvSpPr>
        <p:spPr>
          <a:xfrm>
            <a:off x="1981080" y="3505320"/>
            <a:ext cx="4800600" cy="8380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der task 6, click the row heading to the left of Yan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ounded Rectangle 6"/>
          <p:cNvSpPr/>
          <p:nvPr/>
        </p:nvSpPr>
        <p:spPr>
          <a:xfrm>
            <a:off x="533520" y="1523880"/>
            <a:ext cx="2133360" cy="5079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ounded Rectangle 7"/>
          <p:cNvSpPr/>
          <p:nvPr/>
        </p:nvSpPr>
        <p:spPr>
          <a:xfrm>
            <a:off x="914400" y="2184480"/>
            <a:ext cx="3962520" cy="482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int to Table: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ounded Rectangle 8"/>
          <p:cNvSpPr/>
          <p:nvPr/>
        </p:nvSpPr>
        <p:spPr>
          <a:xfrm>
            <a:off x="1371600" y="2819520"/>
            <a:ext cx="1905120" cy="533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Down Arrow 10"/>
          <p:cNvSpPr/>
          <p:nvPr/>
        </p:nvSpPr>
        <p:spPr>
          <a:xfrm>
            <a:off x="1143000" y="1981080"/>
            <a:ext cx="45720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Down Arrow 14"/>
          <p:cNvSpPr/>
          <p:nvPr/>
        </p:nvSpPr>
        <p:spPr>
          <a:xfrm>
            <a:off x="1676520" y="25909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Down Arrow 15"/>
          <p:cNvSpPr/>
          <p:nvPr/>
        </p:nvSpPr>
        <p:spPr>
          <a:xfrm>
            <a:off x="2133720" y="3257640"/>
            <a:ext cx="45720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ounded Rectangle 9"/>
          <p:cNvSpPr/>
          <p:nvPr/>
        </p:nvSpPr>
        <p:spPr>
          <a:xfrm>
            <a:off x="2514600" y="4495680"/>
            <a:ext cx="5867280" cy="8384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croll the table portion of the view until the Total Cost column is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Down Arrow 15"/>
          <p:cNvSpPr/>
          <p:nvPr/>
        </p:nvSpPr>
        <p:spPr>
          <a:xfrm>
            <a:off x="2666880" y="4267080"/>
            <a:ext cx="45720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pply a Different Cost Rate to an Assign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 Different Cost R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5027760" cy="3630600"/>
          </a:xfrm>
          <a:prstGeom prst="rect">
            <a:avLst/>
          </a:prstGeom>
          <a:ln w="0">
            <a:noFill/>
          </a:ln>
        </p:spPr>
      </p:pic>
      <p:sp>
        <p:nvSpPr>
          <p:cNvPr id="686" name="Line Callout 1 (Accent Bar) 13"/>
          <p:cNvSpPr/>
          <p:nvPr/>
        </p:nvSpPr>
        <p:spPr>
          <a:xfrm>
            <a:off x="1447920" y="2819520"/>
            <a:ext cx="1523880" cy="129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4100" y="15247"/>
                </a:moveTo>
                <a:lnTo>
                  <a:pt x="22680" y="1906"/>
                </a:lnTo>
              </a:path>
              <a:path w="21600" h="21600">
                <a:moveTo>
                  <a:pt x="22680" y="0"/>
                </a:moveTo>
                <a:lnTo>
                  <a:pt x="226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an Li’s cost for task 6 is $3,700 based on his rate in Cost Tabl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pply a Different Cost Rate to an Assign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 Different Cost R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89" name="Rounded Rectangle 7"/>
          <p:cNvSpPr/>
          <p:nvPr/>
        </p:nvSpPr>
        <p:spPr>
          <a:xfrm>
            <a:off x="1203480" y="2481120"/>
            <a:ext cx="3520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General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ounded Rectangle 6"/>
          <p:cNvSpPr/>
          <p:nvPr/>
        </p:nvSpPr>
        <p:spPr>
          <a:xfrm>
            <a:off x="609480" y="1676520"/>
            <a:ext cx="65534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Assignment Information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ounded Rectangle 8"/>
          <p:cNvSpPr/>
          <p:nvPr/>
        </p:nvSpPr>
        <p:spPr>
          <a:xfrm>
            <a:off x="1752480" y="3276720"/>
            <a:ext cx="54864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B in the Cost rate tabl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Down Arrow 10"/>
          <p:cNvSpPr/>
          <p:nvPr/>
        </p:nvSpPr>
        <p:spPr>
          <a:xfrm>
            <a:off x="121932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Down Arrow 14"/>
          <p:cNvSpPr/>
          <p:nvPr/>
        </p:nvSpPr>
        <p:spPr>
          <a:xfrm>
            <a:off x="1752480" y="30351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ounded Rectangle 8"/>
          <p:cNvSpPr/>
          <p:nvPr/>
        </p:nvSpPr>
        <p:spPr>
          <a:xfrm>
            <a:off x="2209680" y="411480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Down Arrow 14"/>
          <p:cNvSpPr/>
          <p:nvPr/>
        </p:nvSpPr>
        <p:spPr>
          <a:xfrm>
            <a:off x="2209680" y="38736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pply a Different Cost Rate to an Assign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 Different Cost R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3352680" y="1676520"/>
            <a:ext cx="5027760" cy="3630600"/>
          </a:xfrm>
          <a:prstGeom prst="rect">
            <a:avLst/>
          </a:prstGeom>
          <a:ln w="0">
            <a:noFill/>
          </a:ln>
        </p:spPr>
      </p:pic>
      <p:sp>
        <p:nvSpPr>
          <p:cNvPr id="699" name="Line Callout 1 (Accent Bar) 13"/>
          <p:cNvSpPr/>
          <p:nvPr/>
        </p:nvSpPr>
        <p:spPr>
          <a:xfrm>
            <a:off x="990720" y="2743200"/>
            <a:ext cx="1523880" cy="129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7160" y="16941"/>
                </a:moveTo>
                <a:lnTo>
                  <a:pt x="22680" y="1906"/>
                </a:lnTo>
              </a:path>
              <a:path w="21600" h="21600">
                <a:moveTo>
                  <a:pt x="22680" y="0"/>
                </a:moveTo>
                <a:lnTo>
                  <a:pt x="226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an Li’s cost for task 6 is $3,000 based on his rate in Cost Tabl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pply a Different Cost Rate to an Assign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kills Matrix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457200" y="1600200"/>
          <a:ext cx="8229600" cy="2133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ign multiple pay rates for a re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ign multiple pay rates for a re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ly different cost rates to assign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ly a different cost rate to an assig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pply Different Cost R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02" name="Content Placeholder 10"/>
          <p:cNvSpPr/>
          <p:nvPr/>
        </p:nvSpPr>
        <p:spPr>
          <a:xfrm>
            <a:off x="514440" y="1542960"/>
            <a:ext cx="809604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set up as many as five pay rates per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enables you to assign different pay rates to different assignments for a given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 Table A is used by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pply a Different Cost Rate to an Assign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pecifying Resource Availabilit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05" name="Rounded Rectangle 7"/>
          <p:cNvSpPr/>
          <p:nvPr/>
        </p:nvSpPr>
        <p:spPr>
          <a:xfrm>
            <a:off x="1127160" y="2328840"/>
            <a:ext cx="35211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Resource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ounded Rectangle 6"/>
          <p:cNvSpPr/>
          <p:nvPr/>
        </p:nvSpPr>
        <p:spPr>
          <a:xfrm>
            <a:off x="533520" y="1523880"/>
            <a:ext cx="21333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ounded Rectangle 8"/>
          <p:cNvSpPr/>
          <p:nvPr/>
        </p:nvSpPr>
        <p:spPr>
          <a:xfrm>
            <a:off x="1676520" y="3124080"/>
            <a:ext cx="49528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name of resource 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Down Arrow 10"/>
          <p:cNvSpPr/>
          <p:nvPr/>
        </p:nvSpPr>
        <p:spPr>
          <a:xfrm>
            <a:off x="1143000" y="20829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Down Arrow 14"/>
          <p:cNvSpPr/>
          <p:nvPr/>
        </p:nvSpPr>
        <p:spPr>
          <a:xfrm>
            <a:off x="1676520" y="28828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ounded Rectangle 8"/>
          <p:cNvSpPr/>
          <p:nvPr/>
        </p:nvSpPr>
        <p:spPr>
          <a:xfrm>
            <a:off x="2133720" y="3962520"/>
            <a:ext cx="6400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Resource Information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Down Arrow 14"/>
          <p:cNvSpPr/>
          <p:nvPr/>
        </p:nvSpPr>
        <p:spPr>
          <a:xfrm>
            <a:off x="2133720" y="37209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ounded Rectangle 8"/>
          <p:cNvSpPr/>
          <p:nvPr/>
        </p:nvSpPr>
        <p:spPr>
          <a:xfrm>
            <a:off x="2590920" y="4800600"/>
            <a:ext cx="373356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General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Down Arrow 14"/>
          <p:cNvSpPr/>
          <p:nvPr/>
        </p:nvSpPr>
        <p:spPr>
          <a:xfrm>
            <a:off x="2590920" y="45594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cify a Resource’s Availability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pecifying Resource Availabilit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16" name="Rounded Rectangle 6"/>
          <p:cNvSpPr/>
          <p:nvPr/>
        </p:nvSpPr>
        <p:spPr>
          <a:xfrm>
            <a:off x="533520" y="1828800"/>
            <a:ext cx="2590560" cy="3276720"/>
          </a:xfrm>
          <a:custGeom>
            <a:avLst/>
            <a:gdLst>
              <a:gd name="textAreaLeft" fmla="*/ 126360 w 2590560"/>
              <a:gd name="textAreaRight" fmla="*/ 2464200 w 2590560"/>
              <a:gd name="textAreaTop" fmla="*/ 126360 h 3276720"/>
              <a:gd name="textAreaBottom" fmla="*/ 3150360 h 3276720"/>
            </a:gdLst>
            <a:ahLst/>
            <a:rect l="textAreaLeft" t="textAreaTop" r="textAreaRight" b="textAreaBottom"/>
            <a:pathLst>
              <a:path w="21600" h="27320">
                <a:moveTo>
                  <a:pt x="3600" y="0"/>
                </a:moveTo>
                <a:arcTo wR="3600" hR="3600" stAng="16200000" swAng="-5400000"/>
                <a:lnTo>
                  <a:pt x="0" y="23720"/>
                </a:lnTo>
                <a:arcTo wR="3600" hR="3600" stAng="10800000" swAng="-5400000"/>
                <a:lnTo>
                  <a:pt x="18000" y="273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der Resource Availability, in the first row of the Available From column, leave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4808520" cy="364968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3124080" y="34290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cify a Resource’s Availability Over Tim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pecifying Resource Availabilit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21" name="Rounded Rectangle 6"/>
          <p:cNvSpPr/>
          <p:nvPr/>
        </p:nvSpPr>
        <p:spPr>
          <a:xfrm>
            <a:off x="533520" y="2438280"/>
            <a:ext cx="2590560" cy="23623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Available To cell in the first row, key 4/30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4808520" cy="364968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3124080" y="3429000"/>
            <a:ext cx="1905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cify a Resource’s Availability Over Tim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pecifying Resource Availabilit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26" name="Rounded Rectangle 6"/>
          <p:cNvSpPr/>
          <p:nvPr/>
        </p:nvSpPr>
        <p:spPr>
          <a:xfrm>
            <a:off x="533520" y="2286000"/>
            <a:ext cx="2590560" cy="2590920"/>
          </a:xfrm>
          <a:custGeom>
            <a:avLst/>
            <a:gdLst>
              <a:gd name="textAreaLeft" fmla="*/ 126360 w 2590560"/>
              <a:gd name="textAreaRight" fmla="*/ 2464200 w 2590560"/>
              <a:gd name="textAreaTop" fmla="*/ 126360 h 2590920"/>
              <a:gd name="textAreaBottom" fmla="*/ 2464560 h 2590920"/>
            </a:gdLst>
            <a:ahLst/>
            <a:rect l="textAreaLeft" t="textAreaTop" r="textAreaRight" b="textAreaBottom"/>
            <a:pathLst>
              <a:path w="21600" h="21603">
                <a:moveTo>
                  <a:pt x="3600" y="0"/>
                </a:moveTo>
                <a:arcTo wR="3600" hR="3600" stAng="16200000" swAng="-5400000"/>
                <a:lnTo>
                  <a:pt x="0" y="18003"/>
                </a:lnTo>
                <a:arcTo wR="3600" hR="3600" stAng="10800000" swAng="-5400000"/>
                <a:lnTo>
                  <a:pt x="18000" y="216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Available From cell in the second row, key 5/1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4808520" cy="364968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3124080" y="342900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cify a Resource’s Availability Over Tim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pecifying Resource Availabilit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31" name="Rounded Rectangle 6"/>
          <p:cNvSpPr/>
          <p:nvPr/>
        </p:nvSpPr>
        <p:spPr>
          <a:xfrm>
            <a:off x="533520" y="2209680"/>
            <a:ext cx="2590560" cy="25146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Available To cell in the second row, key 5/20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4808520" cy="364968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3124080" y="3429000"/>
            <a:ext cx="190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cify a Resource’s Availability Over Tim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pecifying Resource Availabilit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36" name="Rounded Rectangle 6"/>
          <p:cNvSpPr/>
          <p:nvPr/>
        </p:nvSpPr>
        <p:spPr>
          <a:xfrm>
            <a:off x="533520" y="2133720"/>
            <a:ext cx="2590560" cy="22860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Units cell in the second row, key 2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4808520" cy="36496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3124080" y="3124080"/>
            <a:ext cx="2667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cify a Resource’s Availability Over Tim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pecifying Resource Availabilit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41" name="Rounded Rectangle 6"/>
          <p:cNvSpPr/>
          <p:nvPr/>
        </p:nvSpPr>
        <p:spPr>
          <a:xfrm>
            <a:off x="533520" y="2209680"/>
            <a:ext cx="2590560" cy="25146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Available From cell in the third row, key 5/21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4808520" cy="364968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3124080" y="342900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cify a Resource’s Availability Over Tim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pecifying Resource Availabilit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46" name="Rounded Rectangle 6"/>
          <p:cNvSpPr/>
          <p:nvPr/>
        </p:nvSpPr>
        <p:spPr>
          <a:xfrm>
            <a:off x="609480" y="2362320"/>
            <a:ext cx="2514600" cy="23619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ave the Available To cell in the third row bl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4808520" cy="364968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3124080" y="3429000"/>
            <a:ext cx="1905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cify a Resource’s Availability Over Tim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pecifying Resource Availabilit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51" name="Rounded Rectangle 6"/>
          <p:cNvSpPr/>
          <p:nvPr/>
        </p:nvSpPr>
        <p:spPr>
          <a:xfrm>
            <a:off x="533520" y="1828800"/>
            <a:ext cx="2590560" cy="3276720"/>
          </a:xfrm>
          <a:custGeom>
            <a:avLst/>
            <a:gdLst>
              <a:gd name="textAreaLeft" fmla="*/ 126360 w 2590560"/>
              <a:gd name="textAreaRight" fmla="*/ 2464200 w 2590560"/>
              <a:gd name="textAreaTop" fmla="*/ 126360 h 3276720"/>
              <a:gd name="textAreaBottom" fmla="*/ 3150360 h 3276720"/>
            </a:gdLst>
            <a:ahLst/>
            <a:rect l="textAreaLeft" t="textAreaTop" r="textAreaRight" b="textAreaBottom"/>
            <a:pathLst>
              <a:path w="21600" h="27320">
                <a:moveTo>
                  <a:pt x="3600" y="0"/>
                </a:moveTo>
                <a:arcTo wR="3600" hR="3600" stAng="16200000" swAng="-5400000"/>
                <a:lnTo>
                  <a:pt x="0" y="23720"/>
                </a:lnTo>
                <a:arcTo wR="3600" hR="3600" stAng="10800000" swAng="-5400000"/>
                <a:lnTo>
                  <a:pt x="18000" y="273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Units cell in the third row, key 300% and then press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4808520" cy="364968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3124080" y="2971800"/>
            <a:ext cx="2743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cify a Resource’s Availability Over Tim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kills Matrix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457200" y="1600200"/>
          <a:ext cx="8229600" cy="2133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cify resource availability at different ti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cify a resource’s availability over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lve resource overallocations manu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ually resolve a resource overal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9" name=""/>
          <p:cNvGraphicFramePr/>
          <p:nvPr/>
        </p:nvGraphicFramePr>
        <p:xfrm>
          <a:off x="457200" y="3733920"/>
          <a:ext cx="8229600" cy="738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el overallocated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 resource leveling to resolve an overal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pecifying Resource Availabilit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56" name="Rounded Rectangle 6"/>
          <p:cNvSpPr/>
          <p:nvPr/>
        </p:nvSpPr>
        <p:spPr>
          <a:xfrm>
            <a:off x="533520" y="2133720"/>
            <a:ext cx="2590560" cy="23619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 to close the Resource Information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4808520" cy="364968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3124080" y="2971800"/>
            <a:ext cx="40388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cify a Resource’s Availability Over Tim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pecifying Resource Availabilit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61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 resource availability over time using the Resource Availability grid on the General tab of the Resource Information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esource’s capacity to work is measured in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. Uni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ximum capacity of a resource to accomplish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cify a Resource’s Availability Over Tim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pecifying Resource Availabilit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64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esource’s capacity to work determines how much that resource can work within those hours without becoming over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asured in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mited by Max. Units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set different Max. Units values to be applied over different time periods for any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cify a Resource’s Availability Over Tim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solving Overallocations Manuall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67" name="Rounded Rectangle 7"/>
          <p:cNvSpPr/>
          <p:nvPr/>
        </p:nvSpPr>
        <p:spPr>
          <a:xfrm>
            <a:off x="1127160" y="2328840"/>
            <a:ext cx="19209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ounded Rectangle 6"/>
          <p:cNvSpPr/>
          <p:nvPr/>
        </p:nvSpPr>
        <p:spPr>
          <a:xfrm>
            <a:off x="533520" y="1523880"/>
            <a:ext cx="66294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Show/Hide Project Guide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ounded Rectangle 8"/>
          <p:cNvSpPr/>
          <p:nvPr/>
        </p:nvSpPr>
        <p:spPr>
          <a:xfrm>
            <a:off x="1676520" y="3124080"/>
            <a:ext cx="28954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More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Down Arrow 10"/>
          <p:cNvSpPr/>
          <p:nvPr/>
        </p:nvSpPr>
        <p:spPr>
          <a:xfrm>
            <a:off x="1143000" y="20829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Down Arrow 14"/>
          <p:cNvSpPr/>
          <p:nvPr/>
        </p:nvSpPr>
        <p:spPr>
          <a:xfrm>
            <a:off x="1676520" y="28828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ounded Rectangle 8"/>
          <p:cNvSpPr/>
          <p:nvPr/>
        </p:nvSpPr>
        <p:spPr>
          <a:xfrm>
            <a:off x="2133720" y="3962520"/>
            <a:ext cx="44193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Resource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Down Arrow 14"/>
          <p:cNvSpPr/>
          <p:nvPr/>
        </p:nvSpPr>
        <p:spPr>
          <a:xfrm>
            <a:off x="2133720" y="37209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ounded Rectangle 8"/>
          <p:cNvSpPr/>
          <p:nvPr/>
        </p:nvSpPr>
        <p:spPr>
          <a:xfrm>
            <a:off x="2590920" y="4800600"/>
            <a:ext cx="205740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Down Arrow 14"/>
          <p:cNvSpPr/>
          <p:nvPr/>
        </p:nvSpPr>
        <p:spPr>
          <a:xfrm>
            <a:off x="2590920" y="45594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ally Resolve a Resource Over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solving Overallocations Manuall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6134400" cy="3564000"/>
          </a:xfrm>
          <a:prstGeom prst="rect">
            <a:avLst/>
          </a:prstGeom>
          <a:ln w="0">
            <a:noFill/>
          </a:ln>
        </p:spPr>
      </p:pic>
      <p:sp>
        <p:nvSpPr>
          <p:cNvPr id="779" name="Line Callout 1 (Accent Bar) 13"/>
          <p:cNvSpPr/>
          <p:nvPr/>
        </p:nvSpPr>
        <p:spPr>
          <a:xfrm>
            <a:off x="685800" y="3962520"/>
            <a:ext cx="1371600" cy="110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600" y="6982"/>
                </a:moveTo>
                <a:lnTo>
                  <a:pt x="22800" y="2244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eveling Gantt view in the bottom p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Callout 1 (Accent Bar) 13"/>
          <p:cNvSpPr/>
          <p:nvPr/>
        </p:nvSpPr>
        <p:spPr>
          <a:xfrm>
            <a:off x="609480" y="1981080"/>
            <a:ext cx="1371600" cy="110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000" y="13465"/>
                </a:moveTo>
                <a:lnTo>
                  <a:pt x="22800" y="2244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source Usage view in the top p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ally Resolve a Resource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ounded Rectangle 6"/>
          <p:cNvSpPr/>
          <p:nvPr/>
        </p:nvSpPr>
        <p:spPr>
          <a:xfrm>
            <a:off x="2590920" y="4267080"/>
            <a:ext cx="51814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he name of resource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solving Overallocations Manuall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84" name="Rounded Rectangle 7"/>
          <p:cNvSpPr/>
          <p:nvPr/>
        </p:nvSpPr>
        <p:spPr>
          <a:xfrm>
            <a:off x="1508040" y="2405160"/>
            <a:ext cx="51213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Hide Subtasks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ounded Rectangle 6"/>
          <p:cNvSpPr/>
          <p:nvPr/>
        </p:nvSpPr>
        <p:spPr>
          <a:xfrm>
            <a:off x="914400" y="1600200"/>
            <a:ext cx="66294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Resource Name column h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ounded Rectangle 8"/>
          <p:cNvSpPr/>
          <p:nvPr/>
        </p:nvSpPr>
        <p:spPr>
          <a:xfrm>
            <a:off x="2057400" y="3200400"/>
            <a:ext cx="525780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ertically scroll the Resource name column to see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Down Arrow 10"/>
          <p:cNvSpPr/>
          <p:nvPr/>
        </p:nvSpPr>
        <p:spPr>
          <a:xfrm>
            <a:off x="1523880" y="21589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Down Arrow 14"/>
          <p:cNvSpPr/>
          <p:nvPr/>
        </p:nvSpPr>
        <p:spPr>
          <a:xfrm>
            <a:off x="2057400" y="29592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Down Arrow 14"/>
          <p:cNvSpPr/>
          <p:nvPr/>
        </p:nvSpPr>
        <p:spPr>
          <a:xfrm>
            <a:off x="2743200" y="40384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ally Resolve a Resource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solving Overallocations Manuall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92" name="Rounded Rectangle 7"/>
          <p:cNvSpPr/>
          <p:nvPr/>
        </p:nvSpPr>
        <p:spPr>
          <a:xfrm>
            <a:off x="1127160" y="2328840"/>
            <a:ext cx="19969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ounded Rectangle 6"/>
          <p:cNvSpPr/>
          <p:nvPr/>
        </p:nvSpPr>
        <p:spPr>
          <a:xfrm>
            <a:off x="533520" y="1523880"/>
            <a:ext cx="80769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plus sign (+) next to Greg Guzik’s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ounded Rectangle 8"/>
          <p:cNvSpPr/>
          <p:nvPr/>
        </p:nvSpPr>
        <p:spPr>
          <a:xfrm>
            <a:off x="1676520" y="3124080"/>
            <a:ext cx="21333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Go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Down Arrow 10"/>
          <p:cNvSpPr/>
          <p:nvPr/>
        </p:nvSpPr>
        <p:spPr>
          <a:xfrm>
            <a:off x="1295280" y="21337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Down Arrow 14"/>
          <p:cNvSpPr/>
          <p:nvPr/>
        </p:nvSpPr>
        <p:spPr>
          <a:xfrm>
            <a:off x="1676520" y="28828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ounded Rectangle 8"/>
          <p:cNvSpPr/>
          <p:nvPr/>
        </p:nvSpPr>
        <p:spPr>
          <a:xfrm>
            <a:off x="2133720" y="3962520"/>
            <a:ext cx="49528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6/29/08 in the Dat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Down Arrow 14"/>
          <p:cNvSpPr/>
          <p:nvPr/>
        </p:nvSpPr>
        <p:spPr>
          <a:xfrm>
            <a:off x="2133720" y="37209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ounded Rectangle 8"/>
          <p:cNvSpPr/>
          <p:nvPr/>
        </p:nvSpPr>
        <p:spPr>
          <a:xfrm>
            <a:off x="2590920" y="4800600"/>
            <a:ext cx="205740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Down Arrow 14"/>
          <p:cNvSpPr/>
          <p:nvPr/>
        </p:nvSpPr>
        <p:spPr>
          <a:xfrm>
            <a:off x="2590920" y="45594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ally Resolve a Resource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6289560" cy="36543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solving Overallocations Manuall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04" name="Line Callout 1 (Accent Bar) 13"/>
          <p:cNvSpPr/>
          <p:nvPr/>
        </p:nvSpPr>
        <p:spPr>
          <a:xfrm>
            <a:off x="533520" y="3429000"/>
            <a:ext cx="1523880" cy="163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400" y="6213"/>
                </a:moveTo>
                <a:lnTo>
                  <a:pt x="22680" y="1511"/>
                </a:lnTo>
              </a:path>
              <a:path w="21600" h="21600">
                <a:moveTo>
                  <a:pt x="22680" y="0"/>
                </a:moveTo>
                <a:lnTo>
                  <a:pt x="226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reg Guzik’s assignments and the corresponding task bars for 6/29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2133720" y="4114440"/>
            <a:ext cx="3886200" cy="68580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ally Resolve a Resource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solving Overallocations Manuall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08" name="Rounded Rectangle 7"/>
          <p:cNvSpPr/>
          <p:nvPr/>
        </p:nvSpPr>
        <p:spPr>
          <a:xfrm>
            <a:off x="1127160" y="2709720"/>
            <a:ext cx="67215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Assignment Information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ounded Rectangle 6"/>
          <p:cNvSpPr/>
          <p:nvPr/>
        </p:nvSpPr>
        <p:spPr>
          <a:xfrm>
            <a:off x="533520" y="1676520"/>
            <a:ext cx="807696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Resource Name column, click Greg’s second assignment, Fine video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ounded Rectangle 8"/>
          <p:cNvSpPr/>
          <p:nvPr/>
        </p:nvSpPr>
        <p:spPr>
          <a:xfrm>
            <a:off x="1676520" y="350532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General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Down Arrow 10"/>
          <p:cNvSpPr/>
          <p:nvPr/>
        </p:nvSpPr>
        <p:spPr>
          <a:xfrm>
            <a:off x="1371600" y="25146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Down Arrow 14"/>
          <p:cNvSpPr/>
          <p:nvPr/>
        </p:nvSpPr>
        <p:spPr>
          <a:xfrm>
            <a:off x="1676520" y="32637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ally Resolve a Resource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solving Overallocations Manuall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15" name="Rounded Rectangle 7"/>
          <p:cNvSpPr/>
          <p:nvPr/>
        </p:nvSpPr>
        <p:spPr>
          <a:xfrm>
            <a:off x="1736640" y="2709720"/>
            <a:ext cx="16923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ounded Rectangle 6"/>
          <p:cNvSpPr/>
          <p:nvPr/>
        </p:nvSpPr>
        <p:spPr>
          <a:xfrm>
            <a:off x="1143000" y="1981080"/>
            <a:ext cx="4419720" cy="609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50% in the Units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ounded Rectangle 8"/>
          <p:cNvSpPr/>
          <p:nvPr/>
        </p:nvSpPr>
        <p:spPr>
          <a:xfrm>
            <a:off x="2286000" y="3505320"/>
            <a:ext cx="57150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SmartTag Actions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Down Arrow 10"/>
          <p:cNvSpPr/>
          <p:nvPr/>
        </p:nvSpPr>
        <p:spPr>
          <a:xfrm>
            <a:off x="1981080" y="25146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Down Arrow 14"/>
          <p:cNvSpPr/>
          <p:nvPr/>
        </p:nvSpPr>
        <p:spPr>
          <a:xfrm>
            <a:off x="2286000" y="32637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ally Resolve a Resource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ntering Material Resource R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41" name="Rounded Rectangle 9"/>
          <p:cNvSpPr/>
          <p:nvPr/>
        </p:nvSpPr>
        <p:spPr>
          <a:xfrm>
            <a:off x="3809880" y="411480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ounded Rectangle 6"/>
          <p:cNvSpPr/>
          <p:nvPr/>
        </p:nvSpPr>
        <p:spPr>
          <a:xfrm>
            <a:off x="2286000" y="1676520"/>
            <a:ext cx="19810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ounded Rectangle 7"/>
          <p:cNvSpPr/>
          <p:nvPr/>
        </p:nvSpPr>
        <p:spPr>
          <a:xfrm>
            <a:off x="2879640" y="2481120"/>
            <a:ext cx="23018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Go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ounded Rectangle 8"/>
          <p:cNvSpPr/>
          <p:nvPr/>
        </p:nvSpPr>
        <p:spPr>
          <a:xfrm>
            <a:off x="3276720" y="3276720"/>
            <a:ext cx="35049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34 in the ID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Down Arrow 10"/>
          <p:cNvSpPr/>
          <p:nvPr/>
        </p:nvSpPr>
        <p:spPr>
          <a:xfrm>
            <a:off x="289548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Down Arrow 14"/>
          <p:cNvSpPr/>
          <p:nvPr/>
        </p:nvSpPr>
        <p:spPr>
          <a:xfrm>
            <a:off x="3429000" y="30351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Down Arrow 15"/>
          <p:cNvSpPr/>
          <p:nvPr/>
        </p:nvSpPr>
        <p:spPr>
          <a:xfrm>
            <a:off x="3962520" y="386064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 Variable Consumption Rate for a Material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solving Overallocations Manuall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rcRect l="0" t="0" r="9412" b="0"/>
          <a:stretch/>
        </p:blipFill>
        <p:spPr>
          <a:xfrm>
            <a:off x="2819520" y="1676520"/>
            <a:ext cx="5664240" cy="3628800"/>
          </a:xfrm>
          <a:prstGeom prst="rect">
            <a:avLst/>
          </a:prstGeom>
          <a:ln w="0">
            <a:noFill/>
          </a:ln>
        </p:spPr>
      </p:pic>
      <p:sp>
        <p:nvSpPr>
          <p:cNvPr id="823" name="Line Callout 1 (Accent Bar) 13"/>
          <p:cNvSpPr/>
          <p:nvPr/>
        </p:nvSpPr>
        <p:spPr>
          <a:xfrm>
            <a:off x="685800" y="2209680"/>
            <a:ext cx="1447920" cy="110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7326" y="20447"/>
                </a:moveTo>
                <a:lnTo>
                  <a:pt x="22737" y="2244"/>
                </a:lnTo>
              </a:path>
              <a:path w="21600" h="21600">
                <a:moveTo>
                  <a:pt x="22737" y="0"/>
                </a:moveTo>
                <a:lnTo>
                  <a:pt x="22737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lect the 2nd option in the SmartTag Actions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ally Resolve a Resource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solving Overallocations Manuall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26" name="Rounded Rectangle 6"/>
          <p:cNvSpPr/>
          <p:nvPr/>
        </p:nvSpPr>
        <p:spPr>
          <a:xfrm>
            <a:off x="1523880" y="2209680"/>
            <a:ext cx="6248520" cy="19051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hange the task’s total work (person-hours) to match the units and duration in the SmartTag Actions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ally Resolve a Resource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6289560" cy="36543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solving Overallocations Manuall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30" name="Line Callout 1 (Accent Bar) 13"/>
          <p:cNvSpPr/>
          <p:nvPr/>
        </p:nvSpPr>
        <p:spPr>
          <a:xfrm>
            <a:off x="533520" y="2971800"/>
            <a:ext cx="1447560" cy="1736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7747" y="-2315"/>
                </a:moveTo>
                <a:lnTo>
                  <a:pt x="22737" y="1226"/>
                </a:lnTo>
              </a:path>
              <a:path w="21600" h="21600">
                <a:moveTo>
                  <a:pt x="22737" y="0"/>
                </a:moveTo>
                <a:lnTo>
                  <a:pt x="22737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sk is restored to its original duration and Greg’s work on the task is redu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209680" y="3809880"/>
            <a:ext cx="3581640" cy="91440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ally Resolve a Resource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ounded Rectangle 6"/>
          <p:cNvSpPr/>
          <p:nvPr/>
        </p:nvSpPr>
        <p:spPr>
          <a:xfrm>
            <a:off x="1828800" y="2895480"/>
            <a:ext cx="6248520" cy="19051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hange the task’s total work (person-hours) to match the units and duration in the SmartTag Actions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solving Overallocations Manuall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35" name="Rounded Rectangle 8"/>
          <p:cNvSpPr/>
          <p:nvPr/>
        </p:nvSpPr>
        <p:spPr>
          <a:xfrm>
            <a:off x="1447920" y="2070000"/>
            <a:ext cx="57150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SmartTag Actions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Down Arrow 14"/>
          <p:cNvSpPr/>
          <p:nvPr/>
        </p:nvSpPr>
        <p:spPr>
          <a:xfrm>
            <a:off x="2438280" y="26668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ally Resolve a Resource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solving Overallocations Manuall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39" name="Rounded Rectangle 7"/>
          <p:cNvSpPr/>
          <p:nvPr/>
        </p:nvSpPr>
        <p:spPr>
          <a:xfrm>
            <a:off x="1127160" y="2557440"/>
            <a:ext cx="67215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Assignment Information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ounded Rectangle 6"/>
          <p:cNvSpPr/>
          <p:nvPr/>
        </p:nvSpPr>
        <p:spPr>
          <a:xfrm>
            <a:off x="533520" y="1523880"/>
            <a:ext cx="807696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Resource Name column, click Greg’s third assignment, Fine audio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ounded Rectangle 8"/>
          <p:cNvSpPr/>
          <p:nvPr/>
        </p:nvSpPr>
        <p:spPr>
          <a:xfrm>
            <a:off x="1676520" y="335268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General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Down Arrow 10"/>
          <p:cNvSpPr/>
          <p:nvPr/>
        </p:nvSpPr>
        <p:spPr>
          <a:xfrm>
            <a:off x="1371600" y="23623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Down Arrow 14"/>
          <p:cNvSpPr/>
          <p:nvPr/>
        </p:nvSpPr>
        <p:spPr>
          <a:xfrm>
            <a:off x="1676520" y="31114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ounded Rectangle 7"/>
          <p:cNvSpPr/>
          <p:nvPr/>
        </p:nvSpPr>
        <p:spPr>
          <a:xfrm>
            <a:off x="2879640" y="4876920"/>
            <a:ext cx="1692360" cy="533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ounded Rectangle 6"/>
          <p:cNvSpPr/>
          <p:nvPr/>
        </p:nvSpPr>
        <p:spPr>
          <a:xfrm>
            <a:off x="2286000" y="4148280"/>
            <a:ext cx="441972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50% in the Units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Down Arrow 10"/>
          <p:cNvSpPr/>
          <p:nvPr/>
        </p:nvSpPr>
        <p:spPr>
          <a:xfrm>
            <a:off x="3124080" y="468144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Down Arrow 10"/>
          <p:cNvSpPr/>
          <p:nvPr/>
        </p:nvSpPr>
        <p:spPr>
          <a:xfrm>
            <a:off x="2514600" y="39625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ally Resolve a Resource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ounded Rectangle 6"/>
          <p:cNvSpPr/>
          <p:nvPr/>
        </p:nvSpPr>
        <p:spPr>
          <a:xfrm>
            <a:off x="1828800" y="2895480"/>
            <a:ext cx="6248520" cy="19051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hange the task’s total work (person-hours) to match the units and duration in the SmartTag Actions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solving Overallocations Manuall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51" name="Rounded Rectangle 8"/>
          <p:cNvSpPr/>
          <p:nvPr/>
        </p:nvSpPr>
        <p:spPr>
          <a:xfrm>
            <a:off x="1447920" y="2070000"/>
            <a:ext cx="57150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SmartTag Actions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Down Arrow 14"/>
          <p:cNvSpPr/>
          <p:nvPr/>
        </p:nvSpPr>
        <p:spPr>
          <a:xfrm>
            <a:off x="2438280" y="26668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ally Resolve a Resource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solving Overallocations Manuall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996160" cy="3473640"/>
          </a:xfrm>
          <a:prstGeom prst="rect">
            <a:avLst/>
          </a:prstGeom>
          <a:ln w="0">
            <a:noFill/>
          </a:ln>
        </p:spPr>
      </p:pic>
      <p:sp>
        <p:nvSpPr>
          <p:cNvPr id="856" name="Line Callout 1 (Accent Bar) 13"/>
          <p:cNvSpPr/>
          <p:nvPr/>
        </p:nvSpPr>
        <p:spPr>
          <a:xfrm>
            <a:off x="533520" y="1828800"/>
            <a:ext cx="1523880" cy="1736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3980" y="9087"/>
                </a:moveTo>
                <a:lnTo>
                  <a:pt x="22680" y="1246"/>
                </a:lnTo>
              </a:path>
              <a:path w="21600" h="21600">
                <a:moveTo>
                  <a:pt x="22680" y="0"/>
                </a:moveTo>
                <a:lnTo>
                  <a:pt x="226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reg Guzik is no longer overallocated – he is fully allocated on these three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ally Resolve a Resource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solving Overallocations Manuall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59" name="Content Placeholder 10"/>
          <p:cNvSpPr/>
          <p:nvPr/>
        </p:nvSpPr>
        <p:spPr>
          <a:xfrm>
            <a:off x="380880" y="1600200"/>
            <a:ext cx="83822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c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resource’s capacity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esource is said to be in one of three states: underallocated, fully allocated, or over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ally Resolve a Resource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solving Overallocations Manuall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62" name="Content Placeholder 10"/>
          <p:cNvSpPr/>
          <p:nvPr/>
        </p:nvSpPr>
        <p:spPr>
          <a:xfrm>
            <a:off x="380880" y="1676520"/>
            <a:ext cx="8382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derallocate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ork assigned to the resource is less than the resource’s maximum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y allocate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tal work of a resource’s task assignments is exactly equal to that resource’s work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verallocate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source is assigned to more work than can be done in the normal work capacity of the resou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ally Resolve a Resource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solving Overallocations Manuall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65" name="Content Placeholder 10"/>
          <p:cNvSpPr/>
          <p:nvPr/>
        </p:nvSpPr>
        <p:spPr>
          <a:xfrm>
            <a:off x="38088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resolve an overallocation, you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ually edit an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place the overallocated resource with another resource using the Replace button in the Assign Resources dialog bo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duce the value in the Units field of the Assign Resources or Assignment Information dialog bo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ow the overallocation to remain in the schedule if it is not extre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ally Resolve a Resource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ntering Material Resource R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50" name="Rounded Rectangle 9"/>
          <p:cNvSpPr/>
          <p:nvPr/>
        </p:nvSpPr>
        <p:spPr>
          <a:xfrm>
            <a:off x="2209680" y="4114800"/>
            <a:ext cx="22100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ss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ounded Rectangle 6"/>
          <p:cNvSpPr/>
          <p:nvPr/>
        </p:nvSpPr>
        <p:spPr>
          <a:xfrm>
            <a:off x="685800" y="1676520"/>
            <a:ext cx="5562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Assign Resources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ounded Rectangle 7"/>
          <p:cNvSpPr/>
          <p:nvPr/>
        </p:nvSpPr>
        <p:spPr>
          <a:xfrm>
            <a:off x="1279440" y="2481120"/>
            <a:ext cx="46641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Units field for D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ounded Rectangle 8"/>
          <p:cNvSpPr/>
          <p:nvPr/>
        </p:nvSpPr>
        <p:spPr>
          <a:xfrm>
            <a:off x="1676520" y="3276720"/>
            <a:ext cx="4800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0.25/h in the Units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Down Arrow 10"/>
          <p:cNvSpPr/>
          <p:nvPr/>
        </p:nvSpPr>
        <p:spPr>
          <a:xfrm>
            <a:off x="129528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Down Arrow 14"/>
          <p:cNvSpPr/>
          <p:nvPr/>
        </p:nvSpPr>
        <p:spPr>
          <a:xfrm>
            <a:off x="1828800" y="30351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Down Arrow 15"/>
          <p:cNvSpPr/>
          <p:nvPr/>
        </p:nvSpPr>
        <p:spPr>
          <a:xfrm>
            <a:off x="2362320" y="386064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 Variable Consumption Rate for a Material Resour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ftware Orient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868" name="" descr=""/>
          <p:cNvPicPr/>
          <p:nvPr/>
        </p:nvPicPr>
        <p:blipFill>
          <a:blip r:embed="rId1"/>
          <a:stretch/>
        </p:blipFill>
        <p:spPr>
          <a:xfrm>
            <a:off x="2424240" y="1652760"/>
            <a:ext cx="4295520" cy="3552480"/>
          </a:xfrm>
          <a:prstGeom prst="rect">
            <a:avLst/>
          </a:prstGeom>
          <a:ln w="0">
            <a:noFill/>
          </a:ln>
        </p:spPr>
      </p:pic>
      <p:sp>
        <p:nvSpPr>
          <p:cNvPr id="869" name="Line Callout 1 (Accent Bar) 13"/>
          <p:cNvSpPr/>
          <p:nvPr/>
        </p:nvSpPr>
        <p:spPr>
          <a:xfrm>
            <a:off x="609480" y="1905120"/>
            <a:ext cx="3049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36800" y="9090"/>
                </a:moveTo>
                <a:lnTo>
                  <a:pt x="27000" y="6480"/>
                </a:lnTo>
              </a:path>
              <a:path w="21600" h="21600">
                <a:moveTo>
                  <a:pt x="27000" y="0"/>
                </a:moveTo>
                <a:lnTo>
                  <a:pt x="270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Callout 1 (Accent Bar) 13"/>
          <p:cNvSpPr/>
          <p:nvPr/>
        </p:nvSpPr>
        <p:spPr>
          <a:xfrm>
            <a:off x="1143000" y="2286000"/>
            <a:ext cx="3049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99000" y="9810"/>
                </a:moveTo>
                <a:lnTo>
                  <a:pt x="27000" y="6480"/>
                </a:lnTo>
              </a:path>
              <a:path w="21600" h="21600">
                <a:moveTo>
                  <a:pt x="27000" y="0"/>
                </a:moveTo>
                <a:lnTo>
                  <a:pt x="270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Callout 1 (Accent Bar) 13"/>
          <p:cNvSpPr/>
          <p:nvPr/>
        </p:nvSpPr>
        <p:spPr>
          <a:xfrm>
            <a:off x="609480" y="2666880"/>
            <a:ext cx="30492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36800" y="-1710"/>
                </a:moveTo>
                <a:lnTo>
                  <a:pt x="27000" y="6480"/>
                </a:lnTo>
              </a:path>
              <a:path w="21600" h="21600">
                <a:moveTo>
                  <a:pt x="27000" y="0"/>
                </a:moveTo>
                <a:lnTo>
                  <a:pt x="270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Callout 1 (Accent Bar) 13"/>
          <p:cNvSpPr/>
          <p:nvPr/>
        </p:nvSpPr>
        <p:spPr>
          <a:xfrm>
            <a:off x="1143000" y="3200400"/>
            <a:ext cx="3049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98100" y="-17550"/>
                </a:moveTo>
                <a:lnTo>
                  <a:pt x="27000" y="6480"/>
                </a:lnTo>
              </a:path>
              <a:path w="21600" h="21600">
                <a:moveTo>
                  <a:pt x="27000" y="0"/>
                </a:moveTo>
                <a:lnTo>
                  <a:pt x="270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Callout 1 (Accent Bar) 13"/>
          <p:cNvSpPr/>
          <p:nvPr/>
        </p:nvSpPr>
        <p:spPr>
          <a:xfrm>
            <a:off x="685800" y="3657600"/>
            <a:ext cx="3049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30500" y="17730"/>
                </a:moveTo>
                <a:lnTo>
                  <a:pt x="27000" y="6480"/>
                </a:lnTo>
              </a:path>
              <a:path w="21600" h="21600">
                <a:moveTo>
                  <a:pt x="27000" y="0"/>
                </a:moveTo>
                <a:lnTo>
                  <a:pt x="270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Callout 1 (Accent Bar) 13"/>
          <p:cNvSpPr/>
          <p:nvPr/>
        </p:nvSpPr>
        <p:spPr>
          <a:xfrm>
            <a:off x="1143000" y="4114800"/>
            <a:ext cx="3049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02600" y="4050"/>
                </a:moveTo>
                <a:lnTo>
                  <a:pt x="27000" y="6480"/>
                </a:lnTo>
              </a:path>
              <a:path w="21600" h="21600">
                <a:moveTo>
                  <a:pt x="27000" y="0"/>
                </a:moveTo>
                <a:lnTo>
                  <a:pt x="270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Callout 1 (Accent Bar) 13"/>
          <p:cNvSpPr/>
          <p:nvPr/>
        </p:nvSpPr>
        <p:spPr>
          <a:xfrm>
            <a:off x="685800" y="4572000"/>
            <a:ext cx="3049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34100" y="-11790"/>
                </a:moveTo>
                <a:lnTo>
                  <a:pt x="27000" y="6480"/>
                </a:lnTo>
              </a:path>
              <a:path w="21600" h="21600">
                <a:moveTo>
                  <a:pt x="27000" y="0"/>
                </a:moveTo>
                <a:lnTo>
                  <a:pt x="270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Callout 1 (Accent Bar) 13"/>
          <p:cNvSpPr/>
          <p:nvPr/>
        </p:nvSpPr>
        <p:spPr>
          <a:xfrm>
            <a:off x="1219320" y="4800600"/>
            <a:ext cx="30456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96300" y="-15390"/>
                </a:moveTo>
                <a:lnTo>
                  <a:pt x="27000" y="6480"/>
                </a:lnTo>
              </a:path>
              <a:path w="21600" h="21600">
                <a:moveTo>
                  <a:pt x="27000" y="0"/>
                </a:moveTo>
                <a:lnTo>
                  <a:pt x="270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soft Project’s Resource Leveling Dialog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Leveling Overallocated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79" name="Rounded Rectangle 7"/>
          <p:cNvSpPr/>
          <p:nvPr/>
        </p:nvSpPr>
        <p:spPr>
          <a:xfrm>
            <a:off x="1203480" y="2209680"/>
            <a:ext cx="329220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Remove Spl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ounded Rectangle 6"/>
          <p:cNvSpPr/>
          <p:nvPr/>
        </p:nvSpPr>
        <p:spPr>
          <a:xfrm>
            <a:off x="609480" y="1600200"/>
            <a:ext cx="2438640" cy="4572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ounded Rectangle 8"/>
          <p:cNvSpPr/>
          <p:nvPr/>
        </p:nvSpPr>
        <p:spPr>
          <a:xfrm>
            <a:off x="1600200" y="2895480"/>
            <a:ext cx="190512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Down Arrow 10"/>
          <p:cNvSpPr/>
          <p:nvPr/>
        </p:nvSpPr>
        <p:spPr>
          <a:xfrm>
            <a:off x="1447920" y="19810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Down Arrow 14"/>
          <p:cNvSpPr/>
          <p:nvPr/>
        </p:nvSpPr>
        <p:spPr>
          <a:xfrm>
            <a:off x="1676520" y="26668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ounded Rectangle 6"/>
          <p:cNvSpPr/>
          <p:nvPr/>
        </p:nvSpPr>
        <p:spPr>
          <a:xfrm>
            <a:off x="1905120" y="3538440"/>
            <a:ext cx="3581280" cy="5000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Resource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Down Arrow 10"/>
          <p:cNvSpPr/>
          <p:nvPr/>
        </p:nvSpPr>
        <p:spPr>
          <a:xfrm>
            <a:off x="2133720" y="33526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ounded Rectangle 8"/>
          <p:cNvSpPr/>
          <p:nvPr/>
        </p:nvSpPr>
        <p:spPr>
          <a:xfrm>
            <a:off x="2438280" y="4191120"/>
            <a:ext cx="1905120" cy="533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Down Arrow 14"/>
          <p:cNvSpPr/>
          <p:nvPr/>
        </p:nvSpPr>
        <p:spPr>
          <a:xfrm>
            <a:off x="2743200" y="40384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ounded Rectangle 6"/>
          <p:cNvSpPr/>
          <p:nvPr/>
        </p:nvSpPr>
        <p:spPr>
          <a:xfrm>
            <a:off x="2895480" y="4834080"/>
            <a:ext cx="3581640" cy="5000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Leve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Down Arrow 10"/>
          <p:cNvSpPr/>
          <p:nvPr/>
        </p:nvSpPr>
        <p:spPr>
          <a:xfrm>
            <a:off x="3124080" y="46483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Resource Leveling to Resolve an Over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ounded Rectangle 6"/>
          <p:cNvSpPr/>
          <p:nvPr/>
        </p:nvSpPr>
        <p:spPr>
          <a:xfrm>
            <a:off x="533520" y="16002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Manual under Leveling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Leveling Overallocated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4295880" cy="355284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 flipV="1">
            <a:off x="3276720" y="2286000"/>
            <a:ext cx="2590560" cy="76320"/>
          </a:xfrm>
          <a:prstGeom prst="line">
            <a:avLst/>
          </a:prstGeom>
          <a:ln w="1908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ounded Rectangle 6"/>
          <p:cNvSpPr/>
          <p:nvPr/>
        </p:nvSpPr>
        <p:spPr>
          <a:xfrm>
            <a:off x="533520" y="3276720"/>
            <a:ext cx="3276360" cy="1828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Day by Day in the Look for overallocations…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3809880" y="2514240"/>
            <a:ext cx="2057400" cy="1676520"/>
          </a:xfrm>
          <a:prstGeom prst="line">
            <a:avLst/>
          </a:prstGeom>
          <a:ln w="1908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Resource Leveling to Resolve an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ounded Rectangle 6"/>
          <p:cNvSpPr/>
          <p:nvPr/>
        </p:nvSpPr>
        <p:spPr>
          <a:xfrm>
            <a:off x="533520" y="16002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Clear leveling values before lev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Leveling Overallocated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4295880" cy="355284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3276720" y="2362320"/>
            <a:ext cx="1143000" cy="304560"/>
          </a:xfrm>
          <a:prstGeom prst="line">
            <a:avLst/>
          </a:prstGeom>
          <a:ln w="1908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ounded Rectangle 6"/>
          <p:cNvSpPr/>
          <p:nvPr/>
        </p:nvSpPr>
        <p:spPr>
          <a:xfrm>
            <a:off x="533520" y="3276720"/>
            <a:ext cx="3276360" cy="13716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Level entire project under Leveling rang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3809880" y="3124080"/>
            <a:ext cx="685800" cy="1067040"/>
          </a:xfrm>
          <a:prstGeom prst="line">
            <a:avLst/>
          </a:prstGeom>
          <a:ln w="1908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Resource Leveling to Resolve an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ounded Rectangle 6"/>
          <p:cNvSpPr/>
          <p:nvPr/>
        </p:nvSpPr>
        <p:spPr>
          <a:xfrm>
            <a:off x="533520" y="1600200"/>
            <a:ext cx="3047760" cy="2057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Standard in the Leveling order box under Resolving overal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Leveling Overallocated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4295880" cy="3552840"/>
          </a:xfrm>
          <a:prstGeom prst="rect">
            <a:avLst/>
          </a:prstGeom>
          <a:ln w="0">
            <a:noFill/>
          </a:ln>
        </p:spPr>
      </p:pic>
      <p:sp>
        <p:nvSpPr>
          <p:cNvPr id="908" name=""/>
          <p:cNvSpPr/>
          <p:nvPr/>
        </p:nvSpPr>
        <p:spPr>
          <a:xfrm>
            <a:off x="3581280" y="2895480"/>
            <a:ext cx="2057400" cy="1067040"/>
          </a:xfrm>
          <a:prstGeom prst="line">
            <a:avLst/>
          </a:prstGeom>
          <a:ln w="1908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ounded Rectangle 6"/>
          <p:cNvSpPr/>
          <p:nvPr/>
        </p:nvSpPr>
        <p:spPr>
          <a:xfrm>
            <a:off x="609480" y="3809880"/>
            <a:ext cx="3276720" cy="15242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ear the Level only within available slack check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3886200" y="4191120"/>
            <a:ext cx="533520" cy="457200"/>
          </a:xfrm>
          <a:prstGeom prst="line">
            <a:avLst/>
          </a:prstGeom>
          <a:ln w="1908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Resource Leveling to Resolve an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ounded Rectangle 6"/>
          <p:cNvSpPr/>
          <p:nvPr/>
        </p:nvSpPr>
        <p:spPr>
          <a:xfrm>
            <a:off x="533520" y="1600200"/>
            <a:ext cx="3047760" cy="2057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he Leveling can adjust individual assignments on a task check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Leveling Overallocated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4295880" cy="355284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>
            <a:off x="3581280" y="2895480"/>
            <a:ext cx="838440" cy="1447920"/>
          </a:xfrm>
          <a:prstGeom prst="line">
            <a:avLst/>
          </a:prstGeom>
          <a:ln w="1908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ounded Rectangle 6"/>
          <p:cNvSpPr/>
          <p:nvPr/>
        </p:nvSpPr>
        <p:spPr>
          <a:xfrm>
            <a:off x="609480" y="3809880"/>
            <a:ext cx="3276720" cy="15242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he Leveling can create splits in remaining work check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3886200" y="4572000"/>
            <a:ext cx="533520" cy="76320"/>
          </a:xfrm>
          <a:prstGeom prst="line">
            <a:avLst/>
          </a:prstGeom>
          <a:ln w="1908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Resource Leveling to Resolve an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Leveling Overallocated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4295880" cy="3552840"/>
          </a:xfrm>
          <a:prstGeom prst="rect">
            <a:avLst/>
          </a:prstGeom>
          <a:ln w="0">
            <a:noFill/>
          </a:ln>
        </p:spPr>
      </p:pic>
      <p:sp>
        <p:nvSpPr>
          <p:cNvPr id="921" name="Rounded Rectangle 6"/>
          <p:cNvSpPr/>
          <p:nvPr/>
        </p:nvSpPr>
        <p:spPr>
          <a:xfrm>
            <a:off x="1066680" y="29718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Level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962520" y="3352680"/>
            <a:ext cx="2286000" cy="1600200"/>
          </a:xfrm>
          <a:prstGeom prst="line">
            <a:avLst/>
          </a:prstGeom>
          <a:ln w="1908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Resource Leveling to Resolve an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Leveling Overallocated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25" name="Content Placeholder 10"/>
          <p:cNvSpPr/>
          <p:nvPr/>
        </p:nvSpPr>
        <p:spPr>
          <a:xfrm>
            <a:off x="1219320" y="1542960"/>
            <a:ext cx="70866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asks whether you want to level the entire pool or only selecte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ounded Rectangle 7"/>
          <p:cNvSpPr/>
          <p:nvPr/>
        </p:nvSpPr>
        <p:spPr>
          <a:xfrm>
            <a:off x="3184560" y="3657600"/>
            <a:ext cx="176832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ounded Rectangle 6"/>
          <p:cNvSpPr/>
          <p:nvPr/>
        </p:nvSpPr>
        <p:spPr>
          <a:xfrm>
            <a:off x="2514600" y="2819520"/>
            <a:ext cx="30481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Entire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Down Arrow 10"/>
          <p:cNvSpPr/>
          <p:nvPr/>
        </p:nvSpPr>
        <p:spPr>
          <a:xfrm>
            <a:off x="3718080" y="34290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Resource Leveling to Resolve an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Leveling Overallocated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rcRect l="0" t="0" r="18823" b="0"/>
          <a:stretch/>
        </p:blipFill>
        <p:spPr>
          <a:xfrm>
            <a:off x="3505320" y="1676520"/>
            <a:ext cx="4944960" cy="3535200"/>
          </a:xfrm>
          <a:prstGeom prst="rect">
            <a:avLst/>
          </a:prstGeom>
          <a:ln w="0">
            <a:noFill/>
          </a:ln>
        </p:spPr>
      </p:pic>
      <p:sp>
        <p:nvSpPr>
          <p:cNvPr id="932" name="Line Callout 1 (Accent Bar) 6"/>
          <p:cNvSpPr/>
          <p:nvPr/>
        </p:nvSpPr>
        <p:spPr>
          <a:xfrm>
            <a:off x="685800" y="2057400"/>
            <a:ext cx="2133720" cy="196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496" y="1300"/>
                </a:moveTo>
                <a:lnTo>
                  <a:pt x="22371" y="1200"/>
                </a:lnTo>
              </a:path>
              <a:path w="21600" h="21600">
                <a:moveTo>
                  <a:pt x="22371" y="0"/>
                </a:moveTo>
                <a:lnTo>
                  <a:pt x="22371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resources in red may still be overallocated hour by hour (or even minute by minute), but they are not overallocated day by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95480" y="3733920"/>
            <a:ext cx="990720" cy="91440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Resource Leveling to Resolve an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Leveling Overallocated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36" name="Rounded Rectangle 7"/>
          <p:cNvSpPr/>
          <p:nvPr/>
        </p:nvSpPr>
        <p:spPr>
          <a:xfrm>
            <a:off x="2727360" y="2481120"/>
            <a:ext cx="29113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More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ounded Rectangle 6"/>
          <p:cNvSpPr/>
          <p:nvPr/>
        </p:nvSpPr>
        <p:spPr>
          <a:xfrm>
            <a:off x="2514600" y="167652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ounded Rectangle 8"/>
          <p:cNvSpPr/>
          <p:nvPr/>
        </p:nvSpPr>
        <p:spPr>
          <a:xfrm>
            <a:off x="3048120" y="3276720"/>
            <a:ext cx="35812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Leveling Gan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Down Arrow 10"/>
          <p:cNvSpPr/>
          <p:nvPr/>
        </p:nvSpPr>
        <p:spPr>
          <a:xfrm>
            <a:off x="274320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Down Arrow 14"/>
          <p:cNvSpPr/>
          <p:nvPr/>
        </p:nvSpPr>
        <p:spPr>
          <a:xfrm>
            <a:off x="3276720" y="30351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ounded Rectangle 8"/>
          <p:cNvSpPr/>
          <p:nvPr/>
        </p:nvSpPr>
        <p:spPr>
          <a:xfrm>
            <a:off x="3733920" y="4114800"/>
            <a:ext cx="21333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Down Arrow 14"/>
          <p:cNvSpPr/>
          <p:nvPr/>
        </p:nvSpPr>
        <p:spPr>
          <a:xfrm>
            <a:off x="3733920" y="38736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Resource Leveling to Resolve an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ntering Material Resource R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3962520" y="1905120"/>
            <a:ext cx="4610160" cy="3114720"/>
          </a:xfrm>
          <a:prstGeom prst="rect">
            <a:avLst/>
          </a:prstGeom>
          <a:ln w="0">
            <a:noFill/>
          </a:ln>
        </p:spPr>
      </p:pic>
      <p:sp>
        <p:nvSpPr>
          <p:cNvPr id="560" name="TextBox 5"/>
          <p:cNvSpPr/>
          <p:nvPr/>
        </p:nvSpPr>
        <p:spPr>
          <a:xfrm>
            <a:off x="838080" y="1676520"/>
            <a:ext cx="2438640" cy="9464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ouble-click the column divider between the Units and the Cost columns to expand the Units colu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Callout 1 (Accent Bar) 6"/>
          <p:cNvSpPr/>
          <p:nvPr/>
        </p:nvSpPr>
        <p:spPr>
          <a:xfrm>
            <a:off x="1371600" y="3276720"/>
            <a:ext cx="137160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68200" y="12350"/>
                </a:moveTo>
                <a:lnTo>
                  <a:pt x="22800" y="36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ariable rate for DV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Callout 1 (Accent Bar) 6"/>
          <p:cNvSpPr/>
          <p:nvPr/>
        </p:nvSpPr>
        <p:spPr>
          <a:xfrm>
            <a:off x="1371600" y="4419720"/>
            <a:ext cx="137160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01000" y="-10050"/>
                </a:moveTo>
                <a:lnTo>
                  <a:pt x="22800" y="36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lick Close when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 Variable Consumption Rate for a Material Resour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Leveling Overallocated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45" name="Rounded Rectangle 7"/>
          <p:cNvSpPr/>
          <p:nvPr/>
        </p:nvSpPr>
        <p:spPr>
          <a:xfrm>
            <a:off x="2193840" y="2666880"/>
            <a:ext cx="51213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Scroll to Task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ounded Rectangle 6"/>
          <p:cNvSpPr/>
          <p:nvPr/>
        </p:nvSpPr>
        <p:spPr>
          <a:xfrm>
            <a:off x="1600200" y="1862280"/>
            <a:ext cx="45720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he name of task 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Down Arrow 10"/>
          <p:cNvSpPr/>
          <p:nvPr/>
        </p:nvSpPr>
        <p:spPr>
          <a:xfrm>
            <a:off x="2209680" y="24210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Resource Leveling to Resolve an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Leveling Overallocated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6105600" cy="3537000"/>
          </a:xfrm>
          <a:prstGeom prst="rect">
            <a:avLst/>
          </a:prstGeom>
          <a:ln w="0">
            <a:noFill/>
          </a:ln>
        </p:spPr>
      </p:pic>
      <p:sp>
        <p:nvSpPr>
          <p:cNvPr id="951" name="Line Callout 1 (Accent Bar) 6"/>
          <p:cNvSpPr/>
          <p:nvPr/>
        </p:nvSpPr>
        <p:spPr>
          <a:xfrm>
            <a:off x="533520" y="2057400"/>
            <a:ext cx="1600200" cy="259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69729" y="13738"/>
                </a:moveTo>
                <a:lnTo>
                  <a:pt x="22629" y="953"/>
                </a:lnTo>
              </a:path>
              <a:path w="21600" h="21600">
                <a:moveTo>
                  <a:pt x="22629" y="0"/>
                </a:moveTo>
                <a:lnTo>
                  <a:pt x="22629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 the Leveling Gantt view, bars on the top represent the pre-leveling values, and bars on the bottom represent values after lev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Resource Leveling to Resolve an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Leveling Overallocated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54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ource leveling is the process of delaying or splitting a resource’s work on a task to resolve an over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ed on options you select, Project may try to resolve an overallocatio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laying the start of an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laying the start of a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plitting the work on a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Resource Leveling to Resolve an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Leveling Overallocated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57" name="Content Placeholder 5"/>
          <p:cNvSpPr/>
          <p:nvPr/>
        </p:nvSpPr>
        <p:spPr>
          <a:xfrm>
            <a:off x="457200" y="1371600"/>
            <a:ext cx="818352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ource leveling has its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cannot replace the judgment of a good project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Placeholder 3"/>
          <p:cNvSpPr/>
          <p:nvPr/>
        </p:nvSpPr>
        <p:spPr>
          <a:xfrm>
            <a:off x="533520" y="6094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Resource Leveling to Resolve an Overal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ummar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514440" y="1542960"/>
            <a:ext cx="7486560" cy="378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 material resource consumption r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 costs per use for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multiple pay rates for a resou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y different cost rates to assign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Learned How 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ummar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Learned How t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Content Placeholder 6"/>
          <p:cNvSpPr/>
          <p:nvPr/>
        </p:nvSpPr>
        <p:spPr>
          <a:xfrm>
            <a:off x="514440" y="1542960"/>
            <a:ext cx="748656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y resource availability at different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olve resource overallocations ma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vel overallocate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ntering Material Resource R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65" name="Rounded Rectangle 9"/>
          <p:cNvSpPr/>
          <p:nvPr/>
        </p:nvSpPr>
        <p:spPr>
          <a:xfrm>
            <a:off x="1981080" y="3809880"/>
            <a:ext cx="66294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Assignment Information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ounded Rectangle 6"/>
          <p:cNvSpPr/>
          <p:nvPr/>
        </p:nvSpPr>
        <p:spPr>
          <a:xfrm>
            <a:off x="533520" y="1600200"/>
            <a:ext cx="2133360" cy="5842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ounded Rectangle 7"/>
          <p:cNvSpPr/>
          <p:nvPr/>
        </p:nvSpPr>
        <p:spPr>
          <a:xfrm>
            <a:off x="914400" y="2336760"/>
            <a:ext cx="2911320" cy="5842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ask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ounded Rectangle 8"/>
          <p:cNvSpPr/>
          <p:nvPr/>
        </p:nvSpPr>
        <p:spPr>
          <a:xfrm>
            <a:off x="1371600" y="3048120"/>
            <a:ext cx="6553080" cy="5839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DVD assignment under task 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Down Arrow 10"/>
          <p:cNvSpPr/>
          <p:nvPr/>
        </p:nvSpPr>
        <p:spPr>
          <a:xfrm>
            <a:off x="1143000" y="2057400"/>
            <a:ext cx="45720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Down Arrow 14"/>
          <p:cNvSpPr/>
          <p:nvPr/>
        </p:nvSpPr>
        <p:spPr>
          <a:xfrm>
            <a:off x="1676520" y="2819520"/>
            <a:ext cx="45720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Down Arrow 15"/>
          <p:cNvSpPr/>
          <p:nvPr/>
        </p:nvSpPr>
        <p:spPr>
          <a:xfrm>
            <a:off x="2133720" y="3562200"/>
            <a:ext cx="45720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ounded Rectangle 9"/>
          <p:cNvSpPr/>
          <p:nvPr/>
        </p:nvSpPr>
        <p:spPr>
          <a:xfrm>
            <a:off x="2514600" y="464832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he General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Down Arrow 15"/>
          <p:cNvSpPr/>
          <p:nvPr/>
        </p:nvSpPr>
        <p:spPr>
          <a:xfrm>
            <a:off x="2666880" y="4419720"/>
            <a:ext cx="45720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 Variable Consumption Rate for a Material Resour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4867200" cy="309564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ntering Material Resource R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7" name="Line Callout 1 (Accent Bar) 6"/>
          <p:cNvSpPr/>
          <p:nvPr/>
        </p:nvSpPr>
        <p:spPr>
          <a:xfrm>
            <a:off x="1066680" y="1981080"/>
            <a:ext cx="1371600" cy="166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93200" y="20172"/>
                </a:moveTo>
                <a:lnTo>
                  <a:pt x="22800" y="1409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ou cannot edit the assignment cost directly because it is a calculated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Callout 1 (Accent Bar) 6"/>
          <p:cNvSpPr/>
          <p:nvPr/>
        </p:nvSpPr>
        <p:spPr>
          <a:xfrm>
            <a:off x="1143000" y="4343400"/>
            <a:ext cx="137160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90175" y="10500"/>
                </a:moveTo>
                <a:lnTo>
                  <a:pt x="22800" y="36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lick OK when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 Variable Consumption Rate for a Material Resour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14:18Z</dcterms:created>
  <dc:creator/>
  <dc:description/>
  <dc:language>en-US</dc:language>
  <cp:lastModifiedBy>Custom Editorial Productions</cp:lastModifiedBy>
  <dcterms:modified xsi:type="dcterms:W3CDTF">2007-06-13T16:34:56Z</dcterms:modified>
  <cp:revision>222</cp:revision>
  <dc:subject/>
  <dc:title>Project Basics</dc:title>
</cp:coreProperties>
</file>