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C7EF-6CA5-4B7F-934A-B51158A45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C55C-9BD9-48AD-AA53-EE222922235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6CAE-AF85-4C86-9506-ED7B77F8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936EC-A017-4C7F-A0DE-5894FA2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EC2A4-F7DF-413F-B7EF-D9D4DB7D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D6D3-BC63-4F05-8DAC-7195E60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93F1-5114-48C0-95FE-62860D8D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AAB7-DA5A-4361-83F5-2AD2824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B8D5-A0FC-4CEC-A0A6-11F2236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4489-D4C4-4AB3-B718-B8BB9F0F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DE97A-493F-4D53-ACAF-EE015E4D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E881-FC1A-45EF-8E56-40438488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AAD7-C831-4510-9C1E-7C3B0CB8091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40C3F-66C5-448B-A2D0-799A8E61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B1155-872C-4D7C-B6B9-DC86004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4F293-33B2-4325-B782-14CF4D9A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AE58D-637F-4903-8498-73661E3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EBB1-468A-4EDD-97DC-ACC03F6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3B50E-52AB-41B9-A66E-4FCB2FF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D9BB1-6DD9-43AD-B5B9-947525A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CB5D3-AD90-4475-A5F9-F3967B38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D20D7-E749-41E3-826D-41C50B8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E114-4580-4D1A-84BB-0525FF4E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76D7-2087-4C39-B8A5-ADD68DC62A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ECC23-3888-4EDF-B1A8-D70E2825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FDF7-E553-4A65-89D6-09350F62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B0435-A8C9-4241-949D-83D9B8C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E88A7-205A-45B4-B5B9-EF425AAA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D2429-EB47-42E8-8E6D-A44411BF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B559B-50B6-4143-B44A-8F289C4F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24708-C84F-4AAE-8C6D-C73B4A3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F0CA9-E100-422F-8348-0A04E51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2C173-9832-434D-913B-CCA4A8E5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F18F1-51A2-416A-99B2-DAEDF7D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C591E-1AFB-415F-813E-BA83ED4A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6E6D0-CE9C-4866-AFBB-F2DEDEDA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1632E-60E2-400C-946C-DDB2057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9193-FD4D-4F93-8C90-B4A1F424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62FEB-B21F-492D-8484-AE30D98D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47169-8B0D-4DA6-9D9B-92088F3E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E4A35-631A-45C8-92BB-3D934D8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7CAF6-B943-4CCD-8F35-772B8037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C2D0B-3C50-49CA-95E2-1CAF680E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8811-9D7B-4683-A8EE-A98CFB8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AC3EB-1B2C-4BCD-960D-4F9A9B2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D19D4-AF3C-4FB8-A9CE-BC1E59F1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5F7F1-E7B8-4500-8598-66BFC95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D3B83-8431-4889-BEAC-E7A3224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DBF27-D4CC-47B6-BFEE-3465A0A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53B7E-FA75-42F1-A69D-732492B8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31F3D-A502-4FAE-A86B-1CB9A0A5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44FFD-B8AE-4D8B-A4F0-8B5C36B2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4C1D0-0F85-4526-A357-9B27CA9B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4F898-7126-4F3B-9FED-FDC9A79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5831-340F-4865-AB1D-0216CBE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A2AE8-70AB-451F-8E7F-2BD85BB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F0DE-11F3-4D21-BB65-CB6BDED0B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4E5E3-93CB-4C30-BEC0-63C7D52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6A832-66B7-47BE-B13F-CE07F83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32DA9-143B-4F2A-BB81-8A9C10C8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99565-CB33-4625-90D0-C0F6D2BF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02458-EA6B-45AC-9B81-AFF6AE3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BEE9-336E-4C91-AC02-E120EB7137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681BA-5E48-4383-9D52-0E3B8E2673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99888-C23A-4D58-A685-BF899EE5C3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625FA-F3D6-4E30-8250-6E77544EE7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ED0F4-CFA7-4EA9-A603-1FC93ED64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DC9C-14E3-4068-AA79-77DE6F76AE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323A9-2AEE-4D90-9221-805825AB9B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35DBC-678A-426C-B575-A865A56A63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B242B-CE3B-44ED-8A69-072D9B3936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36D85-4917-4B61-A6ED-AF331A6BB7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BE7FD-5094-4C44-9EBD-75AEFEDF29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606A0-8DD1-42EF-8A0B-F210EF4E47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4E066-08A9-49A0-B7D7-E8E0E10419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B246A-F482-496F-8EF0-4C7C1861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BCDED-30F5-4C32-B330-C69D8399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69A18-701F-47D4-A985-FC93DEF4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FC31-D152-4749-8DB4-8E9716A8A7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A4E2F-880A-4412-89E0-913CE3E6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49898-0316-4132-A773-26E48D17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7CD3B-6B22-4478-9314-1196149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60A80-FE72-47C0-9CA6-9C5CF6C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479F1-BDA9-430B-9D22-8D7F182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7EC1A-002E-4A1E-AF07-BBEA79E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B6FB8-1DA4-4912-BE75-7BDBCD12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E9510-7CAF-4FDC-A806-37ADDB3A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9CDC5-11A3-4276-9133-B3B65A10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F430-6EBA-46B2-A4F6-A29F2CAE3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1337-301E-4970-9B1A-C188A3BF18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C33E-46DE-4A5F-8AE6-EB9712B8C8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1E91-C88D-4C5C-8B9D-535C930BA0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E900-B411-4E6A-80E7-E94375575D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5A1B-3DB6-495D-9D32-7A0DC5FA4E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7C0D-4AB4-4129-9C00-543E990DE5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D8F0-5F6D-42DC-BF39-F1C4B5638CC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39BB-5726-412C-8D1F-1DB8A2AC3D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40D8-C4E2-48F1-B4FC-116D1F7A86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6ACF-F5A9-480A-9786-A682DA4393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9DC95-3C12-4930-B4E8-3B5578CDE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475E-3F3F-4A83-93D9-A8B8B0C162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BB72-8A3D-4704-B5D5-C171CC494D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1DB0-4AA5-4AA5-8D62-0CA6CE59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FCD1-4DEF-4F4F-983B-E23FAE5D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AF65-4AD5-4A65-950C-7E03077B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D3AA-F20A-411A-A25C-BCFE7A5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1C12-50A7-492B-AB84-5143B60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BF43-CE64-489D-A78C-4AAF341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9FF8-ED67-4E9B-8CC4-16D17AD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0AEB-266B-49E5-963A-4CD4B9B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48C9-A704-488A-9F59-861D4C6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C9BE-680D-4D86-B616-67495F554DB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53F7-2A7C-4D11-9792-4223881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EFCF-F0A5-42E5-A4EA-1EB93A84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DD53-DDDC-482B-995B-022096C6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D289-9836-45D8-96BA-FE8D2A3F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BDE7-F413-453B-BCB7-6C4068D2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28E1-4C5A-4458-AB2B-83572ED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694A2-5C37-4BD0-991B-FDC1AC9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E18B-0D38-45BC-BAD1-A6F5E72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DAC2-3785-411D-89FF-8452E657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13D3-1DA4-4596-AADA-27F3A34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D414-603B-4B6A-869E-C74A7F1906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A972-EFFD-464D-8C0E-29D21A5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B2D8-467A-40B6-A7E8-B6CBC67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17AF2-8F74-4780-97E3-3C11AB4C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6702-256A-4155-80E4-4ABAFFCF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1071-6B88-4E4F-8176-F9107415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8C22-C002-457F-A31C-F90E6F74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2D29C-8892-4BEA-89A0-B9B4A4F8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0FE2-CE44-448B-99E6-E39ED15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7207A-403D-4191-958E-9408F417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317E-AB40-4107-BDCB-35A11C5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082D-5F21-41F4-9934-2C8DD0ADE3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299B-A18A-4D88-99CC-F6204DD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73E0-6AEE-4F7C-8CA7-41E5B1A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7B56C-EB59-4F98-9CDD-A5AB8263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2855-EBAC-460E-9CEA-3B9BE42C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DAE2-E9D8-4730-88CD-DC0769F2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2D3B-05F5-4DAE-AA94-41D3CAD5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873A-D3C1-4A60-B3DE-99B4E5A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A053-E737-4810-A018-9F0191E9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E835-D1E4-4EA7-81C4-C4CAA00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E048-459C-4793-A72D-A2842820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37AC-0C9E-41FA-AAE9-0EC170197C4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B220-9736-4936-B4BD-6E17D11115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875F-13F3-4E7F-B750-486033E1BC1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440-110A-40C9-8805-DC7F49CEC02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088B-57F0-448E-9D2B-0FFD6BE1F8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41FE-14DF-401B-BE42-07AA61776CA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6B3-126B-4D0A-9CC9-C18111EDC02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AF02-D64C-40F9-866E-FC5FFC8658E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C8ED-2C38-428A-A4F4-388BBD30D44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C4A-1D64-4C01-A127-710ADFD4403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EED-6BE4-4ED2-83E3-46D951F50CE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916-0278-4AD8-9776-C4A281F1583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Fine-Tuning Task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1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1" name="Rounded Rectangle 7"/>
          <p:cNvSpPr/>
          <p:nvPr/>
        </p:nvSpPr>
        <p:spPr>
          <a:xfrm>
            <a:off x="1676520" y="228600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ntinue. Allow the scheduling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ontent Placeholder 5"/>
          <p:cNvSpPr/>
          <p:nvPr/>
        </p:nvSpPr>
        <p:spPr>
          <a:xfrm>
            <a:off x="1981080" y="16002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cond alert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ounded Rectangle 8"/>
          <p:cNvSpPr/>
          <p:nvPr/>
        </p:nvSpPr>
        <p:spPr>
          <a:xfrm>
            <a:off x="3124080" y="33526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Down Arrow 10"/>
          <p:cNvSpPr/>
          <p:nvPr/>
        </p:nvSpPr>
        <p:spPr>
          <a:xfrm>
            <a:off x="3657600" y="3124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87" name="Text Placeholder 3" descr=""/>
          <p:cNvPicPr/>
          <p:nvPr/>
        </p:nvPicPr>
        <p:blipFill>
          <a:blip r:embed="rId1"/>
          <a:srcRect l="0" t="0" r="0" b="50885"/>
          <a:stretch/>
        </p:blipFill>
        <p:spPr>
          <a:xfrm>
            <a:off x="1295280" y="3048120"/>
            <a:ext cx="6747120" cy="2287440"/>
          </a:xfrm>
          <a:prstGeom prst="rect">
            <a:avLst/>
          </a:prstGeom>
          <a:ln w="0">
            <a:noFill/>
          </a:ln>
        </p:spPr>
      </p:pic>
      <p:sp>
        <p:nvSpPr>
          <p:cNvPr id="588" name="Line Callout 1 (Accent Bar) 6"/>
          <p:cNvSpPr/>
          <p:nvPr/>
        </p:nvSpPr>
        <p:spPr>
          <a:xfrm>
            <a:off x="2057400" y="1676520"/>
            <a:ext cx="121932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78" y="53475"/>
                </a:moveTo>
                <a:lnTo>
                  <a:pt x="-1350" y="27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NLT constraint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Callout 1 (Accent Bar) 6"/>
          <p:cNvSpPr/>
          <p:nvPr/>
        </p:nvSpPr>
        <p:spPr>
          <a:xfrm>
            <a:off x="5943600" y="1676520"/>
            <a:ext cx="198108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25" y="54675"/>
                </a:moveTo>
                <a:lnTo>
                  <a:pt x="-831" y="2700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rescheduled to start on Thursday, January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2" name="Rounded Rectangle 7"/>
          <p:cNvSpPr/>
          <p:nvPr/>
        </p:nvSpPr>
        <p:spPr>
          <a:xfrm>
            <a:off x="1143000" y="2209680"/>
            <a:ext cx="2743200" cy="5763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6"/>
          <p:cNvSpPr/>
          <p:nvPr/>
        </p:nvSpPr>
        <p:spPr>
          <a:xfrm>
            <a:off x="533520" y="1573200"/>
            <a:ext cx="2209680" cy="484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8"/>
          <p:cNvSpPr/>
          <p:nvPr/>
        </p:nvSpPr>
        <p:spPr>
          <a:xfrm>
            <a:off x="1981080" y="2908440"/>
            <a:ext cx="39625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chedule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own Arrow 10"/>
          <p:cNvSpPr/>
          <p:nvPr/>
        </p:nvSpPr>
        <p:spPr>
          <a:xfrm>
            <a:off x="1523880" y="1994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own Arrow 14"/>
          <p:cNvSpPr/>
          <p:nvPr/>
        </p:nvSpPr>
        <p:spPr>
          <a:xfrm>
            <a:off x="2362320" y="27558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8"/>
          <p:cNvSpPr/>
          <p:nvPr/>
        </p:nvSpPr>
        <p:spPr>
          <a:xfrm>
            <a:off x="3276720" y="3670200"/>
            <a:ext cx="5257800" cy="978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ear the Tasks will always honor their constraint date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own Arrow 14"/>
          <p:cNvSpPr/>
          <p:nvPr/>
        </p:nvSpPr>
        <p:spPr>
          <a:xfrm>
            <a:off x="3657600" y="34416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ounded Rectangle 8"/>
          <p:cNvSpPr/>
          <p:nvPr/>
        </p:nvSpPr>
        <p:spPr>
          <a:xfrm>
            <a:off x="4267080" y="48006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Down Arrow 10"/>
          <p:cNvSpPr/>
          <p:nvPr/>
        </p:nvSpPr>
        <p:spPr>
          <a:xfrm>
            <a:off x="4419720" y="4572000"/>
            <a:ext cx="457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3" name="Rounded Rectangle 6"/>
          <p:cNvSpPr/>
          <p:nvPr/>
        </p:nvSpPr>
        <p:spPr>
          <a:xfrm>
            <a:off x="1143000" y="1828800"/>
            <a:ext cx="6629400" cy="1117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t the mouse pointer on the calendar alert icon in the Indicator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Content Placeholder 5"/>
          <p:cNvSpPr/>
          <p:nvPr/>
        </p:nvSpPr>
        <p:spPr>
          <a:xfrm>
            <a:off x="2362320" y="35812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reenTip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07" name="Text Placeholder 3" descr=""/>
          <p:cNvPicPr/>
          <p:nvPr/>
        </p:nvPicPr>
        <p:blipFill>
          <a:blip r:embed="rId1"/>
          <a:srcRect l="0" t="0" r="0" b="48650"/>
          <a:stretch/>
        </p:blipFill>
        <p:spPr>
          <a:xfrm>
            <a:off x="1447920" y="2895480"/>
            <a:ext cx="6234120" cy="2311560"/>
          </a:xfrm>
          <a:prstGeom prst="rect">
            <a:avLst/>
          </a:prstGeom>
          <a:ln w="0">
            <a:noFill/>
          </a:ln>
        </p:spPr>
      </p:pic>
      <p:sp>
        <p:nvSpPr>
          <p:cNvPr id="608" name="Line Callout 1 (Accent Bar) 6"/>
          <p:cNvSpPr/>
          <p:nvPr/>
        </p:nvSpPr>
        <p:spPr>
          <a:xfrm>
            <a:off x="2514600" y="1600200"/>
            <a:ext cx="289548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17" y="47146"/>
                </a:moveTo>
                <a:lnTo>
                  <a:pt x="-568" y="2492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alendar alert icon and Screen Tip notify you that Project will honor task relationship over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Callout 1 (Accent Bar) 6"/>
          <p:cNvSpPr/>
          <p:nvPr/>
        </p:nvSpPr>
        <p:spPr>
          <a:xfrm>
            <a:off x="6705720" y="1752480"/>
            <a:ext cx="167616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930" y="45375"/>
                </a:moveTo>
                <a:lnTo>
                  <a:pt x="-982" y="270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rting date is reset to original starting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2" name="Rounded Rectangle 7"/>
          <p:cNvSpPr/>
          <p:nvPr/>
        </p:nvSpPr>
        <p:spPr>
          <a:xfrm>
            <a:off x="1143000" y="2209680"/>
            <a:ext cx="2743200" cy="5763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6"/>
          <p:cNvSpPr/>
          <p:nvPr/>
        </p:nvSpPr>
        <p:spPr>
          <a:xfrm>
            <a:off x="533520" y="1573200"/>
            <a:ext cx="2209680" cy="484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8"/>
          <p:cNvSpPr/>
          <p:nvPr/>
        </p:nvSpPr>
        <p:spPr>
          <a:xfrm>
            <a:off x="1981080" y="2908440"/>
            <a:ext cx="39625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chedule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own Arrow 10"/>
          <p:cNvSpPr/>
          <p:nvPr/>
        </p:nvSpPr>
        <p:spPr>
          <a:xfrm>
            <a:off x="1523880" y="1994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wn Arrow 14"/>
          <p:cNvSpPr/>
          <p:nvPr/>
        </p:nvSpPr>
        <p:spPr>
          <a:xfrm>
            <a:off x="2362320" y="27558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ounded Rectangle 8"/>
          <p:cNvSpPr/>
          <p:nvPr/>
        </p:nvSpPr>
        <p:spPr>
          <a:xfrm>
            <a:off x="3276720" y="3670200"/>
            <a:ext cx="5257800" cy="978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Tasks will always honor their constraint date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own Arrow 14"/>
          <p:cNvSpPr/>
          <p:nvPr/>
        </p:nvSpPr>
        <p:spPr>
          <a:xfrm>
            <a:off x="3657600" y="34416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8"/>
          <p:cNvSpPr/>
          <p:nvPr/>
        </p:nvSpPr>
        <p:spPr>
          <a:xfrm>
            <a:off x="4267080" y="48006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own Arrow 10"/>
          <p:cNvSpPr/>
          <p:nvPr/>
        </p:nvSpPr>
        <p:spPr>
          <a:xfrm>
            <a:off x="4419720" y="4572000"/>
            <a:ext cx="4572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3" name="Content Placeholder 5"/>
          <p:cNvSpPr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four possible types of tas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sh-to-Start (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-to-Start (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sh-to-Finish (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-to-Finish (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6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three different types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mi-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9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oon As Possible (A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Late As Possible (AL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2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mi-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No Earlier Than (S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No Later Than (SN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sh No Earlier Than (F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sh No Later Than (FN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67652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age task constraints and depend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e the effects of constraints and dependencies on task schedu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deadline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a deadline date for a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57200" y="3276720"/>
          <a:ext cx="8229600" cy="5331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task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task pri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5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Start On (M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Finish On (M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8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use both constraints and dependencies within the sa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possible, use task dependencies and avoid semi-flexible or inflexib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always honors constraint dates over task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1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recommended to use the default behavior of honoring constraint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ways set task relationships first, then apply constraints only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constraints you apply affect the overall schedule, not just the task to which you have applied th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etting Deadline D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4" name="Rounded Rectangle 7"/>
          <p:cNvSpPr/>
          <p:nvPr/>
        </p:nvSpPr>
        <p:spPr>
          <a:xfrm>
            <a:off x="295596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6"/>
          <p:cNvSpPr/>
          <p:nvPr/>
        </p:nvSpPr>
        <p:spPr>
          <a:xfrm>
            <a:off x="2362320" y="16765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ounded Rectangle 8"/>
          <p:cNvSpPr/>
          <p:nvPr/>
        </p:nvSpPr>
        <p:spPr>
          <a:xfrm>
            <a:off x="3505320" y="327672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own Arrow 10"/>
          <p:cNvSpPr/>
          <p:nvPr/>
        </p:nvSpPr>
        <p:spPr>
          <a:xfrm>
            <a:off x="297180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Down Arrow 14"/>
          <p:cNvSpPr/>
          <p:nvPr/>
        </p:nvSpPr>
        <p:spPr>
          <a:xfrm>
            <a:off x="350532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Placeholder 3"/>
          <p:cNvSpPr/>
          <p:nvPr/>
        </p:nvSpPr>
        <p:spPr>
          <a:xfrm>
            <a:off x="503280" y="538200"/>
            <a:ext cx="818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a Deadline Date for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ounded Rectangle 8"/>
          <p:cNvSpPr/>
          <p:nvPr/>
        </p:nvSpPr>
        <p:spPr>
          <a:xfrm>
            <a:off x="3962520" y="411480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own Arrow 14"/>
          <p:cNvSpPr/>
          <p:nvPr/>
        </p:nvSpPr>
        <p:spPr>
          <a:xfrm>
            <a:off x="396252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etting Deadline D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3" name="Rounded Rectangle 7"/>
          <p:cNvSpPr/>
          <p:nvPr/>
        </p:nvSpPr>
        <p:spPr>
          <a:xfrm>
            <a:off x="1447920" y="2481120"/>
            <a:ext cx="388620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et deadlines and constraint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6"/>
          <p:cNvSpPr/>
          <p:nvPr/>
        </p:nvSpPr>
        <p:spPr>
          <a:xfrm>
            <a:off x="838080" y="1676520"/>
            <a:ext cx="5410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s on the Projec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ounded Rectangle 8"/>
          <p:cNvSpPr/>
          <p:nvPr/>
        </p:nvSpPr>
        <p:spPr>
          <a:xfrm>
            <a:off x="2057400" y="3505320"/>
            <a:ext cx="45720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4/30/08 in the date box under Set a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own Arrow 10"/>
          <p:cNvSpPr/>
          <p:nvPr/>
        </p:nvSpPr>
        <p:spPr>
          <a:xfrm>
            <a:off x="175248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own Arrow 14"/>
          <p:cNvSpPr/>
          <p:nvPr/>
        </p:nvSpPr>
        <p:spPr>
          <a:xfrm>
            <a:off x="228600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a Deadline Date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etting Deadline D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60" name="Text Placeholder 3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164200" cy="3563640"/>
          </a:xfrm>
          <a:prstGeom prst="rect">
            <a:avLst/>
          </a:prstGeom>
          <a:ln w="0">
            <a:noFill/>
          </a:ln>
        </p:spPr>
      </p:pic>
      <p:sp>
        <p:nvSpPr>
          <p:cNvPr id="661" name="Line Callout 1 (Accent Bar) 6"/>
          <p:cNvSpPr/>
          <p:nvPr/>
        </p:nvSpPr>
        <p:spPr>
          <a:xfrm>
            <a:off x="685800" y="2133720"/>
            <a:ext cx="167652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4416" y="28575"/>
                </a:moveTo>
                <a:lnTo>
                  <a:pt x="22582" y="27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adline marker assigned to task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a Deadline Date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etting Deadline D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4" name="Rounded Rectangle 7"/>
          <p:cNvSpPr/>
          <p:nvPr/>
        </p:nvSpPr>
        <p:spPr>
          <a:xfrm>
            <a:off x="2209680" y="3581280"/>
            <a:ext cx="541044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on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ink in the Deadlines and Constraint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ounded Rectangle 6"/>
          <p:cNvSpPr/>
          <p:nvPr/>
        </p:nvSpPr>
        <p:spPr>
          <a:xfrm>
            <a:off x="838080" y="1676520"/>
            <a:ext cx="4572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task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ounded Rectangle 8"/>
          <p:cNvSpPr/>
          <p:nvPr/>
        </p:nvSpPr>
        <p:spPr>
          <a:xfrm>
            <a:off x="1295280" y="2514600"/>
            <a:ext cx="45720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/23/08 in the date box under Set a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own Arrow 10"/>
          <p:cNvSpPr/>
          <p:nvPr/>
        </p:nvSpPr>
        <p:spPr>
          <a:xfrm>
            <a:off x="175248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own Arrow 14"/>
          <p:cNvSpPr/>
          <p:nvPr/>
        </p:nvSpPr>
        <p:spPr>
          <a:xfrm>
            <a:off x="259092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a Deadline Date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etting Deadline D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1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on mistake of inexperienced Project users is to place semi-flexible or inflexible constraints on too many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constraints greatly limit scheduling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etter way is to use the default ASAP constraint and then enter a deadline for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a Deadline Date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etting Deadline D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4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d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date value you enter for a task that indicates the latest date by which you want the task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eadline date itself does not constrain the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displays a deadline marker on the Gantt chart and alerts you if the task’s finish date moves beyond the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t a Deadline Date for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Task Priorit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7" name="Rounded Rectangle 7"/>
          <p:cNvSpPr/>
          <p:nvPr/>
        </p:nvSpPr>
        <p:spPr>
          <a:xfrm>
            <a:off x="1127160" y="2405160"/>
            <a:ext cx="5425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Task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ounded Rectangle 6"/>
          <p:cNvSpPr/>
          <p:nvPr/>
        </p:nvSpPr>
        <p:spPr>
          <a:xfrm>
            <a:off x="533520" y="1676520"/>
            <a:ext cx="44193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tas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ounded Rectangle 8"/>
          <p:cNvSpPr/>
          <p:nvPr/>
        </p:nvSpPr>
        <p:spPr>
          <a:xfrm>
            <a:off x="1676520" y="3200400"/>
            <a:ext cx="3581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Gener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own Arrow 10"/>
          <p:cNvSpPr/>
          <p:nvPr/>
        </p:nvSpPr>
        <p:spPr>
          <a:xfrm>
            <a:off x="11430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own Arrow 14"/>
          <p:cNvSpPr/>
          <p:nvPr/>
        </p:nvSpPr>
        <p:spPr>
          <a:xfrm>
            <a:off x="167652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Placeholder 3"/>
          <p:cNvSpPr/>
          <p:nvPr/>
        </p:nvSpPr>
        <p:spPr>
          <a:xfrm>
            <a:off x="503280" y="538200"/>
            <a:ext cx="818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Task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ounded Rectangle 7"/>
          <p:cNvSpPr/>
          <p:nvPr/>
        </p:nvSpPr>
        <p:spPr>
          <a:xfrm>
            <a:off x="2270160" y="4005360"/>
            <a:ext cx="46641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000 in the Priority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own Arrow 10"/>
          <p:cNvSpPr/>
          <p:nvPr/>
        </p:nvSpPr>
        <p:spPr>
          <a:xfrm>
            <a:off x="2286000" y="37591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451400" cy="27687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8" name="Line Callout 1 (Accent Bar) 6"/>
          <p:cNvSpPr/>
          <p:nvPr/>
        </p:nvSpPr>
        <p:spPr>
          <a:xfrm>
            <a:off x="3657600" y="1676520"/>
            <a:ext cx="121932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28" y="77625"/>
                </a:moveTo>
                <a:lnTo>
                  <a:pt x="-1350" y="81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Callout 1 (Accent Bar) 6"/>
          <p:cNvSpPr/>
          <p:nvPr/>
        </p:nvSpPr>
        <p:spPr>
          <a:xfrm>
            <a:off x="533520" y="3809880"/>
            <a:ext cx="1523880" cy="14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618" y="47"/>
                </a:moveTo>
                <a:lnTo>
                  <a:pt x="22680" y="1705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pecifies whether you want subtasks rolled up to the summary task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Callout 1 (Accent Bar) 6"/>
          <p:cNvSpPr/>
          <p:nvPr/>
        </p:nvSpPr>
        <p:spPr>
          <a:xfrm>
            <a:off x="609480" y="167652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75" y="64350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an range from 0–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Callout 1 (Accent Bar) 6"/>
          <p:cNvSpPr/>
          <p:nvPr/>
        </p:nvSpPr>
        <p:spPr>
          <a:xfrm>
            <a:off x="457200" y="2362320"/>
            <a:ext cx="16002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036" y="23340"/>
                </a:moveTo>
                <a:lnTo>
                  <a:pt x="22629" y="2160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ides the task bar when viewing the Gantt Chart or Calenda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Callout 1 (Accent Bar) 6"/>
          <p:cNvSpPr/>
          <p:nvPr/>
        </p:nvSpPr>
        <p:spPr>
          <a:xfrm>
            <a:off x="6400800" y="1676520"/>
            <a:ext cx="12193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28" y="53550"/>
                </a:moveTo>
                <a:lnTo>
                  <a:pt x="-1350" y="54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Callout 1 (Accent Bar) 6"/>
          <p:cNvSpPr/>
          <p:nvPr/>
        </p:nvSpPr>
        <p:spPr>
          <a:xfrm>
            <a:off x="6934320" y="2362320"/>
            <a:ext cx="15238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63" y="13300"/>
                </a:moveTo>
                <a:lnTo>
                  <a:pt x="-1080" y="36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here if Duration is esti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Callout 1 (Accent Bar) 6"/>
          <p:cNvSpPr/>
          <p:nvPr/>
        </p:nvSpPr>
        <p:spPr>
          <a:xfrm>
            <a:off x="7010280" y="3657600"/>
            <a:ext cx="1524240" cy="102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203" y="-11644"/>
                </a:moveTo>
                <a:lnTo>
                  <a:pt x="-1080" y="2025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Priority can range from 1–1000, default is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’s Task Information Dialog Box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—General Tab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Task Priorit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6" name="Text Placeholder 3"/>
          <p:cNvSpPr/>
          <p:nvPr/>
        </p:nvSpPr>
        <p:spPr>
          <a:xfrm>
            <a:off x="503280" y="538200"/>
            <a:ext cx="818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Task Prior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Text Placeholder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924520" cy="3686040"/>
          </a:xfrm>
          <a:prstGeom prst="rect">
            <a:avLst/>
          </a:prstGeom>
          <a:ln w="0">
            <a:noFill/>
          </a:ln>
        </p:spPr>
      </p:pic>
      <p:sp>
        <p:nvSpPr>
          <p:cNvPr id="688" name="Line Callout 1 (Accent Bar) 6"/>
          <p:cNvSpPr/>
          <p:nvPr/>
        </p:nvSpPr>
        <p:spPr>
          <a:xfrm>
            <a:off x="6934320" y="1676520"/>
            <a:ext cx="16761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84" y="20775"/>
                </a:moveTo>
                <a:lnTo>
                  <a:pt x="-982" y="270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priority of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Callout 1 (Accent Bar) 6"/>
          <p:cNvSpPr/>
          <p:nvPr/>
        </p:nvSpPr>
        <p:spPr>
          <a:xfrm>
            <a:off x="6934320" y="4267080"/>
            <a:ext cx="16761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311" y="17175"/>
                </a:moveTo>
                <a:lnTo>
                  <a:pt x="-982" y="270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Task Priorit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1" name="Text Placeholder 3"/>
          <p:cNvSpPr/>
          <p:nvPr/>
        </p:nvSpPr>
        <p:spPr>
          <a:xfrm>
            <a:off x="503280" y="538200"/>
            <a:ext cx="818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Task Priorit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 level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s of delaying a resource’s work on a task to resolve an over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 leveling m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lay the start date of an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lay the start date of entire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lit up the work on a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Task Priorit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4" name="Text Placeholder 3"/>
          <p:cNvSpPr/>
          <p:nvPr/>
        </p:nvSpPr>
        <p:spPr>
          <a:xfrm>
            <a:off x="503280" y="538200"/>
            <a:ext cx="8183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Task Priorit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Content Placeholder 5"/>
          <p:cNvSpPr/>
          <p:nvPr/>
        </p:nvSpPr>
        <p:spPr>
          <a:xfrm>
            <a:off x="609480" y="167652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pri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umeric ranking between 1 and 1000 of a task’s importance and appropriateness for lev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s with priority 0 are leveled first, so they are likely to be delayed by lev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ask with a priority of 1000 is never delayed by leveling. Use this assignment with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ask constraints and depend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deadline 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task prior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7" name="Rounded Rectangle 6"/>
          <p:cNvSpPr/>
          <p:nvPr/>
        </p:nvSpPr>
        <p:spPr>
          <a:xfrm>
            <a:off x="914400" y="1752480"/>
            <a:ext cx="7162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you are in the Gantt Char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7"/>
          <p:cNvSpPr/>
          <p:nvPr/>
        </p:nvSpPr>
        <p:spPr>
          <a:xfrm>
            <a:off x="1508040" y="2557440"/>
            <a:ext cx="6188040" cy="1023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the start-to-finish dependency between task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own Arrow 10"/>
          <p:cNvSpPr/>
          <p:nvPr/>
        </p:nvSpPr>
        <p:spPr>
          <a:xfrm>
            <a:off x="1523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Task Schedu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rcRect l="0" t="0" r="0" b="50885"/>
          <a:stretch/>
        </p:blipFill>
        <p:spPr>
          <a:xfrm>
            <a:off x="1447920" y="3124080"/>
            <a:ext cx="6472080" cy="2194200"/>
          </a:xfrm>
          <a:prstGeom prst="rect">
            <a:avLst/>
          </a:prstGeom>
          <a:ln w="0">
            <a:noFill/>
          </a:ln>
        </p:spPr>
      </p:pic>
      <p:sp>
        <p:nvSpPr>
          <p:cNvPr id="553" name="Line Callout 1 (Accent Bar) 6"/>
          <p:cNvSpPr/>
          <p:nvPr/>
        </p:nvSpPr>
        <p:spPr>
          <a:xfrm>
            <a:off x="1523880" y="1752480"/>
            <a:ext cx="167652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470" y="51075"/>
                </a:moveTo>
                <a:lnTo>
                  <a:pt x="22582" y="27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rt-to-finish dependency between tasks 3 and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6" name="Rounded Rectangle 7"/>
          <p:cNvSpPr/>
          <p:nvPr/>
        </p:nvSpPr>
        <p:spPr>
          <a:xfrm>
            <a:off x="1447920" y="248112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Task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838080" y="1676520"/>
            <a:ext cx="4419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task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8"/>
          <p:cNvSpPr/>
          <p:nvPr/>
        </p:nvSpPr>
        <p:spPr>
          <a:xfrm>
            <a:off x="2286000" y="3276720"/>
            <a:ext cx="3962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dvanced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own Arrow 10"/>
          <p:cNvSpPr/>
          <p:nvPr/>
        </p:nvSpPr>
        <p:spPr>
          <a:xfrm>
            <a:off x="182880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own Arrow 14"/>
          <p:cNvSpPr/>
          <p:nvPr/>
        </p:nvSpPr>
        <p:spPr>
          <a:xfrm>
            <a:off x="26668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ounded Rectangle 8"/>
          <p:cNvSpPr/>
          <p:nvPr/>
        </p:nvSpPr>
        <p:spPr>
          <a:xfrm>
            <a:off x="3962520" y="41148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own Arrow 14"/>
          <p:cNvSpPr/>
          <p:nvPr/>
        </p:nvSpPr>
        <p:spPr>
          <a:xfrm>
            <a:off x="396252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5" name="Rounded Rectangle 7"/>
          <p:cNvSpPr/>
          <p:nvPr/>
        </p:nvSpPr>
        <p:spPr>
          <a:xfrm>
            <a:off x="1828800" y="2773440"/>
            <a:ext cx="4952880" cy="1100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Constraint date box, key January 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6"/>
          <p:cNvSpPr/>
          <p:nvPr/>
        </p:nvSpPr>
        <p:spPr>
          <a:xfrm>
            <a:off x="1219320" y="1600200"/>
            <a:ext cx="4800600" cy="1054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Constraint type box, select Start No L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0"/>
          <p:cNvSpPr/>
          <p:nvPr/>
        </p:nvSpPr>
        <p:spPr>
          <a:xfrm>
            <a:off x="2209680" y="252720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ounded Rectangle 8"/>
          <p:cNvSpPr/>
          <p:nvPr/>
        </p:nvSpPr>
        <p:spPr>
          <a:xfrm>
            <a:off x="2743200" y="40384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4"/>
          <p:cNvSpPr/>
          <p:nvPr/>
        </p:nvSpPr>
        <p:spPr>
          <a:xfrm>
            <a:off x="2971800" y="37972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762120" y="1981080"/>
            <a:ext cx="1752480" cy="520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Planning Wizard app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Text Placeholder 3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5465520" cy="3446640"/>
          </a:xfrm>
          <a:prstGeom prst="rect">
            <a:avLst/>
          </a:prstGeom>
          <a:ln w="0">
            <a:noFill/>
          </a:ln>
        </p:spPr>
      </p:pic>
      <p:sp>
        <p:nvSpPr>
          <p:cNvPr id="57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ounded Rectangle 8"/>
          <p:cNvSpPr/>
          <p:nvPr/>
        </p:nvSpPr>
        <p:spPr>
          <a:xfrm>
            <a:off x="3505320" y="29718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e Constraints and Dependenci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7" name="Rounded Rectangle 6"/>
          <p:cNvSpPr/>
          <p:nvPr/>
        </p:nvSpPr>
        <p:spPr>
          <a:xfrm>
            <a:off x="1371600" y="1752480"/>
            <a:ext cx="6324480" cy="1117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You can, click Continue. A Start No Later Than constraint will b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own Arrow 10"/>
          <p:cNvSpPr/>
          <p:nvPr/>
        </p:nvSpPr>
        <p:spPr>
          <a:xfrm>
            <a:off x="3886200" y="2743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lore Effects of Constraints and Dependencies on Schedul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2T20:44:35Z</dcterms:modified>
  <cp:revision>210</cp:revision>
  <dc:subject/>
  <dc:title>Project Basics</dc:title>
</cp:coreProperties>
</file>