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4BB8-CE65-47CC-9977-3795D4F4A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3CC0-BCDA-4E50-9408-65C05402C4A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E6910-D8BB-4755-9B26-5008CB5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673E6-551C-42EE-80FB-86169B40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2B0DC-A865-4470-A3DF-57B21503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EF662-1941-42AB-BE72-22305A89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4837C-6ADA-42BF-BD42-8B2CCB27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92DE7-45B1-4DD9-8950-B44937BF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4D40B-25D1-4F94-BC5A-4F7F3A6C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1C72D-6084-4899-9432-0F81B272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0DEBF-D0C4-463C-BE09-33C0717D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68F49-7E86-4811-9D5A-7E2573B4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D54E-5963-46D8-91EB-51F96B5359D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B8F3F-E666-4783-BC04-98380ED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772EA-B091-469F-81CA-8FCF6F68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F561D-A92A-49D3-B49B-C36360D0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7ACB6-2F6E-49BC-B5F4-310912DA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9EA41-C2A6-40DF-9DFA-DBB0225E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3658E-9619-4548-8A49-D5742BF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DB89E-D520-440F-9DCC-41FBB9E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E8C87-6AA0-4659-826E-749B1BC5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980BE-0BA8-4DFD-8846-7412EFE1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50F9-A6C8-4617-B127-7CB51112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1D84-1C69-49DE-91A1-1DD7CA127F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5C325-1373-44C5-BD3C-076071CD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3628D-42F1-4C8F-8077-43989A0C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677C9-6DE2-4C05-AA00-37FFD55D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75269-B261-4A5B-A30D-2F6913A2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E21BE-D497-4736-8E7A-C5AA64F5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9A476-EF1B-4CBA-98FF-570E2485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E4311-871B-47F8-8D55-7F427372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F5FD6-A9EB-494F-85CF-91838679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6ED9B-3EF5-435C-96AA-A7FB711E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BB02A-9386-46B7-8662-BB982CB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4DF0E-076D-4975-938D-EF41FF27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03F75-0DB1-4394-B651-447A1E9A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35D93-998D-41BD-84E9-D115678B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C83D0-83C1-4DDF-A69D-A38263CF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E1DB6-4270-4DA5-883B-13F54A3A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4362B-22EF-43D0-A894-968C00CF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5377B-6905-468A-93AD-3DDAA83F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E8C08-1FD5-4862-9761-A42C6707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F36D2-1B1B-41E8-9F66-171106CE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E2222-1BF5-4421-8C2E-E3AE7306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88C71-4A23-4F15-A42E-A6E62A6E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75614-3B26-44BC-BDBE-94FA2601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34CC8-AB16-4FFC-85EA-47D2A18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068E6-9EDA-4ACE-A0D2-A8CD4F9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BE898-5FDE-47FF-BE5D-F515974E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10FCB-337C-4CED-BB33-9ACBF59E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B3C7D-CA87-4737-8DA2-506AB409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693CA-9BE2-46E3-9410-8045AE76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61FEE-F051-4B52-BC0E-6A4356E7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59963-732A-41A9-B714-693380FA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B3FDF-DA85-4FD9-AC3D-19D93A59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619A2-9EBE-42E6-A564-11E5B15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8D70-3A50-47BA-AFE0-78F01723C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D4E91-BF67-47E7-86E8-DAF43F12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3E4A6-DB6D-472A-B4E1-8CB17E41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D2395-8222-463E-876D-C12DBBFE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8ECD-E56B-4C7E-B0D3-95AC8003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2AC60-15E0-4023-9EE3-80357FC2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23BF1-779B-462B-A78A-472563F022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10DF0-AE54-47C9-B4CE-8C2D9D5630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01BCE-664C-42CB-AEBE-586C1843CC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B9A9D-2727-4970-B92F-90FEE4882F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4FC6D-F86D-4B24-83B2-916114D58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A375-0F00-4378-AF46-F2BA2AE558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384DE-5DEC-45C8-9856-08FDF8A8C6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B3F40-A8D9-4A3F-9B6F-425779B47E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E8033-A8BE-4CBA-8238-FBC920F359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681CD-7536-46D2-AD71-7872A1F358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CE6A5-6A1D-4FD5-AE55-463CBE23A4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89E3E-D177-4C07-BC0D-E84CA5B497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0F63D-8FF3-47D5-83E3-9BA2FCD1F6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9509A-3670-41C4-BB41-BF5F0BF4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C1152-E6FE-4199-AADB-A5CAEBE3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8EBF2-6083-49DF-843B-B7E23305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DBF2-3A52-48C2-A8A4-79C15871E8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755BE-217D-4875-9B56-A4493416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815A9-5488-404C-9F9A-F47CB8BA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EC2D0-C730-4B32-B577-E81A5CE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AE873-E6D2-4F2D-9417-8340BC73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0A383-5600-4F30-94AB-17D52FD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0BAAC-A7E6-4CB7-AFBA-238D66CC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9BFE9-C429-409E-9E24-6DE11059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B5CFF-7931-4031-9904-574CF7BF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356AE-79AF-4B34-A1DA-1BD21A98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EF2B-E1AD-4F5E-97FD-4FD60D9A8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F4D7-E031-4506-9B0F-C1334A8F6DA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C989-B303-4600-8652-969F748A9B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CD34-9B21-4FA4-863D-C8CCA35481A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74DC-B96B-4933-AC45-FE6431D00DE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0392-B915-4103-AC9F-31B03C7945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609B-4F3E-4210-928D-A9F0DEE089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99C1-D764-4A09-95E1-E9C722ABF62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85FF-AF9A-4D72-8F6A-184A8D07708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73C5-A89F-45D8-A2BE-340D6D7A836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F11B-D01C-4028-B63B-303886B6C8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74DC-55FF-4049-AFC4-80B56E300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91CD-7D1E-4BF5-A595-769DB87C1D4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F451-0ACF-4253-BBCD-843A4097FA8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0208D-8DB7-480D-9C24-6F827D40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BE3F-56C2-462B-95B9-35CD17CE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61AA4-32ED-4258-87C7-AFE7F841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3455-B5F3-4BE9-A66D-252052E7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B774-021A-4943-B11D-F4D0FB83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AB488-B1FB-4525-B349-9FDEB6F0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7E34-94E4-4CAA-9D0F-CDCC24DC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6A180-B1AD-4E46-8E86-9B6A8955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D9D9-67CD-42AC-8B23-04EFA3DA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E357-B984-41CA-9292-4E8082701B8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46FB-B091-4B9A-8A31-869755EE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90F88-33C2-4AFB-B793-48DE235C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49B2-4FBA-4B94-94A2-BD9AD1CE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E67F6-7CCB-44C3-BB04-581C6315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4A27-6E26-47AA-B2C5-8DDBC302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EBA3-1865-4B4D-92DF-14917CE7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65D0-7233-4163-967F-BB5C5398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88BEF-E18D-40E1-B83F-9A3C8411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761FF-0EB1-4ACD-8CFE-793E0BA4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4D6BF-CC11-4B26-8C49-B2D90C3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A923-AB85-4F91-989C-79FA7733A2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F2186-56C8-44C2-8541-007B7F9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5E9C-57AA-4ECC-98EA-2B2F021B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FC053-4A4A-495C-A631-E2E0EB6A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EC00E-9D5C-4217-9104-6A276884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93A6C-016D-4446-832B-84C7D988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2BAE6-F0B4-4DC0-BA77-A46BFC9B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111CC-A185-4DFF-A545-7E11A291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2940-FA92-46A1-9D28-DF03E7D8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1ADC-0EE9-41D8-95C5-948448D8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CA365-7D46-4366-A5D7-1C6FED53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A906-43DF-42FB-ACC3-BC1BA139051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EC009-EF96-451B-A9F0-3E50E917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A0D03-D9B0-4FB9-813B-85B0B76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D0C83-15DE-4FA7-BC40-3E1C5A8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459ED-FC52-4065-96B2-AFEC049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3280" y="30841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20202-DC46-4069-AB69-DFDD970F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96920" y="45720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328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96920" y="3084120"/>
            <a:ext cx="399348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313E0-6D93-4831-877F-AD23DB53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7024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37200" y="45720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328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7024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37200" y="3084120"/>
            <a:ext cx="263484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360B2-91C3-49DF-8ECD-BCC411A7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FC6C-4252-4F09-AB49-CCB53E9C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E3218-8AC2-4EFF-856C-EEB9C317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53E32-314B-42E5-B91B-B2E54F43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FBF4-EDB5-43BA-BEE6-246F302345F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89F3-38F9-4101-8A30-1308F32866C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A2E1-AF93-4676-A821-3D58BD5D9FD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48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628-480B-4713-8BF7-7471F49D1A9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6961-BC6F-4D49-9062-253938C93B4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9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48F7-B12B-4BAD-BA56-9BD85796324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4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B15B-3462-456F-BEBA-7B409DAE740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1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6666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666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66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E92E-B25A-4BD7-8855-FF4678AC6AF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2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894C-6B5C-43A4-B6B5-E38C8071799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26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F327-4E09-4CB0-93C3-BFEDB991471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ounded Rectangle 7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AA9A-16DF-4EED-B52B-BE382B9E434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ounded Rectangle 8"/>
          <p:cNvGrpSpPr/>
          <p:nvPr/>
        </p:nvGrpSpPr>
        <p:grpSpPr>
          <a:xfrm>
            <a:off x="414360" y="426960"/>
            <a:ext cx="8315280" cy="5065920"/>
            <a:chOff x="414360" y="426960"/>
            <a:chExt cx="8315280" cy="5065920"/>
          </a:xfrm>
        </p:grpSpPr>
        <p:pic>
          <p:nvPicPr>
            <p:cNvPr id="35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50720" y="465120"/>
              <a:ext cx="8242560" cy="49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99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99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9933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60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60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5351-56E9-4899-82BE-FB0C07C4CCF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666ff"/>
                </a:solidFill>
                <a:latin typeface="Verdana"/>
              </a:rPr>
              <a:t>Project Basics</a:t>
            </a:r>
            <a:endParaRPr b="1" lang="en-US" sz="45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Lesson 1</a:t>
            </a:r>
            <a:endParaRPr b="0" lang="en-US" sz="2000" spc="-1" strike="noStrike">
              <a:solidFill>
                <a:srgbClr val="66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pen a New Project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Rounded Rectangle 7"/>
          <p:cNvSpPr/>
          <p:nvPr/>
        </p:nvSpPr>
        <p:spPr>
          <a:xfrm>
            <a:off x="1203480" y="2481120"/>
            <a:ext cx="2301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ounded Rectangle 6"/>
          <p:cNvSpPr/>
          <p:nvPr/>
        </p:nvSpPr>
        <p:spPr>
          <a:xfrm>
            <a:off x="609480" y="16765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ounded Rectangle 8"/>
          <p:cNvSpPr/>
          <p:nvPr/>
        </p:nvSpPr>
        <p:spPr>
          <a:xfrm>
            <a:off x="1752480" y="3276720"/>
            <a:ext cx="6477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Blan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854520" cy="25239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14080" y="1542960"/>
            <a:ext cx="393228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Tasks pane, click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et a date to schedule fr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calendar to select a start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y a Start D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Callout 1 (Accent Bar) 13"/>
          <p:cNvSpPr/>
          <p:nvPr/>
        </p:nvSpPr>
        <p:spPr>
          <a:xfrm>
            <a:off x="2676600" y="4005360"/>
            <a:ext cx="1371600" cy="110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450" y="-27273"/>
                </a:moveTo>
                <a:lnTo>
                  <a:pt x="22800" y="2244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croll calendar to select desired start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Creating a Project Pla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he Standard toolbar, click S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ave As dialog box appea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 or select the file name and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S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 FREQUENTLY TO PROTECT YOUR WORK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ve the Project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efining Project Calendar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ine the Project Calend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33520" y="1599840"/>
            <a:ext cx="7696080" cy="3786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fine general working tim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 in the Tasks p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Standard calendar tem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tinue to 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tinue to 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efining Project Calendar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ine the Project Calendar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Content Placeholder 10"/>
          <p:cNvSpPr/>
          <p:nvPr/>
        </p:nvSpPr>
        <p:spPr>
          <a:xfrm>
            <a:off x="514440" y="1542960"/>
            <a:ext cx="48956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ange Working Ti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 under Set Holidays and Day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desired date(s) on the cale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rcRect l="0" t="0" r="0" b="39802"/>
          <a:stretch/>
        </p:blipFill>
        <p:spPr>
          <a:xfrm>
            <a:off x="5181480" y="2209680"/>
            <a:ext cx="33004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efining Project Calendar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ine the Project Calendar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Content Placeholder 10"/>
          <p:cNvSpPr/>
          <p:nvPr/>
        </p:nvSpPr>
        <p:spPr>
          <a:xfrm>
            <a:off x="514440" y="1542960"/>
            <a:ext cx="48956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 the Exception Time name, dates, and details, including recurrenc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to Steps 4 an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 and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2998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Tasks and Task Detail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ist the tasks in the proj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 in the Tasks p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 tasks in the cells below the Task Name column hea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s Enter after each task name to advance to the next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4633920" cy="31989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Tasks and Task Detail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Task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Callout 1 (Accent Bar) 6"/>
          <p:cNvSpPr/>
          <p:nvPr/>
        </p:nvSpPr>
        <p:spPr>
          <a:xfrm>
            <a:off x="838080" y="3962520"/>
            <a:ext cx="251460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573" y="-19535"/>
                </a:moveTo>
                <a:lnTo>
                  <a:pt x="22255" y="1906"/>
                </a:lnTo>
              </a:path>
              <a:path w="21600" h="21600">
                <a:moveTo>
                  <a:pt x="22255" y="0"/>
                </a:moveTo>
                <a:lnTo>
                  <a:pt x="2225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default duration is one day; the question mark (1 day?) indicates an estimated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7"/>
          <p:cNvSpPr/>
          <p:nvPr/>
        </p:nvSpPr>
        <p:spPr>
          <a:xfrm>
            <a:off x="3276720" y="1905120"/>
            <a:ext cx="533160" cy="838080"/>
          </a:xfrm>
          <a:custGeom>
            <a:avLst/>
            <a:gdLst>
              <a:gd name="textAreaLeft" fmla="*/ 340560 w 533160"/>
              <a:gd name="textAreaRight" fmla="*/ 533520 w 533160"/>
              <a:gd name="textAreaTop" fmla="*/ 64440 h 838080"/>
              <a:gd name="textAreaBottom" fmla="*/ 7736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6"/>
                  <a:pt x="10800" y="5332"/>
                </a:cubicBezTo>
                <a:lnTo>
                  <a:pt x="10800" y="5331"/>
                </a:lnTo>
                <a:cubicBezTo>
                  <a:pt x="10800" y="7997"/>
                  <a:pt x="5400" y="10663"/>
                  <a:pt x="0" y="10663"/>
                </a:cubicBezTo>
                <a:cubicBezTo>
                  <a:pt x="5400" y="10663"/>
                  <a:pt x="10800" y="13329"/>
                  <a:pt x="10800" y="15995"/>
                </a:cubicBezTo>
                <a:lnTo>
                  <a:pt x="10800" y="16268"/>
                </a:lnTo>
                <a:cubicBezTo>
                  <a:pt x="10800" y="1893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1523880" y="1905120"/>
            <a:ext cx="1752840" cy="3070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ew tasks en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3280" y="538200"/>
            <a:ext cx="825984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lendar Tab in Options Dialog Bo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665520" cy="3733920"/>
          </a:xfrm>
          <a:prstGeom prst="rect">
            <a:avLst/>
          </a:prstGeom>
          <a:ln w="0">
            <a:noFill/>
          </a:ln>
        </p:spPr>
      </p:pic>
      <p:sp>
        <p:nvSpPr>
          <p:cNvPr id="605" name="Line Callout 1 (Accent Bar) 6"/>
          <p:cNvSpPr/>
          <p:nvPr/>
        </p:nvSpPr>
        <p:spPr>
          <a:xfrm>
            <a:off x="533520" y="1752480"/>
            <a:ext cx="365760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663" y="36270"/>
                </a:moveTo>
                <a:lnTo>
                  <a:pt x="22050" y="6480"/>
                </a:lnTo>
              </a:path>
              <a:path w="21600" h="21600">
                <a:moveTo>
                  <a:pt x="22050" y="0"/>
                </a:moveTo>
                <a:lnTo>
                  <a:pt x="220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ges the day on which the project week st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Callout 1 (Accent Bar) 6"/>
          <p:cNvSpPr/>
          <p:nvPr/>
        </p:nvSpPr>
        <p:spPr>
          <a:xfrm>
            <a:off x="533520" y="2209680"/>
            <a:ext cx="36576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681" y="13629"/>
                </a:moveTo>
                <a:lnTo>
                  <a:pt x="22050" y="4629"/>
                </a:lnTo>
              </a:path>
              <a:path w="21600" h="21600">
                <a:moveTo>
                  <a:pt x="22050" y="0"/>
                </a:moveTo>
                <a:lnTo>
                  <a:pt x="220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ges the month in which the project fiscal year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Callout 1 (Accent Bar) 6"/>
          <p:cNvSpPr/>
          <p:nvPr/>
        </p:nvSpPr>
        <p:spPr>
          <a:xfrm>
            <a:off x="533520" y="2819520"/>
            <a:ext cx="36576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150" y="2925"/>
                </a:moveTo>
                <a:lnTo>
                  <a:pt x="22050" y="4000"/>
                </a:lnTo>
              </a:path>
              <a:path w="21600" h="21600">
                <a:moveTo>
                  <a:pt x="22050" y="0"/>
                </a:moveTo>
                <a:lnTo>
                  <a:pt x="220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ges the default start time and end time for schedul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Callout 1 (Accent Bar) 6"/>
          <p:cNvSpPr/>
          <p:nvPr/>
        </p:nvSpPr>
        <p:spPr>
          <a:xfrm>
            <a:off x="533520" y="3581280"/>
            <a:ext cx="36576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541" y="-5895"/>
                </a:moveTo>
                <a:lnTo>
                  <a:pt x="22050" y="3240"/>
                </a:lnTo>
              </a:path>
              <a:path w="21600" h="21600">
                <a:moveTo>
                  <a:pt x="22050" y="0"/>
                </a:moveTo>
                <a:lnTo>
                  <a:pt x="220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ges how many hours are scheduled for one day or one week or how many days are scheduled for one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Tasks and Task Detail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33160" y="1447560"/>
            <a:ext cx="4343400" cy="394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 durations in the cells below the Duration column hea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hours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days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weeks,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month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er a question mark after the time if the duration is estima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Task Du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659040" cy="2873160"/>
          </a:xfrm>
          <a:prstGeom prst="rect">
            <a:avLst/>
          </a:prstGeom>
          <a:ln w="0">
            <a:noFill/>
          </a:ln>
        </p:spPr>
      </p:pic>
      <p:sp>
        <p:nvSpPr>
          <p:cNvPr id="613" name="Line Callout 1 (Accent Bar) 13"/>
          <p:cNvSpPr/>
          <p:nvPr/>
        </p:nvSpPr>
        <p:spPr>
          <a:xfrm>
            <a:off x="4724280" y="4800600"/>
            <a:ext cx="2210040" cy="49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779" y="-111285"/>
                </a:moveTo>
                <a:lnTo>
                  <a:pt x="22345" y="5033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ar lengths represent task du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57200" y="1600200"/>
          <a:ext cx="8229600" cy="220932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rt Microsoft Project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rt Microsoft Project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a project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n a new project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cify a start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e the project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Tasks and Task Detail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14440" y="1542960"/>
            <a:ext cx="329544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ations can be shown as actual duration, estimated duration, or elapsed d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Task Duratio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4267080" y="1600200"/>
          <a:ext cx="4327200" cy="3504960"/>
        </p:xfrm>
        <a:graphic>
          <a:graphicData uri="http://schemas.openxmlformats.org/drawingml/2006/table">
            <a:tbl>
              <a:tblPr/>
              <a:tblGrid>
                <a:gridCol w="1349280"/>
                <a:gridCol w="1396080"/>
                <a:gridCol w="158184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You Enter This Abbrevi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Appears Like Th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psed min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psed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psed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w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psed 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psed 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9" name=""/>
          <p:cNvSpPr/>
          <p:nvPr/>
        </p:nvSpPr>
        <p:spPr>
          <a:xfrm>
            <a:off x="0" y="48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Tasks and Task Detail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lestone represents a major event reached within the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a task name or enter a new task name as the desired milest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Milest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Tasks and Task Detail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90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ist Tasks pane, click the Make selected task a milestone check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825"/>
              </a:spcBef>
              <a:spcAft>
                <a:spcPts val="1199"/>
              </a:spcAft>
              <a:buClr>
                <a:srgbClr val="666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ilestone is represented by a black diamo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825"/>
              </a:spcBef>
              <a:spcAft>
                <a:spcPts val="1199"/>
              </a:spcAft>
              <a:buClr>
                <a:srgbClr val="666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uration of a milestone is 0 d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90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Done at the bottom of the List Tasks p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Mileston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Entering Tasks and Task Detail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a Mileston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037120" cy="3476520"/>
          </a:xfrm>
          <a:prstGeom prst="rect">
            <a:avLst/>
          </a:prstGeom>
          <a:ln w="0">
            <a:noFill/>
          </a:ln>
        </p:spPr>
      </p:pic>
      <p:sp>
        <p:nvSpPr>
          <p:cNvPr id="629" name="Line Callout 1 (Accent Bar) 13"/>
          <p:cNvSpPr/>
          <p:nvPr/>
        </p:nvSpPr>
        <p:spPr>
          <a:xfrm>
            <a:off x="685800" y="3809880"/>
            <a:ext cx="2209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0772" y="-22680"/>
                </a:moveTo>
                <a:lnTo>
                  <a:pt x="22345" y="324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d is represented by a black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Callout 1 (Accent Bar) 13"/>
          <p:cNvSpPr/>
          <p:nvPr/>
        </p:nvSpPr>
        <p:spPr>
          <a:xfrm>
            <a:off x="609480" y="2590920"/>
            <a:ext cx="221004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79" y="11160"/>
                </a:moveTo>
                <a:lnTo>
                  <a:pt x="22345" y="3240"/>
                </a:lnTo>
              </a:path>
              <a:path w="21600" h="21600">
                <a:moveTo>
                  <a:pt x="22345" y="0"/>
                </a:moveTo>
                <a:lnTo>
                  <a:pt x="22345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 milestone has a duration of 0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rganizing Tasks into Phas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Summary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Tasks pane, click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rganize tasks into pha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task that will be the summary task for the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ect an existing task  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ert a new task at the desired place in the task li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rganizing Tasks into Phas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Summary Task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tasks or tasks to be indented under the summary t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Organize Tasks pane, choose the Click here to indent selected tasks to make them subtasks of the task above butt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Organizing Tasks into Phase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e Summary Task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Content Placeholder 5"/>
          <p:cNvSpPr/>
          <p:nvPr/>
        </p:nvSpPr>
        <p:spPr>
          <a:xfrm>
            <a:off x="503280" y="1542960"/>
            <a:ext cx="422100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for all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Done at the bottom of the Organize Task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rcRect l="0" t="0" r="0" b="38836"/>
          <a:stretch/>
        </p:blipFill>
        <p:spPr>
          <a:xfrm>
            <a:off x="4876920" y="1676520"/>
            <a:ext cx="3733560" cy="2671560"/>
          </a:xfrm>
          <a:prstGeom prst="rect">
            <a:avLst/>
          </a:prstGeom>
          <a:ln w="0">
            <a:noFill/>
          </a:ln>
        </p:spPr>
      </p:pic>
      <p:sp>
        <p:nvSpPr>
          <p:cNvPr id="641" name="Line Callout 1 (Accent Bar) 8"/>
          <p:cNvSpPr/>
          <p:nvPr/>
        </p:nvSpPr>
        <p:spPr>
          <a:xfrm>
            <a:off x="5715000" y="4648320"/>
            <a:ext cx="21337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-25550"/>
                </a:moveTo>
                <a:lnTo>
                  <a:pt x="-771" y="3600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ummary task with sub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ink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3280" y="1542960"/>
            <a:ext cx="77263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chedule task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 in the Tasks p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names of the two tasks to be lin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the Click here to create a finish to start link button in the Schedule Tasks p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wo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ink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wo Task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rcRect l="0" t="0" r="17561" b="62137"/>
          <a:stretch/>
        </p:blipFill>
        <p:spPr>
          <a:xfrm>
            <a:off x="2819520" y="1828800"/>
            <a:ext cx="3954240" cy="2286000"/>
          </a:xfrm>
          <a:prstGeom prst="rect">
            <a:avLst/>
          </a:prstGeom>
          <a:ln w="0">
            <a:noFill/>
          </a:ln>
        </p:spPr>
      </p:pic>
      <p:sp>
        <p:nvSpPr>
          <p:cNvPr id="648" name="Line Callout 1 (Accent Bar) 8"/>
          <p:cNvSpPr/>
          <p:nvPr/>
        </p:nvSpPr>
        <p:spPr>
          <a:xfrm>
            <a:off x="2209680" y="4419720"/>
            <a:ext cx="213372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580" y="-55700"/>
                </a:moveTo>
                <a:lnTo>
                  <a:pt x="22371" y="3600"/>
                </a:lnTo>
              </a:path>
              <a:path w="21600" h="21600">
                <a:moveTo>
                  <a:pt x="22371" y="0"/>
                </a:moveTo>
                <a:lnTo>
                  <a:pt x="223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ink line indicates tasks that have been lin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5341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ink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wo Task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438280" y="1523880"/>
          <a:ext cx="6019920" cy="3657240"/>
        </p:xfrm>
        <a:graphic>
          <a:graphicData uri="http://schemas.openxmlformats.org/drawingml/2006/table">
            <a:tbl>
              <a:tblPr/>
              <a:tblGrid>
                <a:gridCol w="1505160"/>
                <a:gridCol w="1504800"/>
                <a:gridCol w="1505160"/>
                <a:gridCol w="15048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s Task Relation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ks Like This in the Gantt Ch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ish-to-star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finish date of the predecessor task determines the start date of the successor tas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usic track must be recorded before it can be edi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t-to-star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start date of the predecessor task determines the start date of the successor tas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oking musicians and Booking dancers are related tasks and can occur simultaneousl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ish-to-finish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finish date of the predecessor task determines the finish date of the successor tas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ks that require the use of specific equipment must end when the equipment rental end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t-to-finish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his type of relationship is rarely used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start date of the predecessor task determines the finish date of the successor tas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time when the production sound studio becomes available determines when rehearsals must en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504720" cy="3715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6095880" y="2971800"/>
            <a:ext cx="390600" cy="36180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6095880" y="3733920"/>
            <a:ext cx="400320" cy="271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6019920" y="4572000"/>
            <a:ext cx="523800" cy="361800"/>
          </a:xfrm>
          <a:prstGeom prst="rect">
            <a:avLst/>
          </a:prstGeom>
          <a:ln w="0">
            <a:noFill/>
          </a:ln>
        </p:spPr>
      </p:pic>
      <p:sp>
        <p:nvSpPr>
          <p:cNvPr id="656" name="TextBox 7"/>
          <p:cNvSpPr/>
          <p:nvPr/>
        </p:nvSpPr>
        <p:spPr>
          <a:xfrm>
            <a:off x="609480" y="2362320"/>
            <a:ext cx="1524240" cy="733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re are four types of task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600200"/>
          <a:ext cx="8229600" cy="205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project calend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the project calen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tasks and task 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task du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a mile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ink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Several Tasks at O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14080" y="1542960"/>
            <a:ext cx="77151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names of the tasks to be lin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the Click here to create a finish to start link button in the Schedule Tasks p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 additional tasks a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ink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Several Tasks at On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rcRect l="0" t="0" r="0" b="62137"/>
          <a:stretch/>
        </p:blipFill>
        <p:spPr>
          <a:xfrm>
            <a:off x="1828800" y="2133720"/>
            <a:ext cx="556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Link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 the Milestone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Content Placeholder 8"/>
          <p:cNvSpPr/>
          <p:nvPr/>
        </p:nvSpPr>
        <p:spPr>
          <a:xfrm>
            <a:off x="514440" y="1542960"/>
            <a:ext cx="79437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names of the milestones to be 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the Click here to create a finish to start link button in the Schedule Task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 additional milestones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Done in the Schedule Task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rcRect l="0" t="23301" r="0" b="49709"/>
          <a:stretch/>
        </p:blipFill>
        <p:spPr>
          <a:xfrm>
            <a:off x="990720" y="4267080"/>
            <a:ext cx="5486400" cy="1119240"/>
          </a:xfrm>
          <a:prstGeom prst="rect">
            <a:avLst/>
          </a:prstGeom>
          <a:ln w="0">
            <a:noFill/>
          </a:ln>
        </p:spPr>
      </p:pic>
      <p:sp>
        <p:nvSpPr>
          <p:cNvPr id="667" name="Line Callout 1 (Accent Bar) 8"/>
          <p:cNvSpPr/>
          <p:nvPr/>
        </p:nvSpPr>
        <p:spPr>
          <a:xfrm>
            <a:off x="7302600" y="4191120"/>
            <a:ext cx="121896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6" y="30921"/>
                </a:moveTo>
                <a:lnTo>
                  <a:pt x="-1350" y="4629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inked miles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5341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ocument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Task No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ink to or attach more task inform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 in the Tasks p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he task to which a note will be ad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dd a no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 in the Add Information pa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 the note details in the Notes tab of the Task Information dialog 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ocument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er a Task No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02920" y="1542960"/>
            <a:ext cx="3306600" cy="39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to the Note ic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ote appears in a ScreenT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uble-click the note icon to see longer notes or additional task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rcRect l="0" t="0" r="40980" b="54370"/>
          <a:stretch/>
        </p:blipFill>
        <p:spPr>
          <a:xfrm>
            <a:off x="4114800" y="1981080"/>
            <a:ext cx="43783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ocument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Hyperlin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Content Placeholder 9"/>
          <p:cNvSpPr/>
          <p:nvPr/>
        </p:nvSpPr>
        <p:spPr>
          <a:xfrm>
            <a:off x="503280" y="1542960"/>
            <a:ext cx="81835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task to which a hyperlink is to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dd a hyperlin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ink in the Add Information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hyperlink details or title in Text to display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address in the Address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ocument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Hyperlin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6153120" cy="3143520"/>
          </a:xfrm>
          <a:prstGeom prst="rect">
            <a:avLst/>
          </a:prstGeom>
          <a:ln w="0">
            <a:noFill/>
          </a:ln>
        </p:spPr>
      </p:pic>
      <p:sp>
        <p:nvSpPr>
          <p:cNvPr id="681" name="Line Callout 1 (Accent Bar) 7"/>
          <p:cNvSpPr/>
          <p:nvPr/>
        </p:nvSpPr>
        <p:spPr>
          <a:xfrm>
            <a:off x="533520" y="1828800"/>
            <a:ext cx="152388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658" y="8213"/>
                </a:moveTo>
                <a:lnTo>
                  <a:pt x="22680" y="2700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displayed in the hyperlink ScreenT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Callout 1 (Accent Bar) 7"/>
          <p:cNvSpPr/>
          <p:nvPr/>
        </p:nvSpPr>
        <p:spPr>
          <a:xfrm>
            <a:off x="685800" y="4233960"/>
            <a:ext cx="129528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5079" y="3433"/>
                </a:moveTo>
                <a:lnTo>
                  <a:pt x="22871" y="3433"/>
                </a:lnTo>
              </a:path>
              <a:path w="21600" h="21600">
                <a:moveTo>
                  <a:pt x="22871" y="0"/>
                </a:moveTo>
                <a:lnTo>
                  <a:pt x="22871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yperlink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Documenting Tasks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 a Hyperlin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573360" cy="2759040"/>
          </a:xfrm>
          <a:prstGeom prst="rect">
            <a:avLst/>
          </a:prstGeom>
          <a:ln w="0">
            <a:noFill/>
          </a:ln>
        </p:spPr>
      </p:pic>
      <p:sp>
        <p:nvSpPr>
          <p:cNvPr id="686" name="Content Placeholder 9"/>
          <p:cNvSpPr/>
          <p:nvPr/>
        </p:nvSpPr>
        <p:spPr>
          <a:xfrm>
            <a:off x="503280" y="1542960"/>
            <a:ext cx="376380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to the Hyperlink 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al text appears in a ScreenT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he hyperlink icon to open a Web page in your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viewing the Project Plan’s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eck the Project’s Du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Rounded Rectangle 7"/>
          <p:cNvSpPr/>
          <p:nvPr/>
        </p:nvSpPr>
        <p:spPr>
          <a:xfrm>
            <a:off x="1066680" y="2514600"/>
            <a:ext cx="42069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ounded Rectangle 6"/>
          <p:cNvSpPr/>
          <p:nvPr/>
        </p:nvSpPr>
        <p:spPr>
          <a:xfrm>
            <a:off x="609480" y="167652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ounded Rectangle 8"/>
          <p:cNvSpPr/>
          <p:nvPr/>
        </p:nvSpPr>
        <p:spPr>
          <a:xfrm>
            <a:off x="1447920" y="3352680"/>
            <a:ext cx="5257800" cy="9907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Project Information dialog box is 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ounded Rectangle 8"/>
          <p:cNvSpPr/>
          <p:nvPr/>
        </p:nvSpPr>
        <p:spPr>
          <a:xfrm>
            <a:off x="1981080" y="4495680"/>
            <a:ext cx="5486400" cy="6098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own Arrow 14"/>
          <p:cNvSpPr/>
          <p:nvPr/>
        </p:nvSpPr>
        <p:spPr>
          <a:xfrm>
            <a:off x="2133720" y="4191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190840" cy="249552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viewing the Project Plan’s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699" name="Line Callout 1 (Accent Bar) 7"/>
          <p:cNvSpPr/>
          <p:nvPr/>
        </p:nvSpPr>
        <p:spPr>
          <a:xfrm>
            <a:off x="1981080" y="1676520"/>
            <a:ext cx="15242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038" y="56025"/>
                </a:moveTo>
                <a:lnTo>
                  <a:pt x="22680" y="5400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urrent start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Callout 1 (Accent Bar) 7"/>
          <p:cNvSpPr/>
          <p:nvPr/>
        </p:nvSpPr>
        <p:spPr>
          <a:xfrm>
            <a:off x="4267080" y="1676520"/>
            <a:ext cx="15242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8" y="58425"/>
                </a:moveTo>
                <a:lnTo>
                  <a:pt x="22680" y="5400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urrent finish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Callout 1 (Accent Bar) 7"/>
          <p:cNvSpPr/>
          <p:nvPr/>
        </p:nvSpPr>
        <p:spPr>
          <a:xfrm>
            <a:off x="685800" y="4876920"/>
            <a:ext cx="152388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738" y="-53775"/>
                </a:moveTo>
                <a:lnTo>
                  <a:pt x="22680" y="5400"/>
                </a:lnTo>
              </a:path>
              <a:path w="21600" h="21600">
                <a:moveTo>
                  <a:pt x="22680" y="0"/>
                </a:moveTo>
                <a:lnTo>
                  <a:pt x="2268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urren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eck the Project’s Dur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457200" y="1600200"/>
          <a:ext cx="8229600" cy="1980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e tasks into ph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summary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 two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 several tasks at o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 the milestone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viewing the Project Plan’s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04" name="Rounded Rectangle 7"/>
          <p:cNvSpPr/>
          <p:nvPr/>
        </p:nvSpPr>
        <p:spPr>
          <a:xfrm>
            <a:off x="1066680" y="251460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Z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ounded Rectangle 6"/>
          <p:cNvSpPr/>
          <p:nvPr/>
        </p:nvSpPr>
        <p:spPr>
          <a:xfrm>
            <a:off x="609480" y="1676520"/>
            <a:ext cx="25146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ounded Rectangle 8"/>
          <p:cNvSpPr/>
          <p:nvPr/>
        </p:nvSpPr>
        <p:spPr>
          <a:xfrm>
            <a:off x="1447920" y="3352680"/>
            <a:ext cx="32004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Entir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ounded Rectangle 8"/>
          <p:cNvSpPr/>
          <p:nvPr/>
        </p:nvSpPr>
        <p:spPr>
          <a:xfrm>
            <a:off x="1981080" y="4191120"/>
            <a:ext cx="34290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Down Arrow 14"/>
          <p:cNvSpPr/>
          <p:nvPr/>
        </p:nvSpPr>
        <p:spPr>
          <a:xfrm>
            <a:off x="2133720" y="39625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eck the Project’s Dur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Reviewing the Project Plan’s Dur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549360" y="1600200"/>
            <a:ext cx="1888920" cy="946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Zoom using Entire Project so that the entire project is visible on the sc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5832360" cy="3537000"/>
          </a:xfrm>
          <a:prstGeom prst="rect">
            <a:avLst/>
          </a:prstGeom>
          <a:ln w="0">
            <a:noFill/>
          </a:ln>
        </p:spPr>
      </p:pic>
      <p:sp>
        <p:nvSpPr>
          <p:cNvPr id="716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eck the Project’s Dur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Microsoft Project Stand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projec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project calend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 tasks and task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ummary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Learned How t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Content Placeholder 6"/>
          <p:cNvSpPr/>
          <p:nvPr/>
        </p:nvSpPr>
        <p:spPr>
          <a:xfrm>
            <a:off x="514440" y="1542960"/>
            <a:ext cx="74865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e tasks int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66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the project plan’s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kills Matrix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1600200"/>
          <a:ext cx="8229600" cy="1905120"/>
        </p:xfrm>
        <a:graphic>
          <a:graphicData uri="http://schemas.openxmlformats.org/drawingml/2006/table">
            <a:tbl>
              <a:tblPr/>
              <a:tblGrid>
                <a:gridCol w="3962520"/>
                <a:gridCol w="42670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x 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cument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 a task 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a hyper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the project plan’s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ck the project’s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oftware Orientation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19560" cy="3840120"/>
          </a:xfrm>
          <a:prstGeom prst="rect">
            <a:avLst/>
          </a:prstGeom>
          <a:ln w="0">
            <a:noFill/>
          </a:ln>
        </p:spPr>
      </p:pic>
      <p:sp>
        <p:nvSpPr>
          <p:cNvPr id="543" name="Text Placeholder 3"/>
          <p:cNvSpPr/>
          <p:nvPr/>
        </p:nvSpPr>
        <p:spPr>
          <a:xfrm>
            <a:off x="533520" y="6094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9144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soft Project’s Opening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tarting Microsoft Project Standard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rt Microsoft Pro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ounded Rectangle 9"/>
          <p:cNvSpPr/>
          <p:nvPr/>
        </p:nvSpPr>
        <p:spPr>
          <a:xfrm>
            <a:off x="2133720" y="4038480"/>
            <a:ext cx="647676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Microsoft Office Project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09480" y="1676520"/>
            <a:ext cx="7620120" cy="2565360"/>
            <a:chOff x="609480" y="1676520"/>
            <a:chExt cx="7620120" cy="2565360"/>
          </a:xfrm>
        </p:grpSpPr>
        <p:sp>
          <p:nvSpPr>
            <p:cNvPr id="548" name="Rounded Rectangle 6"/>
            <p:cNvSpPr/>
            <p:nvPr/>
          </p:nvSpPr>
          <p:spPr>
            <a:xfrm>
              <a:off x="609480" y="1676520"/>
              <a:ext cx="6553080" cy="6858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Click the Start but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ounded Rectangle 7"/>
            <p:cNvSpPr/>
            <p:nvPr/>
          </p:nvSpPr>
          <p:spPr>
            <a:xfrm>
              <a:off x="1203120" y="2481480"/>
              <a:ext cx="6492960" cy="6858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Click All Progr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ounded Rectangle 8"/>
            <p:cNvSpPr/>
            <p:nvPr/>
          </p:nvSpPr>
          <p:spPr>
            <a:xfrm>
              <a:off x="1752480" y="3276720"/>
              <a:ext cx="6477120" cy="6858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Click Microsoft Off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Down Arrow 10"/>
            <p:cNvSpPr/>
            <p:nvPr/>
          </p:nvSpPr>
          <p:spPr>
            <a:xfrm>
              <a:off x="1218960" y="2235240"/>
              <a:ext cx="457200" cy="3812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ee4b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Down Arrow 14"/>
            <p:cNvSpPr/>
            <p:nvPr/>
          </p:nvSpPr>
          <p:spPr>
            <a:xfrm>
              <a:off x="1752480" y="3035520"/>
              <a:ext cx="457200" cy="380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ee4b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Down Arrow 15"/>
            <p:cNvSpPr/>
            <p:nvPr/>
          </p:nvSpPr>
          <p:spPr>
            <a:xfrm>
              <a:off x="2286000" y="3861000"/>
              <a:ext cx="457200" cy="380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ee4b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tarting Microsoft Project Standard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0880" y="457200"/>
            <a:ext cx="8183520" cy="502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rt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Rounded Rectangle 7"/>
          <p:cNvSpPr/>
          <p:nvPr/>
        </p:nvSpPr>
        <p:spPr>
          <a:xfrm>
            <a:off x="1203480" y="2481120"/>
            <a:ext cx="230184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6"/>
          <p:cNvSpPr/>
          <p:nvPr/>
        </p:nvSpPr>
        <p:spPr>
          <a:xfrm>
            <a:off x="609480" y="167652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8"/>
          <p:cNvSpPr/>
          <p:nvPr/>
        </p:nvSpPr>
        <p:spPr>
          <a:xfrm>
            <a:off x="1752480" y="3276720"/>
            <a:ext cx="647712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New Project task pane is ac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Down Arrow 10"/>
          <p:cNvSpPr/>
          <p:nvPr/>
        </p:nvSpPr>
        <p:spPr>
          <a:xfrm>
            <a:off x="1219320" y="223524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Down Arrow 14"/>
          <p:cNvSpPr/>
          <p:nvPr/>
        </p:nvSpPr>
        <p:spPr>
          <a:xfrm>
            <a:off x="1752480" y="303516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e4be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ff"/>
                </a:solidFill>
                <a:latin typeface="Verdana"/>
              </a:rPr>
              <a:t>Starting Microsoft Project Standard</a:t>
            </a:r>
            <a:endParaRPr b="1" lang="en-US" sz="3000" spc="-1" strike="noStrike">
              <a:solidFill>
                <a:srgbClr val="6666ff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2920" y="538200"/>
            <a:ext cx="8077320" cy="851040"/>
          </a:xfrm>
          <a:prstGeom prst="rect">
            <a:avLst/>
          </a:prstGeom>
          <a:noFill/>
          <a:ln w="0">
            <a:noFill/>
          </a:ln>
        </p:spPr>
        <p:txBody>
          <a:bodyPr lIns="45720" tIns="91440" anchor="b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rt Microsoft Proje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TextBox 5"/>
          <p:cNvSpPr/>
          <p:nvPr/>
        </p:nvSpPr>
        <p:spPr>
          <a:xfrm>
            <a:off x="533520" y="1600200"/>
            <a:ext cx="1752480" cy="946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File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ew on menu bar to open New Project dialo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71880" cy="3654360"/>
          </a:xfrm>
          <a:prstGeom prst="rect">
            <a:avLst/>
          </a:prstGeom>
          <a:ln w="0">
            <a:noFill/>
          </a:ln>
        </p:spPr>
      </p:pic>
      <p:sp>
        <p:nvSpPr>
          <p:cNvPr id="565" name="Line Callout 1 (Accent Bar) 6"/>
          <p:cNvSpPr/>
          <p:nvPr/>
        </p:nvSpPr>
        <p:spPr>
          <a:xfrm>
            <a:off x="762120" y="2971800"/>
            <a:ext cx="13716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575" y="-23325"/>
                </a:moveTo>
                <a:lnTo>
                  <a:pt x="22800" y="54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Blank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Callout 1 (Accent Bar) 6"/>
          <p:cNvSpPr/>
          <p:nvPr/>
        </p:nvSpPr>
        <p:spPr>
          <a:xfrm>
            <a:off x="762120" y="3809880"/>
            <a:ext cx="137160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175" y="-25100"/>
                </a:moveTo>
                <a:lnTo>
                  <a:pt x="22800" y="3600"/>
                </a:lnTo>
              </a:path>
              <a:path w="21600" h="21600">
                <a:moveTo>
                  <a:pt x="22800" y="0"/>
                </a:moveTo>
                <a:lnTo>
                  <a:pt x="22800" y="21600"/>
                </a:lnTo>
              </a:path>
            </a:pathLst>
          </a:custGeom>
          <a:solidFill>
            <a:srgbClr val="595959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lect or search for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/>
  <dc:description/>
  <dc:language>en-US</dc:language>
  <cp:lastModifiedBy>Custom Editorial Productions</cp:lastModifiedBy>
  <dcterms:modified xsi:type="dcterms:W3CDTF">2007-05-31T20:31:09Z</dcterms:modified>
  <cp:revision>168</cp:revision>
  <dc:subject/>
  <dc:title>Project Basics</dc:title>
</cp:coreProperties>
</file>