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AA28-CF81-4130-8735-A534849B6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6ED2-E1B1-4556-B51B-5208942792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9502-0FC5-4EA4-9A04-9707BE1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1C11-17CD-4B84-990D-9F3645D7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3A2F-1823-4169-A314-F5CCE96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7F19-DA86-46ED-84CC-414DA9A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459D-F564-42EC-A1F6-B7B8364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C6372-19C5-4147-B7D3-1381B6B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CA25-3FB9-4618-A78B-FEEEDB7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2D10-890A-41F6-A9C5-51A4209E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9B36B-C368-4EA4-A15D-CC1F7B8D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3C1A-9DBE-43D4-9FB3-FF50068C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965F-68F5-47B1-A1A6-16367C1C35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5715E-261B-4F4B-BBFA-0CDD790B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2363-2629-4687-BF2A-B2EC250F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2DB8-B1C6-4A57-B0E2-49F688F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1A37D-9805-42F0-9643-414B2373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909F-59F7-47BD-A5C3-114FEA63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1AB2B-1F92-451C-96D2-94146501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0DC9-2DBE-464A-B9E9-10C095A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6218-B431-4577-87D2-EC8BD1B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DC446-9E42-4843-B5F2-0D4A9B33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5C5B-DD0E-48AD-B382-0D497FF8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DCD5-039F-47D3-BEDA-B5D151B086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9330-62C9-4433-B1E7-7B08A2D5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C9DAB-DB1C-4B41-9C9B-A5F36007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D1F60-5FFF-4BD9-AE86-37D788B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57F0D-47D1-4F97-B323-9178AB62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59897-C8BF-48B5-B7A9-3F74386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17723-E3BF-4D88-8DBD-A64415E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91664-2F9E-490B-BCC3-92C9C162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2F54D-FB8F-42E9-B481-D40DFBF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330C2-F2E0-400D-989D-4659225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5DD6E-E477-44CF-8FF8-30AFD2B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E81FA-43C3-44E3-9611-3B653DF5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BD3B4-B37C-4590-88B8-8C016AF3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F9399-BD20-42D2-AFA7-C339ADBE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DCAF9-6194-4185-A528-54C68382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C15EC-7901-42C2-B15A-C971E283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1D91C-E464-4D67-A368-56AF1F3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53C48-2A66-4CFB-BB70-79349D86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E8A39-292D-499E-92B5-DEDAF3D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74BDC-71C8-412F-B057-9C68290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3B296-D562-4D87-82E6-61553B2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883C3-97FF-4973-8BD7-C4F4EEC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17D8E-B26A-424E-A9D6-BE98C98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6D33E-437B-491A-9C68-3FFA2FE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F20DD-FF99-40E8-8DFF-5E77F89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68880-9F60-4A56-B247-AA1CE45C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6AF13-CA0D-41C3-A4B8-8DC425C1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A04D4-FA22-4B95-90B6-C670941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6611-5F0E-4447-BAB1-0B60E00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14DFA-5524-4924-87F4-78F692D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B23C9-C3DA-47E5-B8BA-17A00E1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DBEF1-4CB4-4964-BF44-E5CB1A95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BB081-D208-45EA-BCCA-46C1373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7BFD-C8EE-4483-8D04-D6BEBC71A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F015B-C960-4DDB-8B4A-39D1873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9A21-F1F5-42B4-9EE7-9730268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C4AC-A26D-4572-AC85-FA8A92CA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80D0E-6B44-4AED-90A6-371DB0FD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383D3-90DE-4B03-B4A3-DCBF5FE6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10942-57BC-4A2A-ACD5-B363B6AAE5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A10AC-84DD-4058-BEED-F29A8C6D46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6732-BBD6-402E-B15E-58AD841DCE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2EF2-3888-458D-844E-35EC23D5B2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89618-51E5-4981-858C-846CB0B7F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82CC-FFAB-4AD9-A5CB-B782892C6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12C39-C565-4E6A-B74D-FDA2ED6185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990EC-12FA-4817-8114-40B0E0F816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B7DF2-4A6C-4C7A-BFD6-F0584DC24A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5D4A5-8224-45BA-9273-34ECAC242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45B0-B503-48DF-9FC8-DB58432247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07A9-5639-4B81-9EB0-236A0B67D1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02557-FD9F-4A47-BDFD-9D1B9E4305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15A2-2BFF-4E01-B572-9F426FCF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06A76-C707-4043-835C-4FB96C9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D196A-81D4-45AC-A942-520931E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FAF2-C925-4E58-A3D7-CD2FFAE2B9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659C8-2394-4785-8E15-CE53760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C6FD6-69D0-4ED1-B21A-FD0855B3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8CC62-4959-4F7F-877A-3A66721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63981-C7B0-4723-9DDF-DC9907B6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6F16A-25F4-48DE-BCFC-DBF7226C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C5B27-A98E-49C7-96B8-18758D2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4B736-7661-41D3-A527-3C9F9F1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B1520-0390-486F-AD82-E4D12441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72E53-1DA0-498A-9CC1-1066D966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4A77-E9AB-44C3-8A76-EE82F306E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7ACE-964D-4EA3-9A56-DA04DD47F0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423B-4179-4F74-AEFD-DA9837FA15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9AA1-06FA-4F23-A862-E11D66EE57B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0751-546F-4F14-8BE1-A522945620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EF42-0F73-40D9-96C5-23224FA078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BB38-584B-48B6-8C50-7828496375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9E7A-210F-4EE1-A2DD-39F14474B4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21A7-4900-46C5-B6AE-16F0AB9FBA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395E-B671-4A1A-998B-A520F33801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1E25-F8EF-4E54-8FCD-3B6D6930DB6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43D8-0A8D-46B9-A6C5-94AE30E3D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E459-BB9F-4123-9C55-19765B3561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598C-F742-4B75-A49A-A45A1AE76B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D547-292D-40C7-9AC9-2396A304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C12E-679D-4698-A4B3-140F4676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39C9-8BAD-48C6-B0AF-D0A34A6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DA2A-CDD3-4FB0-BBAD-8DC2758B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72E7-6913-4214-99D7-9C98B82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E0F2-2FC6-4D3F-BA86-E2DFF4CA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6368-28F3-46E9-9EA2-D5C8348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244C-D4C9-4311-9005-F3C4DED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B648-4D45-4435-8AEE-90C326F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658C-43D4-4F9D-A9BA-8CA8467A30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EABC-B0D8-4775-8CC8-EBED66B4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1E85-E769-4684-847D-7399B91A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8C34-7C55-4912-840D-B6997B9E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6BA7-57F4-4ED4-B432-90708A9F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59DB-B558-4D20-BB00-CC1AAC18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A21B-43CE-45BA-8018-9B925F5F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A7DA-9A3C-438C-9362-BF51DB46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4B87D-8BF4-420D-B993-774123F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BFB1-1936-46BD-AD2F-A325BCA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AE7A-FF63-4317-BE66-CC0F2EA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CD0B-3EBF-497A-87B7-3E30765365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BCC68-62EF-41E7-BB26-2608BCA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CCCD-D839-493E-A796-A2A70B5C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F66A-95FF-4E28-9A18-CB7104A3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A9151-57D7-48D9-87A5-CB94FD1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A5EE-32B2-46A7-8F36-92FDE9EA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F94A-EA6B-4F9F-A3CB-0D89199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9512-28C6-443B-8C5D-D8C43B63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ED76-97E8-44E4-A63B-CEBDF06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90A9-EEBD-4690-ACE5-61D1CEA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62D4-F0C4-43BF-B7E0-2DFDDE7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AC34-44C2-4899-9D68-9DE63B5207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0FB5-B27F-456D-BEEE-FE2CAFE0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91C6A-45A7-4B43-A0A1-EA20B33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D3E3-EBEF-4571-B2DA-AF3EA08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EE2F-254A-468A-A632-E835F81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74C1D-B13A-4197-99A5-06EA056F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4788-43F4-41D0-8C18-C82167C0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38A8-50A7-40F3-AB60-52C7E566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2700-71A5-4D04-B56A-E4735E14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45638-2761-443B-8D5B-94BC2D6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2B5E-25E6-4BF9-80B6-9845915C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0BD-DB91-4BA3-AEFA-51C12714B78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0A7C-1C7C-4F2F-86D8-83BD91EF0FF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B0D2-7324-4E11-8927-0C17D16D168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408-5587-4E1C-AFB4-251065FF88C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528-6931-4673-B871-CDD68A4CC3A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CFE-50F4-49C1-A63D-1E0719B1E00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5CF-F23A-4E47-94F1-C6E84FCDE1F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D9C-4FA1-45CE-88B9-34C94AA196C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616-BC6B-4E12-A348-38B0B6B420A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3D1-1513-45AE-9334-E721A63EC08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B144-0F7A-4DC9-8B22-5FB42FDE5DE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05C-66FF-4A66-834F-DE92CFB007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820880"/>
            <a:ext cx="773244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Managing Multiple Project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9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0" name="Rounded Rectangle 7"/>
          <p:cNvSpPr/>
          <p:nvPr/>
        </p:nvSpPr>
        <p:spPr>
          <a:xfrm>
            <a:off x="1584360" y="2862360"/>
            <a:ext cx="580716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Yes to All if prompted to save changes to insert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ounded Rectangle 6"/>
          <p:cNvSpPr/>
          <p:nvPr/>
        </p:nvSpPr>
        <p:spPr>
          <a:xfrm>
            <a:off x="990720" y="1752480"/>
            <a:ext cx="510516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ve the consolidated plan as Consolidated Project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0"/>
          <p:cNvSpPr/>
          <p:nvPr/>
        </p:nvSpPr>
        <p:spPr>
          <a:xfrm>
            <a:off x="2286000" y="2666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5" name="Rounded Rectangle 7"/>
          <p:cNvSpPr/>
          <p:nvPr/>
        </p:nvSpPr>
        <p:spPr>
          <a:xfrm>
            <a:off x="1203480" y="2405160"/>
            <a:ext cx="2682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le 6"/>
          <p:cNvSpPr/>
          <p:nvPr/>
        </p:nvSpPr>
        <p:spPr>
          <a:xfrm>
            <a:off x="609480" y="1600200"/>
            <a:ext cx="4572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8"/>
          <p:cNvSpPr/>
          <p:nvPr/>
        </p:nvSpPr>
        <p:spPr>
          <a:xfrm>
            <a:off x="1752480" y="320040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Show project summar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own Arrow 10"/>
          <p:cNvSpPr/>
          <p:nvPr/>
        </p:nvSpPr>
        <p:spPr>
          <a:xfrm>
            <a:off x="121932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own Arrow 14"/>
          <p:cNvSpPr/>
          <p:nvPr/>
        </p:nvSpPr>
        <p:spPr>
          <a:xfrm>
            <a:off x="175248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ounded Rectangle 7"/>
          <p:cNvSpPr/>
          <p:nvPr/>
        </p:nvSpPr>
        <p:spPr>
          <a:xfrm>
            <a:off x="2438280" y="403848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own Arrow 10"/>
          <p:cNvSpPr/>
          <p:nvPr/>
        </p:nvSpPr>
        <p:spPr>
          <a:xfrm>
            <a:off x="2514600" y="3809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94" name="Text Placeholder 3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548320" cy="3082680"/>
          </a:xfrm>
          <a:prstGeom prst="rect">
            <a:avLst/>
          </a:prstGeom>
          <a:ln w="0">
            <a:noFill/>
          </a:ln>
        </p:spPr>
      </p:pic>
      <p:sp>
        <p:nvSpPr>
          <p:cNvPr id="595" name="Line Callout 1 (Accent Bar) 6"/>
          <p:cNvSpPr/>
          <p:nvPr/>
        </p:nvSpPr>
        <p:spPr>
          <a:xfrm>
            <a:off x="914400" y="2514600"/>
            <a:ext cx="1371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575" y="-8421"/>
                </a:moveTo>
                <a:lnTo>
                  <a:pt x="22800" y="231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olidated project summary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8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managers usually work on several complex project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ople may be working on different tasks at different times and lo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Project enables you to combine two projects to form a consolida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1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olidated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icrosoft Project File that contains other Microsoft Pro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so known as a maste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ed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icrosoft Project file that is inserted into another Microsoft Projec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so known as a sub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4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ed projects do not actually reside within the consolida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are linked so that they can be viewed and edited from the consolidated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7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n inserted project is edited outside the consolidated project, the new information appears in the consolidated project the next time it i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save a consolidated project, changes you have made to inserted projects are saved in the source file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0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consolidated project plan enables you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all of your organization’s projects in a singl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-up” project information to higher managemen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 a large project into separate project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all of the information for YOUR project in on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3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ntt bar for an inserted project is g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serted project icon appears in the Indicator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hanges you made to inserted projects are saved in the source fil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dd an unlimited number of inserted projects (limited by real-life time and space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6" name="Rounded Rectangle 7"/>
          <p:cNvSpPr/>
          <p:nvPr/>
        </p:nvSpPr>
        <p:spPr>
          <a:xfrm>
            <a:off x="1508040" y="2468520"/>
            <a:ext cx="5349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dventure Works Promo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ounded Rectangle 6"/>
          <p:cNvSpPr/>
          <p:nvPr/>
        </p:nvSpPr>
        <p:spPr>
          <a:xfrm>
            <a:off x="914400" y="166356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"/>
          <p:cNvSpPr/>
          <p:nvPr/>
        </p:nvSpPr>
        <p:spPr>
          <a:xfrm>
            <a:off x="2057400" y="3263760"/>
            <a:ext cx="4343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ask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own Arrow 10"/>
          <p:cNvSpPr/>
          <p:nvPr/>
        </p:nvSpPr>
        <p:spPr>
          <a:xfrm>
            <a:off x="1523880" y="22226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own Arrow 14"/>
          <p:cNvSpPr/>
          <p:nvPr/>
        </p:nvSpPr>
        <p:spPr>
          <a:xfrm>
            <a:off x="2057400" y="3022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514600" y="4038480"/>
            <a:ext cx="4495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croll to Task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own Arrow 14"/>
          <p:cNvSpPr/>
          <p:nvPr/>
        </p:nvSpPr>
        <p:spPr>
          <a:xfrm>
            <a:off x="2514600" y="37972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057400"/>
        </p:xfrm>
        <a:graphic>
          <a:graphicData uri="http://schemas.openxmlformats.org/drawingml/2006/table">
            <a:tbl>
              <a:tblPr/>
              <a:tblGrid>
                <a:gridCol w="3962520"/>
                <a:gridCol w="426708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 consolidated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consolidated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dependencies between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 tasks from two different project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5" name="Rounded Rectangle 7"/>
          <p:cNvSpPr/>
          <p:nvPr/>
        </p:nvSpPr>
        <p:spPr>
          <a:xfrm>
            <a:off x="1203480" y="2405160"/>
            <a:ext cx="4968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Don Funk Music Video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6"/>
          <p:cNvSpPr/>
          <p:nvPr/>
        </p:nvSpPr>
        <p:spPr>
          <a:xfrm>
            <a:off x="609480" y="160020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ounded Rectangle 8"/>
          <p:cNvSpPr/>
          <p:nvPr/>
        </p:nvSpPr>
        <p:spPr>
          <a:xfrm>
            <a:off x="1752480" y="3200400"/>
            <a:ext cx="3353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di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own Arrow 10"/>
          <p:cNvSpPr/>
          <p:nvPr/>
        </p:nvSpPr>
        <p:spPr>
          <a:xfrm>
            <a:off x="121932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own Arrow 14"/>
          <p:cNvSpPr/>
          <p:nvPr/>
        </p:nvSpPr>
        <p:spPr>
          <a:xfrm>
            <a:off x="175248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8"/>
          <p:cNvSpPr/>
          <p:nvPr/>
        </p:nvSpPr>
        <p:spPr>
          <a:xfrm>
            <a:off x="2209680" y="39751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own Arrow 14"/>
          <p:cNvSpPr/>
          <p:nvPr/>
        </p:nvSpPr>
        <p:spPr>
          <a:xfrm>
            <a:off x="2209680" y="37339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ounded Rectangle 8"/>
          <p:cNvSpPr/>
          <p:nvPr/>
        </p:nvSpPr>
        <p:spPr>
          <a:xfrm>
            <a:off x="2590920" y="4737240"/>
            <a:ext cx="2057400" cy="596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Down Arrow 14"/>
          <p:cNvSpPr/>
          <p:nvPr/>
        </p:nvSpPr>
        <p:spPr>
          <a:xfrm>
            <a:off x="2743200" y="4495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6" name="Rounded Rectangle 7"/>
          <p:cNvSpPr/>
          <p:nvPr/>
        </p:nvSpPr>
        <p:spPr>
          <a:xfrm>
            <a:off x="1203480" y="2405160"/>
            <a:ext cx="4968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Predecessor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ounded Rectangle 6"/>
          <p:cNvSpPr/>
          <p:nvPr/>
        </p:nvSpPr>
        <p:spPr>
          <a:xfrm>
            <a:off x="609480" y="1600200"/>
            <a:ext cx="5639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ask Information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8"/>
          <p:cNvSpPr/>
          <p:nvPr/>
        </p:nvSpPr>
        <p:spPr>
          <a:xfrm>
            <a:off x="1752480" y="3200400"/>
            <a:ext cx="556272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ID column, click the next empty cell below task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own Arrow 10"/>
          <p:cNvSpPr/>
          <p:nvPr/>
        </p:nvSpPr>
        <p:spPr>
          <a:xfrm>
            <a:off x="121932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own Arrow 14"/>
          <p:cNvSpPr/>
          <p:nvPr/>
        </p:nvSpPr>
        <p:spPr>
          <a:xfrm>
            <a:off x="175248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ed Rectangle 8"/>
          <p:cNvSpPr/>
          <p:nvPr/>
        </p:nvSpPr>
        <p:spPr>
          <a:xfrm>
            <a:off x="2209680" y="4343400"/>
            <a:ext cx="5410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Adventure Works Promo 9\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own Arrow 14"/>
          <p:cNvSpPr/>
          <p:nvPr/>
        </p:nvSpPr>
        <p:spPr>
          <a:xfrm>
            <a:off x="2209680" y="4102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685960" y="1585800"/>
            <a:ext cx="5924520" cy="36864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5"/>
          <p:cNvSpPr/>
          <p:nvPr/>
        </p:nvSpPr>
        <p:spPr>
          <a:xfrm>
            <a:off x="533520" y="1600200"/>
            <a:ext cx="182880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Information dialog box with predecessor task en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9" name="Rounded Rectangle 7"/>
          <p:cNvSpPr/>
          <p:nvPr/>
        </p:nvSpPr>
        <p:spPr>
          <a:xfrm>
            <a:off x="3565440" y="2557440"/>
            <a:ext cx="18446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ounded Rectangle 6"/>
          <p:cNvSpPr/>
          <p:nvPr/>
        </p:nvSpPr>
        <p:spPr>
          <a:xfrm>
            <a:off x="2895480" y="17524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own Arrow 10"/>
          <p:cNvSpPr/>
          <p:nvPr/>
        </p:nvSpPr>
        <p:spPr>
          <a:xfrm>
            <a:off x="350532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Content Placeholder 12"/>
          <p:cNvSpPr/>
          <p:nvPr/>
        </p:nvSpPr>
        <p:spPr>
          <a:xfrm>
            <a:off x="533520" y="38098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inserts the ghost task into th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5951520" cy="3448080"/>
          </a:xfrm>
          <a:prstGeom prst="rect">
            <a:avLst/>
          </a:prstGeom>
          <a:ln w="0">
            <a:noFill/>
          </a:ln>
        </p:spPr>
      </p:pic>
      <p:sp>
        <p:nvSpPr>
          <p:cNvPr id="656" name="Line Callout 1 (Accent Bar) 6"/>
          <p:cNvSpPr/>
          <p:nvPr/>
        </p:nvSpPr>
        <p:spPr>
          <a:xfrm>
            <a:off x="914400" y="1828800"/>
            <a:ext cx="1219320" cy="56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2519" y="69955"/>
                </a:moveTo>
                <a:lnTo>
                  <a:pt x="22950" y="2945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host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Callout 1 (Accent Bar) 6"/>
          <p:cNvSpPr/>
          <p:nvPr/>
        </p:nvSpPr>
        <p:spPr>
          <a:xfrm>
            <a:off x="609480" y="3124080"/>
            <a:ext cx="1828800" cy="15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8563" y="23895"/>
                </a:moveTo>
                <a:lnTo>
                  <a:pt x="22500" y="162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ange Highlighting indicates cells that have been affected by the previous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0" name="Rounded Rectangle 7"/>
          <p:cNvSpPr/>
          <p:nvPr/>
        </p:nvSpPr>
        <p:spPr>
          <a:xfrm>
            <a:off x="1508040" y="2709720"/>
            <a:ext cx="5197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dventure Works Promo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ounded Rectangle 6"/>
          <p:cNvSpPr/>
          <p:nvPr/>
        </p:nvSpPr>
        <p:spPr>
          <a:xfrm>
            <a:off x="914400" y="19051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ounded Rectangle 8"/>
          <p:cNvSpPr/>
          <p:nvPr/>
        </p:nvSpPr>
        <p:spPr>
          <a:xfrm>
            <a:off x="2057400" y="3505320"/>
            <a:ext cx="647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the ghost task and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Down Arrow 10"/>
          <p:cNvSpPr/>
          <p:nvPr/>
        </p:nvSpPr>
        <p:spPr>
          <a:xfrm>
            <a:off x="1523880" y="24638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own Arrow 14"/>
          <p:cNvSpPr/>
          <p:nvPr/>
        </p:nvSpPr>
        <p:spPr>
          <a:xfrm>
            <a:off x="20574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7" name="Rounded Rectangle 7"/>
          <p:cNvSpPr/>
          <p:nvPr/>
        </p:nvSpPr>
        <p:spPr>
          <a:xfrm>
            <a:off x="1508040" y="2709720"/>
            <a:ext cx="46641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nsolidated Project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ounded Rectangle 6"/>
          <p:cNvSpPr/>
          <p:nvPr/>
        </p:nvSpPr>
        <p:spPr>
          <a:xfrm>
            <a:off x="914400" y="19051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8"/>
          <p:cNvSpPr/>
          <p:nvPr/>
        </p:nvSpPr>
        <p:spPr>
          <a:xfrm>
            <a:off x="2057400" y="350532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the cross-project link and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own Arrow 10"/>
          <p:cNvSpPr/>
          <p:nvPr/>
        </p:nvSpPr>
        <p:spPr>
          <a:xfrm>
            <a:off x="1523880" y="24638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own Arrow 14"/>
          <p:cNvSpPr/>
          <p:nvPr/>
        </p:nvSpPr>
        <p:spPr>
          <a:xfrm>
            <a:off x="2057400" y="32637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5942160" cy="329112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5" name="Line Callout 1 (Accent Bar) 6"/>
          <p:cNvSpPr/>
          <p:nvPr/>
        </p:nvSpPr>
        <p:spPr>
          <a:xfrm>
            <a:off x="609480" y="1828800"/>
            <a:ext cx="18288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6963" y="18855"/>
                </a:moveTo>
                <a:lnTo>
                  <a:pt x="22500" y="162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olidated files Gantt Chart showing link between Adventure Works task 9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806560" y="1676520"/>
            <a:ext cx="5803920" cy="32241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9" name="Line Callout 1 (Accent Bar) 6"/>
          <p:cNvSpPr/>
          <p:nvPr/>
        </p:nvSpPr>
        <p:spPr>
          <a:xfrm>
            <a:off x="609480" y="1828800"/>
            <a:ext cx="18288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7113" y="23085"/>
                </a:moveTo>
                <a:lnTo>
                  <a:pt x="22500" y="1620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Don Funk Music Video task 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2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rojects have dependencies to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relationships between project files are similar to links between tasks within a projec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member that external predecessor and successor tasks have gray task names and Gantt 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5968800" cy="3316320"/>
          </a:xfrm>
          <a:prstGeom prst="rect">
            <a:avLst/>
          </a:prstGeom>
          <a:ln w="0">
            <a:noFill/>
          </a:ln>
        </p:spPr>
      </p:pic>
      <p:sp>
        <p:nvSpPr>
          <p:cNvPr id="537" name="Line Callout 1 (Accent Bar) 6"/>
          <p:cNvSpPr/>
          <p:nvPr/>
        </p:nvSpPr>
        <p:spPr>
          <a:xfrm>
            <a:off x="609480" y="205740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75" y="-172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olidated project summary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Callout 1 (Accent Bar) 6"/>
          <p:cNvSpPr/>
          <p:nvPr/>
        </p:nvSpPr>
        <p:spPr>
          <a:xfrm>
            <a:off x="609480" y="350532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75" y="-3322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olidated project summary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057400" y="3352320"/>
            <a:ext cx="1066680" cy="7621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olidated Project Gantt Char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5" name="Content Placeholder 12"/>
          <p:cNvSpPr/>
          <p:nvPr/>
        </p:nvSpPr>
        <p:spPr>
          <a:xfrm>
            <a:off x="533520" y="1600200"/>
            <a:ext cx="80010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various reasons to create dependencies betwee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pletion of a task in one project might enable the start of a task in another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person or piece of equipment may be assigned to a task in one project, and you need to delay the start of a task in another project until the resource completes the firs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Dependencies in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8" name="Content Placeholder 12"/>
          <p:cNvSpPr/>
          <p:nvPr/>
        </p:nvSpPr>
        <p:spPr>
          <a:xfrm>
            <a:off x="533520" y="1828800"/>
            <a:ext cx="769608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predecessor and successor tasks are sometimes called ghost tasks because they are not linked to tasks within the project file, only to tasks in other pro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asks from Two Different Project Pl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consolidated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ependencies between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5969160" cy="3316320"/>
          </a:xfrm>
          <a:prstGeom prst="rect">
            <a:avLst/>
          </a:prstGeom>
          <a:ln w="0">
            <a:noFill/>
          </a:ln>
        </p:spPr>
      </p:pic>
      <p:sp>
        <p:nvSpPr>
          <p:cNvPr id="543" name="Line Callout 1 (Accent Bar) 6"/>
          <p:cNvSpPr/>
          <p:nvPr/>
        </p:nvSpPr>
        <p:spPr>
          <a:xfrm>
            <a:off x="609480" y="1676520"/>
            <a:ext cx="15242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0158" y="8614"/>
                </a:moveTo>
                <a:lnTo>
                  <a:pt x="22680" y="1543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ed projects appear as summary tasks with gray Gantt b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Callout 1 (Accent Bar) 6"/>
          <p:cNvSpPr/>
          <p:nvPr/>
        </p:nvSpPr>
        <p:spPr>
          <a:xfrm>
            <a:off x="609480" y="43434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175" y="-4672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ed project 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057400" y="3581280"/>
            <a:ext cx="685800" cy="152424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olidated Project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8" name="Content Placeholder 5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ntt Chart view of a consolidated project allows you to see multiple projects collected in on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filter, sort, and group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see relationships (dependencies) between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olidated Project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1" name="Rounded Rectangle 9"/>
          <p:cNvSpPr/>
          <p:nvPr/>
        </p:nvSpPr>
        <p:spPr>
          <a:xfrm>
            <a:off x="2133720" y="4114800"/>
            <a:ext cx="19047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le 6"/>
          <p:cNvSpPr/>
          <p:nvPr/>
        </p:nvSpPr>
        <p:spPr>
          <a:xfrm>
            <a:off x="609480" y="16765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1203480" y="2481120"/>
            <a:ext cx="359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ounded Rectangle 8"/>
          <p:cNvSpPr/>
          <p:nvPr/>
        </p:nvSpPr>
        <p:spPr>
          <a:xfrm>
            <a:off x="1752480" y="3276720"/>
            <a:ext cx="647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s of both open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Down Arrow 15"/>
          <p:cNvSpPr/>
          <p:nvPr/>
        </p:nvSpPr>
        <p:spPr>
          <a:xfrm>
            <a:off x="2286000" y="3860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0" name="Rounded Rectangle 7"/>
          <p:cNvSpPr/>
          <p:nvPr/>
        </p:nvSpPr>
        <p:spPr>
          <a:xfrm>
            <a:off x="1203480" y="240516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ounded Rectangle 6"/>
          <p:cNvSpPr/>
          <p:nvPr/>
        </p:nvSpPr>
        <p:spPr>
          <a:xfrm>
            <a:off x="609480" y="1600200"/>
            <a:ext cx="6705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how/Hide Project Guid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ounded Rectangle 8"/>
          <p:cNvSpPr/>
          <p:nvPr/>
        </p:nvSpPr>
        <p:spPr>
          <a:xfrm>
            <a:off x="1752480" y="3200400"/>
            <a:ext cx="2895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own Arrow 10"/>
          <p:cNvSpPr/>
          <p:nvPr/>
        </p:nvSpPr>
        <p:spPr>
          <a:xfrm>
            <a:off x="121932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own Arrow 14"/>
          <p:cNvSpPr/>
          <p:nvPr/>
        </p:nvSpPr>
        <p:spPr>
          <a:xfrm>
            <a:off x="175248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ounded Rectangle 8"/>
          <p:cNvSpPr/>
          <p:nvPr/>
        </p:nvSpPr>
        <p:spPr>
          <a:xfrm>
            <a:off x="2209680" y="3975120"/>
            <a:ext cx="3429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own Arrow 14"/>
          <p:cNvSpPr/>
          <p:nvPr/>
        </p:nvSpPr>
        <p:spPr>
          <a:xfrm>
            <a:off x="2209680" y="37339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unded Rectangle 8"/>
          <p:cNvSpPr/>
          <p:nvPr/>
        </p:nvSpPr>
        <p:spPr>
          <a:xfrm>
            <a:off x="2590920" y="4737240"/>
            <a:ext cx="2057400" cy="5968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14"/>
          <p:cNvSpPr/>
          <p:nvPr/>
        </p:nvSpPr>
        <p:spPr>
          <a:xfrm>
            <a:off x="2743200" y="4495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640480" cy="31334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533520" y="1600200"/>
            <a:ext cx="2209680" cy="15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ke sure Start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uration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nish columns are visible. If necessary, double-click the right edge of columns that display pound signs (###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Callout 1 (Accent Bar) 6"/>
          <p:cNvSpPr/>
          <p:nvPr/>
        </p:nvSpPr>
        <p:spPr>
          <a:xfrm>
            <a:off x="914400" y="43434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375" y="-691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ed project i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362320" y="3276360"/>
            <a:ext cx="914400" cy="160020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Managing Consolidated Projec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7" name="Content Placeholder 10"/>
          <p:cNvSpPr/>
          <p:nvPr/>
        </p:nvSpPr>
        <p:spPr>
          <a:xfrm>
            <a:off x="533520" y="175248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oint to the Inserted Project icon in the Indicators column, Project displays the full path to the inserte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onsolidated Project Pla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11T21:46:56Z</dcterms:modified>
  <cp:revision>178</cp:revision>
  <dc:subject/>
  <dc:title>Project Basics</dc:title>
</cp:coreProperties>
</file>