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4C27-3A6C-4F13-BC2B-7A4A68329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BCF9-CD38-4386-83E9-7173918BC3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428B-A559-4FAB-95FD-F3FFC48B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AB968-C695-4F22-A3E5-3753CF2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4051-4F51-4E2B-9C24-371EAB3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7AA4-4418-4962-A980-04CA6D4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923C4-E4E5-4AE3-9D19-B89EB26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F0EC-999A-46A4-BF6D-B082F23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1549-426F-4C24-8FBE-A234D2A0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4C86-80E8-4B83-B266-FF43841B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949D-3E9F-4372-B33A-F5167C5E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E492-BB35-48D2-8D5F-45B3A04A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9731-C611-49B3-8ACB-58E66EABB4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5CD6-3BF7-414A-BFDD-83454D4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36C0-550B-4199-A6E9-04961B79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9AB8-28C3-4637-97D6-239DAA8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A14E-C11B-41C9-BC1C-AA9A08A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72D2-4E39-42C4-BF8F-6D2E5F49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B716-F810-417F-9C63-1F6C469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B91E9-9EDB-491A-8EA3-E758DF3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F50F-354C-414F-8460-571B127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4B04F-7F72-441F-BB31-88D662B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BA270-C1BB-4DDA-9669-EA6ECD40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AF8F-1AC7-45ED-95BD-0207189BD7A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F3C7-49B9-4A18-9FF7-506162FD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E481A-CA7C-404E-B19F-CCB323E5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6627-73ED-451C-AD52-EBF0CB0A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DEA59-840D-479E-9C86-560D6E3B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45FAA-738F-43CB-9ACC-8BCF889E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7F80-3AD7-42EF-B3D0-C1F11AA1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E13B3-48D5-422B-842A-41512F3C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81B0B-B447-4FC6-9D58-A73C5B5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FBF76-70D3-492F-8331-145143C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14DB4-1977-4C77-8C70-B248E2C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A43C-9EAA-4355-B852-81575F65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42CF2-79E4-4F0A-81B4-56E86BD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4C55-DBC5-47AD-907B-FC957DBB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57D28-EF26-4269-89F6-CB8CA502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A42E9-1705-4F71-92C2-5A52F45C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520C6-5642-4F12-95D8-8BB7B885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6005A-F909-4689-8ED3-A71D6BA0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B14A7-A24E-45B3-9A3A-E4ECC4E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26FF0-F0A9-458E-B4EC-863968D7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94538-D97A-4E55-A8F5-D9FFD69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31C9-B9AD-4038-A850-D43D897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1D00-325D-4D29-994F-0F35B7A7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76CF3-AA28-46AC-987A-787D0C2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02E69-3832-44D9-BD08-6E1BE8F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49FFD-4A98-4470-B41B-0AFAF714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BD34-B602-4C10-BB7D-D030BFD2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36953-8753-4C9E-AE18-7B607A47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C6693-1A67-476B-8765-E0DF892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56B7E-2887-4EFF-86F5-88A1D419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C1D4F-6A55-4B42-8FE8-B8585D2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26766-78DB-4371-9633-EF41D59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21F08-4999-4D18-9BE9-DC4F8AD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3615-081D-411C-8841-187C7266F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75F5E-8588-47B8-AE08-D6D94F6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B823-AC0B-4EDF-85C2-C75C0FF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9D25-221E-4114-BBA8-838B478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E4B1A-4054-49FE-A66A-8112E3A0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7F1B-96AC-44B0-8864-C752B897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67167-DCD8-4389-A016-D6F564F068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EF2A-728E-43B2-95AB-2F9321A0DB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6A9D3-5623-4280-9D06-9F8C408B00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6A93-50BD-44C7-8DBE-2B04A6AD6A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EF6B1-E58B-409E-AEE9-83EDA8015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610F-048D-4DEE-817D-2A71D9ED5C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90AF-80C3-4A18-ACC8-275E06EF40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FD11-A7D5-4386-8343-7F2C8B3098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552D7-002A-473C-9B66-DC595D6F25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91DD-2811-4FE1-88D8-7BF2FAB79D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C0D93-70D2-4D96-88E4-3254F898E3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51B2-F32A-456C-A2F5-D2DB541DFD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CB66-A0F4-4912-B788-9A2CD85D9C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DEDB8-BF46-4CD9-8415-82BA95D0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DC146-E93A-41E6-9D06-3F26366E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5E57E-5C49-48BC-A309-496BA5F8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620F-03CC-4AE6-BDF4-B8D9162DF1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3123D-BD7A-4EA4-818E-8063D40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F50AF-518C-4526-B66F-21BC9FE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8E6A0-5137-4B02-B31F-3C3DDF2B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D83CC-9469-4CD5-8786-91D1974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762A3-4058-4B50-9172-9082629B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48EC6-4BA1-405C-A5AF-B018405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A3C32-0BC0-44B5-A0B4-2DB419D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6F44F-19E9-477C-AF61-6B04857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06903-0DEA-4E79-A381-6466AD83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071C-42A8-4055-8CDC-12B15CBE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A3AB-2B96-4E61-B683-6E10A08D52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E865-0DFF-49E6-ADA5-6BA7B2D4D4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23C6-DADF-4186-9427-28D8642FAE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5450-DB91-4C7A-ADB8-798A71A9CF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8327-35BC-4962-8FE2-741B7D33A07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999D-7D76-4933-A526-968E9DB1A0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6FFA-C1E0-463A-8E79-34DAC4A472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E918-8BB2-459B-87D3-3CE2FBF04B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86DB-7F43-4DD9-A6E5-9D6E4F9FFC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19A2-BECB-4B32-9166-93A40FF884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0785-B740-4CCE-A1C8-59A9100DF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CB9E-1451-46A7-8D1B-AE0710B4C8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4379-5299-4A7C-B36B-D0E47FC5DB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8B4D-48A4-41BD-8816-04FE695F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8293-FDCE-4821-A5A7-6475828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F75B-1B9E-471C-A2BC-85DCB85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C5B4-2D9D-427C-BD66-5C34A2E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52B2-5360-4525-A928-76C8D255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90E0-CC37-468B-BBAB-CDCDA14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082B-7BA5-429C-AC9C-3ED7004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4FE3F-C90F-4A9B-82BE-76810B6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F262-7026-49CB-AED5-696A5B3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D934-8D7A-4691-823B-E04A9C2EEF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8A64-0C4E-497C-846E-899EA20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AD61-E2FC-4BB4-966B-5F4E2C7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919F-DB0A-4509-9A64-57FE51A9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4D493-ED60-47BD-BD8D-2C33536F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4127-2B7B-4D81-AD3B-04ABEA33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02DB-940B-488F-9A1D-1AF5108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779D-BFC6-42F5-9C24-9728E86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B290-1BAB-4C77-BDD4-82EF705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F42D6-E40F-42A5-8E8F-A421B33C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BAD1F-9532-4816-B367-C1AC9D7E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3B02-BDB1-4701-9757-C064DD929B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E8F1-10B4-426E-85CD-0C88BB1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C4AF-CC7F-428F-8991-C77AFE2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B56D-8048-4E00-A044-8BF45D0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C210-B045-4882-A7D9-EBF5BBF7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868B-4633-4892-881C-3A97547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B0A1-7235-4509-803E-3DAD8381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1594-D092-40C2-8F10-E8B1F59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42AC-84A1-4722-9A5C-718A9504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D4C1-30AF-4EFC-81CD-22DE90C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9A95-2471-4D69-9BAE-44EAF1C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813E-F380-49BE-A510-5331A539F2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8B096-2B16-4A79-8479-BBDCEA2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FC1F-0930-4C36-90EC-09CC519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0F41-DC74-4B1C-B9C1-97D5C67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61BD-5352-496A-B78B-6A7EB26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4E33-A63C-4C2A-8DF7-58DDEE9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DB3D-F102-4617-A913-42067A24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E6AD-7500-4977-AB2B-F78654AB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1407-FD06-40E6-A4C0-86190BDB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492A-E9E7-4BD0-BCCC-94048340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317D9-A0EE-4AF2-B8CB-C80C9AA7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6240-64B0-4065-9C1A-AE28C2FD5E4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B95E-461A-431D-ACC7-C02B9DCFE8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4EE-7763-4F9B-B5AC-2F569AA25C4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BCD-F594-4E54-9019-E6C635939C2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C73-2B35-44BB-ADBA-C2B62101BCD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72E-5965-467A-B588-00DA1F02947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10D-C581-45E4-96C6-619F9457B07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8A0-1624-448F-8508-861E68BB8A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99A-1F51-47C1-99EB-CD6DFA9470E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4B8-04CE-4B9A-AE8C-8C4F4146F0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805-C834-47CB-B0DA-A76292253E5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42F-8E15-4BDB-B2C1-8E73738097E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218960"/>
            <a:ext cx="7772400" cy="243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Project Information: Customizing and Printing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7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5119920" cy="384192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685800" y="1816200"/>
            <a:ext cx="198108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tatus bar indicates that there are two rows of pages by five columns of 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Callout 1 (Accent Bar) 6"/>
          <p:cNvSpPr/>
          <p:nvPr/>
        </p:nvSpPr>
        <p:spPr>
          <a:xfrm>
            <a:off x="762120" y="380988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175" y="481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tus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7" name="Rounded Rectangle 7"/>
          <p:cNvSpPr/>
          <p:nvPr/>
        </p:nvSpPr>
        <p:spPr>
          <a:xfrm>
            <a:off x="1965240" y="3014640"/>
            <a:ext cx="4740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Page Setup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ounded Rectangle 6"/>
          <p:cNvSpPr/>
          <p:nvPr/>
        </p:nvSpPr>
        <p:spPr>
          <a:xfrm>
            <a:off x="1371600" y="2209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One Page but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8"/>
          <p:cNvSpPr/>
          <p:nvPr/>
        </p:nvSpPr>
        <p:spPr>
          <a:xfrm>
            <a:off x="2514600" y="3809880"/>
            <a:ext cx="47242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Header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own Arrow 10"/>
          <p:cNvSpPr/>
          <p:nvPr/>
        </p:nvSpPr>
        <p:spPr>
          <a:xfrm>
            <a:off x="1981080" y="27687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own Arrow 14"/>
          <p:cNvSpPr/>
          <p:nvPr/>
        </p:nvSpPr>
        <p:spPr>
          <a:xfrm>
            <a:off x="2514600" y="35686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4" name="Rounded Rectangle 7"/>
          <p:cNvSpPr/>
          <p:nvPr/>
        </p:nvSpPr>
        <p:spPr>
          <a:xfrm>
            <a:off x="1965240" y="2405160"/>
            <a:ext cx="504504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Company Name in the Gener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6"/>
          <p:cNvSpPr/>
          <p:nvPr/>
        </p:nvSpPr>
        <p:spPr>
          <a:xfrm>
            <a:off x="1371600" y="1600200"/>
            <a:ext cx="5257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Center alignment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8"/>
          <p:cNvSpPr/>
          <p:nvPr/>
        </p:nvSpPr>
        <p:spPr>
          <a:xfrm>
            <a:off x="2514600" y="34290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dd button next to the Gener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own Arrow 10"/>
          <p:cNvSpPr/>
          <p:nvPr/>
        </p:nvSpPr>
        <p:spPr>
          <a:xfrm>
            <a:off x="198108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own Arrow 14"/>
          <p:cNvSpPr/>
          <p:nvPr/>
        </p:nvSpPr>
        <p:spPr>
          <a:xfrm>
            <a:off x="2514600" y="3200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Content Placeholder 5"/>
          <p:cNvSpPr/>
          <p:nvPr/>
        </p:nvSpPr>
        <p:spPr>
          <a:xfrm>
            <a:off x="304920" y="4495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25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ject places the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&amp;[Company]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code into the header and shows a preview in the Preview wind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2" name="Rounded Rectangle 7"/>
          <p:cNvSpPr/>
          <p:nvPr/>
        </p:nvSpPr>
        <p:spPr>
          <a:xfrm>
            <a:off x="1965240" y="2405160"/>
            <a:ext cx="504504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Left Alignment tab to review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ounded Rectangle 6"/>
          <p:cNvSpPr/>
          <p:nvPr/>
        </p:nvSpPr>
        <p:spPr>
          <a:xfrm>
            <a:off x="1371600" y="1600200"/>
            <a:ext cx="5257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Legend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ounded Rectangle 8"/>
          <p:cNvSpPr/>
          <p:nvPr/>
        </p:nvSpPr>
        <p:spPr>
          <a:xfrm>
            <a:off x="2514600" y="34290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Right Alignment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own Arrow 10"/>
          <p:cNvSpPr/>
          <p:nvPr/>
        </p:nvSpPr>
        <p:spPr>
          <a:xfrm>
            <a:off x="198108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14"/>
          <p:cNvSpPr/>
          <p:nvPr/>
        </p:nvSpPr>
        <p:spPr>
          <a:xfrm>
            <a:off x="2514600" y="3200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9" name="Rounded Rectangle 7"/>
          <p:cNvSpPr/>
          <p:nvPr/>
        </p:nvSpPr>
        <p:spPr>
          <a:xfrm>
            <a:off x="1965240" y="2405160"/>
            <a:ext cx="504504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Start Date: followed by a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6"/>
          <p:cNvSpPr/>
          <p:nvPr/>
        </p:nvSpPr>
        <p:spPr>
          <a:xfrm>
            <a:off x="1371600" y="1600200"/>
            <a:ext cx="5257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in the Right Alignment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ounded Rectangle 8"/>
          <p:cNvSpPr/>
          <p:nvPr/>
        </p:nvSpPr>
        <p:spPr>
          <a:xfrm>
            <a:off x="2514600" y="34290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Project Start Date from the Gener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own Arrow 10"/>
          <p:cNvSpPr/>
          <p:nvPr/>
        </p:nvSpPr>
        <p:spPr>
          <a:xfrm>
            <a:off x="198108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own Arrow 14"/>
          <p:cNvSpPr/>
          <p:nvPr/>
        </p:nvSpPr>
        <p:spPr>
          <a:xfrm>
            <a:off x="2514600" y="3200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8"/>
          <p:cNvSpPr/>
          <p:nvPr/>
        </p:nvSpPr>
        <p:spPr>
          <a:xfrm>
            <a:off x="3276720" y="44956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dd button next to the Gener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8" name="Rounded Rectangle 7"/>
          <p:cNvSpPr/>
          <p:nvPr/>
        </p:nvSpPr>
        <p:spPr>
          <a:xfrm>
            <a:off x="1965240" y="2405160"/>
            <a:ext cx="374976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Duration: followed by a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ed Rectangle 6"/>
          <p:cNvSpPr/>
          <p:nvPr/>
        </p:nvSpPr>
        <p:spPr>
          <a:xfrm>
            <a:off x="1371600" y="1600200"/>
            <a:ext cx="3352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ounded Rectangle 8"/>
          <p:cNvSpPr/>
          <p:nvPr/>
        </p:nvSpPr>
        <p:spPr>
          <a:xfrm>
            <a:off x="2514600" y="34290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Duration from the Project Field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own Arrow 10"/>
          <p:cNvSpPr/>
          <p:nvPr/>
        </p:nvSpPr>
        <p:spPr>
          <a:xfrm>
            <a:off x="198108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own Arrow 14"/>
          <p:cNvSpPr/>
          <p:nvPr/>
        </p:nvSpPr>
        <p:spPr>
          <a:xfrm>
            <a:off x="2514600" y="3200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8"/>
          <p:cNvSpPr/>
          <p:nvPr/>
        </p:nvSpPr>
        <p:spPr>
          <a:xfrm>
            <a:off x="3276720" y="44956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dd button next to the Project Field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7" name="Rounded Rectangle 7"/>
          <p:cNvSpPr/>
          <p:nvPr/>
        </p:nvSpPr>
        <p:spPr>
          <a:xfrm>
            <a:off x="1965240" y="2633760"/>
            <a:ext cx="374976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selections on the Legend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ounded Rectangle 6"/>
          <p:cNvSpPr/>
          <p:nvPr/>
        </p:nvSpPr>
        <p:spPr>
          <a:xfrm>
            <a:off x="1371600" y="1600200"/>
            <a:ext cx="365760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or click 3 in the Width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Down Arrow 10"/>
          <p:cNvSpPr/>
          <p:nvPr/>
        </p:nvSpPr>
        <p:spPr>
          <a:xfrm>
            <a:off x="198108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4514760" cy="37908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533520" y="190512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 when finished reviewing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Callout 1 (Accent Bar) 6"/>
          <p:cNvSpPr/>
          <p:nvPr/>
        </p:nvSpPr>
        <p:spPr>
          <a:xfrm>
            <a:off x="1295280" y="449568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7975" y="209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7" name="Rounded Rectangle 7"/>
          <p:cNvSpPr/>
          <p:nvPr/>
        </p:nvSpPr>
        <p:spPr>
          <a:xfrm>
            <a:off x="2438280" y="3243240"/>
            <a:ext cx="3749760" cy="1023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n the lower left corner of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ounded Rectangle 6"/>
          <p:cNvSpPr/>
          <p:nvPr/>
        </p:nvSpPr>
        <p:spPr>
          <a:xfrm>
            <a:off x="2057400" y="1795320"/>
            <a:ext cx="4343400" cy="1295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ve your mouse cursor to the lower left corner of the page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own Arrow 10"/>
          <p:cNvSpPr/>
          <p:nvPr/>
        </p:nvSpPr>
        <p:spPr>
          <a:xfrm>
            <a:off x="3886200" y="29973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rcRect l="0" t="0" r="9375" b="0"/>
          <a:stretch/>
        </p:blipFill>
        <p:spPr>
          <a:xfrm>
            <a:off x="3657600" y="1600200"/>
            <a:ext cx="4954680" cy="3838680"/>
          </a:xfrm>
          <a:prstGeom prst="rect">
            <a:avLst/>
          </a:prstGeom>
          <a:ln w="0">
            <a:noFill/>
          </a:ln>
        </p:spPr>
      </p:pic>
      <p:sp>
        <p:nvSpPr>
          <p:cNvPr id="643" name="Line Callout 1 (Accent Bar) 6"/>
          <p:cNvSpPr/>
          <p:nvPr/>
        </p:nvSpPr>
        <p:spPr>
          <a:xfrm>
            <a:off x="1295280" y="3200400"/>
            <a:ext cx="1371600" cy="5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7975" y="2467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stom Legend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65888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and print a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and print a Gantt Chart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and print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ze and print a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rcRect l="0" t="0" r="9375" b="0"/>
          <a:stretch/>
        </p:blipFill>
        <p:spPr>
          <a:xfrm>
            <a:off x="3657600" y="1600200"/>
            <a:ext cx="4954680" cy="3838680"/>
          </a:xfrm>
          <a:prstGeom prst="rect">
            <a:avLst/>
          </a:prstGeom>
          <a:ln w="0">
            <a:noFill/>
          </a:ln>
        </p:spPr>
      </p:pic>
      <p:sp>
        <p:nvSpPr>
          <p:cNvPr id="647" name="Rounded Rectangle 7"/>
          <p:cNvSpPr/>
          <p:nvPr/>
        </p:nvSpPr>
        <p:spPr>
          <a:xfrm>
            <a:off x="533520" y="190512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 on the Print Preview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Callout 1 (Accent Bar) 6"/>
          <p:cNvSpPr/>
          <p:nvPr/>
        </p:nvSpPr>
        <p:spPr>
          <a:xfrm>
            <a:off x="1219320" y="4114800"/>
            <a:ext cx="1371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9975" y="-85388"/>
                </a:moveTo>
                <a:lnTo>
                  <a:pt x="22800" y="40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os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1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dded to the legend will print on every page of the prin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if you do not print, changes to the header and legend will be saved when you save th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4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ing information to share with stakeholders is common for project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s are all people or organizations that might be affected by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gher-level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stomers receiving the end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7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print any view you see in Project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m views, such as Relationship Diagram or Task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have two views displayed in a combination view, only the view in the active pane will pr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0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rt of the project plan seen on screen may be only a small part of the total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reduce printed pages, you can print just summary tasks or filter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lso print a portion of the time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sca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and across the top of the Gantt Chart that denotes units of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3" name="Content Placeholder 12"/>
          <p:cNvSpPr/>
          <p:nvPr/>
        </p:nvSpPr>
        <p:spPr>
          <a:xfrm>
            <a:off x="533520" y="1600200"/>
            <a:ext cx="76960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change the number of pages required for printing by adjusting the timescale before 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djust the timescale to show the largest time span in the smallest number of pages, click Vie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Zoo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3280" y="538200"/>
            <a:ext cx="7726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ounded Rectangle 7"/>
          <p:cNvSpPr/>
          <p:nvPr/>
        </p:nvSpPr>
        <p:spPr>
          <a:xfrm>
            <a:off x="1981080" y="2438280"/>
            <a:ext cx="3749760" cy="795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elect a view or repor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ounded Rectangle 6"/>
          <p:cNvSpPr/>
          <p:nvPr/>
        </p:nvSpPr>
        <p:spPr>
          <a:xfrm>
            <a:off x="1371600" y="1523880"/>
            <a:ext cx="312408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port on the Projec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8"/>
          <p:cNvSpPr/>
          <p:nvPr/>
        </p:nvSpPr>
        <p:spPr>
          <a:xfrm>
            <a:off x="2514600" y="34290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Create a project repor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own Arrow 10"/>
          <p:cNvSpPr/>
          <p:nvPr/>
        </p:nvSpPr>
        <p:spPr>
          <a:xfrm>
            <a:off x="2133720" y="22226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own Arrow 14"/>
          <p:cNvSpPr/>
          <p:nvPr/>
        </p:nvSpPr>
        <p:spPr>
          <a:xfrm>
            <a:off x="2666880" y="3200400"/>
            <a:ext cx="457200" cy="328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8"/>
          <p:cNvSpPr/>
          <p:nvPr/>
        </p:nvSpPr>
        <p:spPr>
          <a:xfrm>
            <a:off x="3276720" y="449568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Select a report, click the Display Reports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Rounded Rectangle 7"/>
          <p:cNvSpPr/>
          <p:nvPr/>
        </p:nvSpPr>
        <p:spPr>
          <a:xfrm>
            <a:off x="1981080" y="2438280"/>
            <a:ext cx="3429000" cy="795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6"/>
          <p:cNvSpPr/>
          <p:nvPr/>
        </p:nvSpPr>
        <p:spPr>
          <a:xfrm>
            <a:off x="1371600" y="1523880"/>
            <a:ext cx="358128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ustom in the Report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ounded Rectangle 8"/>
          <p:cNvSpPr/>
          <p:nvPr/>
        </p:nvSpPr>
        <p:spPr>
          <a:xfrm>
            <a:off x="2514600" y="34290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in the Custom Report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own Arrow 10"/>
          <p:cNvSpPr/>
          <p:nvPr/>
        </p:nvSpPr>
        <p:spPr>
          <a:xfrm>
            <a:off x="2133720" y="22226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own Arrow 14"/>
          <p:cNvSpPr/>
          <p:nvPr/>
        </p:nvSpPr>
        <p:spPr>
          <a:xfrm>
            <a:off x="2666880" y="3200400"/>
            <a:ext cx="457200" cy="328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ounded Rectangle 8"/>
          <p:cNvSpPr/>
          <p:nvPr/>
        </p:nvSpPr>
        <p:spPr>
          <a:xfrm>
            <a:off x="3276720" y="449568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457600" cy="3832200"/>
          </a:xfrm>
          <a:prstGeom prst="rect">
            <a:avLst/>
          </a:prstGeom>
          <a:ln w="0">
            <a:noFill/>
          </a:ln>
        </p:spPr>
      </p:pic>
      <p:sp>
        <p:nvSpPr>
          <p:cNvPr id="686" name="TextBox 5"/>
          <p:cNvSpPr/>
          <p:nvPr/>
        </p:nvSpPr>
        <p:spPr>
          <a:xfrm>
            <a:off x="685800" y="1816200"/>
            <a:ext cx="198108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Task Report is a complete list of project tasks (Summary tasks are not inclu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ed Rectangle 7"/>
          <p:cNvSpPr/>
          <p:nvPr/>
        </p:nvSpPr>
        <p:spPr>
          <a:xfrm>
            <a:off x="609480" y="3276720"/>
            <a:ext cx="2133720" cy="2057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 on the Print Preview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ounded Rectangle 7"/>
          <p:cNvSpPr/>
          <p:nvPr/>
        </p:nvSpPr>
        <p:spPr>
          <a:xfrm>
            <a:off x="1981080" y="2438280"/>
            <a:ext cx="3429000" cy="795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ounded Rectangle 6"/>
          <p:cNvSpPr/>
          <p:nvPr/>
        </p:nvSpPr>
        <p:spPr>
          <a:xfrm>
            <a:off x="1371600" y="1523880"/>
            <a:ext cx="358128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in the Custom Report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ounded Rectangle 8"/>
          <p:cNvSpPr/>
          <p:nvPr/>
        </p:nvSpPr>
        <p:spPr>
          <a:xfrm>
            <a:off x="2514600" y="34290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displayed text in the Nam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Down Arrow 10"/>
          <p:cNvSpPr/>
          <p:nvPr/>
        </p:nvSpPr>
        <p:spPr>
          <a:xfrm>
            <a:off x="2133720" y="22226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Down Arrow 14"/>
          <p:cNvSpPr/>
          <p:nvPr/>
        </p:nvSpPr>
        <p:spPr>
          <a:xfrm>
            <a:off x="2666880" y="3200400"/>
            <a:ext cx="457200" cy="328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ounded Rectangle 8"/>
          <p:cNvSpPr/>
          <p:nvPr/>
        </p:nvSpPr>
        <p:spPr>
          <a:xfrm>
            <a:off x="3276720" y="4495680"/>
            <a:ext cx="41907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Custom Task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515120" cy="3790800"/>
          </a:xfrm>
          <a:prstGeom prst="rect">
            <a:avLst/>
          </a:prstGeom>
          <a:ln w="0">
            <a:noFill/>
          </a:ln>
        </p:spPr>
      </p:pic>
      <p:sp>
        <p:nvSpPr>
          <p:cNvPr id="537" name="Line Callout 1 (Accent Bar) 6"/>
          <p:cNvSpPr/>
          <p:nvPr/>
        </p:nvSpPr>
        <p:spPr>
          <a:xfrm>
            <a:off x="838080" y="16002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5975" y="792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Current Dat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Callout 1 (Accent Bar) 6"/>
          <p:cNvSpPr/>
          <p:nvPr/>
        </p:nvSpPr>
        <p:spPr>
          <a:xfrm>
            <a:off x="1371600" y="251460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2975" y="5085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Total Page Coun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Callout 1 (Accent Bar) 6"/>
          <p:cNvSpPr/>
          <p:nvPr/>
        </p:nvSpPr>
        <p:spPr>
          <a:xfrm>
            <a:off x="1676520" y="3429000"/>
            <a:ext cx="14475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376" y="22850"/>
                </a:moveTo>
                <a:lnTo>
                  <a:pt x="22737" y="3600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Page Numbe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Callout 1 (Accent Bar) 6"/>
          <p:cNvSpPr/>
          <p:nvPr/>
        </p:nvSpPr>
        <p:spPr>
          <a:xfrm>
            <a:off x="1981080" y="441972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3975" y="-892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rmat Text Fon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Page Setup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ounded Rectangle 7"/>
          <p:cNvSpPr/>
          <p:nvPr/>
        </p:nvSpPr>
        <p:spPr>
          <a:xfrm>
            <a:off x="1981080" y="2567160"/>
            <a:ext cx="3429000" cy="861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Summary in the Tabl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ed Rectangle 6"/>
          <p:cNvSpPr/>
          <p:nvPr/>
        </p:nvSpPr>
        <p:spPr>
          <a:xfrm>
            <a:off x="1371600" y="1523880"/>
            <a:ext cx="3581280" cy="890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Months in the Perio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ounded Rectangle 8"/>
          <p:cNvSpPr/>
          <p:nvPr/>
        </p:nvSpPr>
        <p:spPr>
          <a:xfrm>
            <a:off x="2514600" y="358128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own Arrow 10"/>
          <p:cNvSpPr/>
          <p:nvPr/>
        </p:nvSpPr>
        <p:spPr>
          <a:xfrm>
            <a:off x="2133720" y="235116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Down Arrow 14"/>
          <p:cNvSpPr/>
          <p:nvPr/>
        </p:nvSpPr>
        <p:spPr>
          <a:xfrm>
            <a:off x="2666880" y="3352680"/>
            <a:ext cx="457200" cy="328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8"/>
          <p:cNvSpPr/>
          <p:nvPr/>
        </p:nvSpPr>
        <p:spPr>
          <a:xfrm>
            <a:off x="3276720" y="4495680"/>
            <a:ext cx="3200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Custom Task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Rounded Rectangle 7"/>
          <p:cNvSpPr/>
          <p:nvPr/>
        </p:nvSpPr>
        <p:spPr>
          <a:xfrm>
            <a:off x="609480" y="1676520"/>
            <a:ext cx="2438640" cy="761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5192640" cy="36464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5"/>
          <p:cNvSpPr/>
          <p:nvPr/>
        </p:nvSpPr>
        <p:spPr>
          <a:xfrm>
            <a:off x="914400" y="3352680"/>
            <a:ext cx="213372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ustom Task Report displays tasks divided by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ounded Rectangle 7"/>
          <p:cNvSpPr/>
          <p:nvPr/>
        </p:nvSpPr>
        <p:spPr>
          <a:xfrm>
            <a:off x="1981080" y="2438280"/>
            <a:ext cx="4267440" cy="795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 in the Custom Report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6"/>
          <p:cNvSpPr/>
          <p:nvPr/>
        </p:nvSpPr>
        <p:spPr>
          <a:xfrm>
            <a:off x="1371600" y="1523880"/>
            <a:ext cx="358128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 on the Print Preview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ounded Rectangle 8"/>
          <p:cNvSpPr/>
          <p:nvPr/>
        </p:nvSpPr>
        <p:spPr>
          <a:xfrm>
            <a:off x="2514600" y="34290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lose in the Report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own Arrow 10"/>
          <p:cNvSpPr/>
          <p:nvPr/>
        </p:nvSpPr>
        <p:spPr>
          <a:xfrm>
            <a:off x="2133720" y="22226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own Arrow 14"/>
          <p:cNvSpPr/>
          <p:nvPr/>
        </p:nvSpPr>
        <p:spPr>
          <a:xfrm>
            <a:off x="2666880" y="3200400"/>
            <a:ext cx="457200" cy="328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8"/>
          <p:cNvSpPr/>
          <p:nvPr/>
        </p:nvSpPr>
        <p:spPr>
          <a:xfrm>
            <a:off x="3276720" y="4495680"/>
            <a:ext cx="41907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Done in the Views and Report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Down Arrow 14"/>
          <p:cNvSpPr/>
          <p:nvPr/>
        </p:nvSpPr>
        <p:spPr>
          <a:xfrm>
            <a:off x="32767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defined format intended for printing Microsoft Pro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are intended only for printing or viewing data in the Print Preview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not enter data or work withi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Repor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458200" cy="85068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Repor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subtasks are hidden under summary tasks in a view, reports that contain task lists will include only the summary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ssignments are hidden under tasks or resources in a usage view, the usage reports will also hide assignment det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160020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and print a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and print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514760" cy="3791160"/>
          </a:xfrm>
          <a:prstGeom prst="rect">
            <a:avLst/>
          </a:prstGeom>
          <a:ln w="0">
            <a:noFill/>
          </a:ln>
        </p:spPr>
      </p:pic>
      <p:sp>
        <p:nvSpPr>
          <p:cNvPr id="544" name="Line Callout 1 (Accent Bar) 6"/>
          <p:cNvSpPr/>
          <p:nvPr/>
        </p:nvSpPr>
        <p:spPr>
          <a:xfrm>
            <a:off x="990720" y="289548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975" y="-1192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Callout 1 (Accent Bar) 6"/>
          <p:cNvSpPr/>
          <p:nvPr/>
        </p:nvSpPr>
        <p:spPr>
          <a:xfrm>
            <a:off x="762120" y="4572000"/>
            <a:ext cx="1600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7921" y="-8944"/>
                </a:moveTo>
                <a:lnTo>
                  <a:pt x="22629" y="4000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gend Labels forma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Callout 1 (Accent Bar) 6"/>
          <p:cNvSpPr/>
          <p:nvPr/>
        </p:nvSpPr>
        <p:spPr>
          <a:xfrm>
            <a:off x="990720" y="365760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1375" y="-2452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gnment t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Callout 1 (Accent Bar) 6"/>
          <p:cNvSpPr/>
          <p:nvPr/>
        </p:nvSpPr>
        <p:spPr>
          <a:xfrm>
            <a:off x="990720" y="182880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2375" y="4005"/>
                </a:moveTo>
                <a:lnTo>
                  <a:pt x="22800" y="324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Setup main t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Page Setup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514760" cy="3790800"/>
          </a:xfrm>
          <a:prstGeom prst="rect">
            <a:avLst/>
          </a:prstGeom>
          <a:ln w="0">
            <a:noFill/>
          </a:ln>
        </p:spPr>
      </p:pic>
      <p:sp>
        <p:nvSpPr>
          <p:cNvPr id="551" name="Line Callout 1 (Accent Bar) 6"/>
          <p:cNvSpPr/>
          <p:nvPr/>
        </p:nvSpPr>
        <p:spPr>
          <a:xfrm>
            <a:off x="5715000" y="167652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025" y="115875"/>
                </a:moveTo>
                <a:lnTo>
                  <a:pt x="-1200" y="540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Tim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Callout 1 (Accent Bar) 6"/>
          <p:cNvSpPr/>
          <p:nvPr/>
        </p:nvSpPr>
        <p:spPr>
          <a:xfrm>
            <a:off x="5638680" y="243828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3625" y="81075"/>
                </a:moveTo>
                <a:lnTo>
                  <a:pt x="-1200" y="540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File Nam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Callout 1 (Accent Bar) 6"/>
          <p:cNvSpPr/>
          <p:nvPr/>
        </p:nvSpPr>
        <p:spPr>
          <a:xfrm>
            <a:off x="5486400" y="320040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063" y="5047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sert Pictu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Callout 1 (Accent Bar) 6"/>
          <p:cNvSpPr/>
          <p:nvPr/>
        </p:nvSpPr>
        <p:spPr>
          <a:xfrm>
            <a:off x="6172200" y="472428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225" y="-27525"/>
                </a:moveTo>
                <a:lnTo>
                  <a:pt x="-1200" y="540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gend Width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Page Setup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7" name="Content Placeholder 10"/>
          <p:cNvSpPr/>
          <p:nvPr/>
        </p:nvSpPr>
        <p:spPr>
          <a:xfrm>
            <a:off x="514440" y="1542960"/>
            <a:ext cx="80200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Setup dialog box provides options for customizing the appearance of view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page options, such as margins, as well as paper orientation an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headers, footers, the legend, and view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Page Setup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0" name="Rounded Rectangle 6"/>
          <p:cNvSpPr/>
          <p:nvPr/>
        </p:nvSpPr>
        <p:spPr>
          <a:xfrm>
            <a:off x="2438280" y="193824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ounded Rectangle 7"/>
          <p:cNvSpPr/>
          <p:nvPr/>
        </p:nvSpPr>
        <p:spPr>
          <a:xfrm>
            <a:off x="2651040" y="2743200"/>
            <a:ext cx="32925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int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own Arrow 10"/>
          <p:cNvSpPr/>
          <p:nvPr/>
        </p:nvSpPr>
        <p:spPr>
          <a:xfrm>
            <a:off x="2666880" y="24969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ontent Placeholder 5"/>
          <p:cNvSpPr/>
          <p:nvPr/>
        </p:nvSpPr>
        <p:spPr>
          <a:xfrm>
            <a:off x="1676520" y="3886200"/>
            <a:ext cx="57909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displays the Gantt Chart view in the Print Preview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670640" cy="3279600"/>
          </a:xfrm>
          <a:prstGeom prst="rect">
            <a:avLst/>
          </a:prstGeom>
          <a:ln w="0">
            <a:noFill/>
          </a:ln>
        </p:spPr>
      </p:pic>
      <p:sp>
        <p:nvSpPr>
          <p:cNvPr id="567" name="Line Callout 1 (Accent Bar) 6"/>
          <p:cNvSpPr/>
          <p:nvPr/>
        </p:nvSpPr>
        <p:spPr>
          <a:xfrm>
            <a:off x="762120" y="1676520"/>
            <a:ext cx="121896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7" y="7779"/>
                </a:moveTo>
                <a:lnTo>
                  <a:pt x="22950" y="4629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Righ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Callout 1 (Accent Bar) 6"/>
          <p:cNvSpPr/>
          <p:nvPr/>
        </p:nvSpPr>
        <p:spPr>
          <a:xfrm>
            <a:off x="762120" y="2438280"/>
            <a:ext cx="12189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822" y="-20507"/>
                </a:moveTo>
                <a:lnTo>
                  <a:pt x="22950" y="4629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Down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Callout 1 (Accent Bar) 6"/>
          <p:cNvSpPr/>
          <p:nvPr/>
        </p:nvSpPr>
        <p:spPr>
          <a:xfrm>
            <a:off x="762120" y="3352680"/>
            <a:ext cx="12189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222" y="-58050"/>
                </a:moveTo>
                <a:lnTo>
                  <a:pt x="22950" y="4629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ne Pag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Callout 1 (Accent Bar) 6"/>
          <p:cNvSpPr/>
          <p:nvPr/>
        </p:nvSpPr>
        <p:spPr>
          <a:xfrm>
            <a:off x="762120" y="4267080"/>
            <a:ext cx="1218960" cy="65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797" y="-82744"/>
                </a:moveTo>
                <a:lnTo>
                  <a:pt x="22950" y="4000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ultiple Page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Callout 1 (Accent Bar) 6"/>
          <p:cNvSpPr/>
          <p:nvPr/>
        </p:nvSpPr>
        <p:spPr>
          <a:xfrm>
            <a:off x="7238880" y="2438280"/>
            <a:ext cx="12193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403" y="-16750"/>
                </a:moveTo>
                <a:lnTo>
                  <a:pt x="-1350" y="36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Setup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Callout 1 (Accent Bar) 6"/>
          <p:cNvSpPr/>
          <p:nvPr/>
        </p:nvSpPr>
        <p:spPr>
          <a:xfrm>
            <a:off x="7391520" y="3581280"/>
            <a:ext cx="12189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978" y="44807"/>
                </a:moveTo>
                <a:lnTo>
                  <a:pt x="-1350" y="4629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ustomizing and Printing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5" name="Rounded Rectangle 7"/>
          <p:cNvSpPr/>
          <p:nvPr/>
        </p:nvSpPr>
        <p:spPr>
          <a:xfrm>
            <a:off x="2041560" y="2743200"/>
            <a:ext cx="5045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age Down butto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le 6"/>
          <p:cNvSpPr/>
          <p:nvPr/>
        </p:nvSpPr>
        <p:spPr>
          <a:xfrm>
            <a:off x="1066680" y="190512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age Right button thre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le 8"/>
          <p:cNvSpPr/>
          <p:nvPr/>
        </p:nvSpPr>
        <p:spPr>
          <a:xfrm>
            <a:off x="2514600" y="3581280"/>
            <a:ext cx="4876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ultiple Page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own Arrow 10"/>
          <p:cNvSpPr/>
          <p:nvPr/>
        </p:nvSpPr>
        <p:spPr>
          <a:xfrm>
            <a:off x="2209680" y="2514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Down Arrow 14"/>
          <p:cNvSpPr/>
          <p:nvPr/>
        </p:nvSpPr>
        <p:spPr>
          <a:xfrm>
            <a:off x="2666880" y="33400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ize and Print a Gantt Chart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07T18:04:11Z</dcterms:modified>
  <cp:revision>182</cp:revision>
  <dc:subject/>
  <dc:title>Project Basics</dc:title>
</cp:coreProperties>
</file>