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520B-680B-4131-9778-BE35C86E7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4496-C34D-4102-823D-10538126A0A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A151E-E320-4330-9169-287A7A83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3BDB6-11FC-4BF1-BE84-15196550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3DA8E-6A1D-43AE-9C4F-5316D249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A0846-0A37-4DA1-A278-CDEAA27C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1F73E-29A0-4634-B738-E191622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17A64-16BA-4E1B-8B31-3FFAB14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D4E45-3BD6-40D0-9913-46DC944D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95F33-89C3-41C5-8BF9-28828BD1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83894-6AF5-43DC-B2C3-A531F976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3B128-ABDE-4019-A154-EC3EC5AB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8553-0477-49C4-8543-42707C437AA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D00FA-C38F-446C-9A4D-F2C0F70E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A23AF-DB5A-4DE2-BAE0-3AB106F4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35F00-3DB8-49D7-8059-0250A970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DF1E7-7E31-42AA-B5BE-1AB21363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FC734-F738-4414-846E-DB4F272B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8F14-4A2B-41CC-958D-E3F1519F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31AE9-2084-4483-AC65-D2A9C531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6306E-5405-4444-AFE5-BD2782D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15605-5B19-47C3-B761-FE9A121C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39139-4F0E-4424-A08F-60256D74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E126-1925-4C41-B624-269F7AF93B9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ED005-AD7D-4642-8013-94A15ABE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ED190-CB66-4A2C-821D-1A390187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2E6C4-DB26-4A60-A049-DB64C7FB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BED28-E2A4-4CC0-A396-D1039CE2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57CEC-486E-4390-8C22-5FE889AB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690CA-9C54-4702-A3C9-0F8DE86B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2ECFA-BB22-41D1-9A9C-A4D1BB08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49A53-6216-4C59-AAD2-C366D585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1B250-4351-4572-BCEB-2282983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B5DD2-2782-4F8C-A632-11580472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3D2BE-C59E-4F0D-9F03-82AC9151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B6042-99A2-4F5C-A673-AE5549CB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1072B-E23D-473A-ACDE-49260C93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2740D-6269-4537-B2B3-785064AB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8ECC2-B7B8-4337-84C2-E28154E8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93D59-89EE-4B66-BCF7-BFCC23DD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774EB-1DE5-4272-B2FE-D6B57F26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D401F-5D16-4A2C-A1DF-267BADA1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9AFF5-55EC-4AEF-83C6-BABF3350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F1CA6-4517-4C03-AE95-6661EA6F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9733E-D508-4E6D-A6DF-187C2605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F1070-2713-47BD-BBA1-653A4B31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BAF09-3096-493D-9AAD-0AA37F7A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81FBE-3898-43DC-AA1C-C6344770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05AA1-50C8-4A10-958A-32E76249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F59AF-325F-4EF7-B283-11653DDF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A8848-6C8E-4C31-935E-52FE8D1F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47656-1292-475A-97D4-92C8CED3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2E8A5-902F-45A0-A5D7-39791846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A405E-BCA5-44E8-9E8C-368870CC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9D0C0-6E25-4C58-A2F1-2653A15A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F35B7-BC09-4567-9B7A-973B339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EF71-BC6C-4177-A826-371BE29BD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0B858-1727-4E3E-8001-34CFB21D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53A1A-D0E2-49A3-B05A-A7EC1F55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2BCE2-1FE3-4CFD-B54A-950F0478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0ED09-1D64-41BD-A4EF-41BD0591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C5ED9-08A3-4350-92FA-BF16601D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9B93A-006C-4354-8E55-1474C0CF5A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B41B6-6016-40BD-90CD-91277262AF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C4423-B9DA-40A2-AC82-F5560CAAE1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D1241-33AA-40D0-ADDF-9611BF9354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3EAB4-5720-4360-B438-3CEB7BCF49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0B46-1AA0-4CEE-BA27-7D39A82EA1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9A095-8427-462E-9456-631CAC007A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7236C-104F-4B6A-93CB-476D5D9B93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C372D-E053-41D4-85BE-B823391EAD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76ABC-005C-4FDA-97E1-F9ACC91505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BE467-BCAC-4857-ADAC-15C3C4073A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7E7A7-72C0-4790-AEA7-ACCEE6B672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C2BEC-A119-4651-8864-ABE7EC38AB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8B861-F8D4-4A02-8B01-A3EC8D27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E103D-3751-417C-B7CF-300B06B4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76E8F-D972-4AB5-9501-A64DE8D5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2CF4-EB8F-456A-82D5-46E9EFDD30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D7B0F-03A4-4474-97A4-813BDC84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FD468-A182-4C78-BA03-EFDDB66E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7E24A-1D13-4B9C-B2E0-8A573808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EF1D8-B75D-4B23-ABEC-0B1E4D01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79921-50D8-4BA5-B7BE-93A71707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AE3A4-342B-4CEA-861B-66A71084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0E6F2-D698-40D6-BCB4-A7C0D046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4D2BE-3544-458F-8C69-5C1EB8B1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D0866-AB98-4B1D-8C00-766AF0BA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7F37-54A0-469D-BEE5-57566EA80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7F15-319E-4016-A221-2AAD42389D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97E0-8430-4FC0-B0A8-882D80E6CAA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5D5E-060D-48BE-9CB6-5E3BC0A0D8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A6FB-FAAF-4E74-8031-B5724FC9765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1B046-9980-4369-B93D-A4FA1D5664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CCC3-8444-43A1-AF17-1E59B98D74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CCDC-EB56-4E63-A3E4-0BF1C13047C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2CD6-D786-440E-82D9-2E7B0B60B2E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718F-F4B6-4510-9E3B-CAAD4C3343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272D6-E543-4A32-8CEE-27C87596C55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3B2C-AE1D-4258-B368-E0566D521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23B2-7386-44E0-B2EC-7709AA7DD2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6466-9C42-4EC6-9F70-05E88A0EA7C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BAD6F-A250-4D5D-845E-C71CED05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0A66-3475-4624-924D-AFB63BA5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8F01-A5A1-47A3-B42D-95887784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C75E8-8897-4CE1-99D2-DA9F99AD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AAC43-08A3-4670-A922-9FB9C7D9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98330-AF9B-413E-8672-7C44BAEE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5E79-1E1A-4C34-937C-F87BC345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53023-F502-458D-AFE5-2F58AD53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2C72-F2E6-4EE3-B047-31A9061C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A36F-16C5-407E-9A0E-FDE3674FB5D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9CC13-7C14-49C1-A56D-F587A5C2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1905D-D054-4415-8D5B-51F7B8CC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5026-24E3-41F7-9A03-8E9DDF11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5DBE8-5B96-4153-8F51-D2383D8E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488C1-D16B-47C9-947F-98F797DF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EC6B6-257F-4FD9-B2E3-5EBF69FA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3AAD9-F40E-4B82-8B65-2311E0B5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C0D75-2FCB-4F35-AD3E-66EBDE59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AAAF-937B-4306-8E02-19F49CF9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989F1-9663-46B0-BEB6-B7AD77F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BFE7-BAD1-49F4-97AD-1BFA6DDEF41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A976-A85C-4B7A-B11E-E7E2101E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B9AD4-1A68-4BCA-A86F-3842536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8B29E-94EF-4433-93E6-1797E252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EC37D-773C-47F8-A33A-94CBB77C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5F6F3-B9E5-4B6A-B99F-D24F3BB9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B2712-BAFB-4FF8-8DCB-882C489D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23C6F-EF36-401C-8507-20020B88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D9EC1-425C-4B9B-9264-53ABC310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F2EF0-8CB0-429A-93E9-0B7E0E5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B547F-A151-4937-B747-9AFAB08E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BCFE-B853-4055-9220-61D8EB0C12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40C89-D035-47AD-ACCB-98BAEFEA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BD41E-CF3E-4D9F-A92E-2F71065D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D81D2-D701-44E4-A497-773A2216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1AC82-72F4-4C98-9C6E-FB78FC5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AA3D4-1F64-468E-92B8-37F64E62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2C528-B76C-463E-9F98-45DAB30C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B8BB2-843D-4B67-B60C-F2A1FC5B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CD810-ADC1-40EE-9CFD-F70DE4C5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1D72E-7145-4DF1-A16B-AC930FCD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AF4BF-B752-4854-958D-224A2530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FD88-3236-46FC-9D80-1D3F4BCB0D1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8FC4-9A84-4D81-AD39-D5E5CD72539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C689-BBA1-46A0-AC0C-06FF6B11B5C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218C-8A63-4803-B8CA-C068048D936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24B-AE53-4001-A9B5-A485A4084FD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A5BB-0D70-4BE4-962B-C024D2EEE4A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BC76-9F6D-41FC-88D2-91959BDB8C4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4EF1-D5FF-427C-8D1D-D158BA3AE83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B47C-45C2-42D6-99BF-E420966820B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DBBA-ECC7-423F-8183-744D903FFBD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8EEF-B4D2-48B5-98B8-F7C204C1809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5096-466A-46A9-B12E-EBE1FBEA2CA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Resource and Task Assignments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3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4927680" cy="29876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Work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6" name="Line Callout 1 (Accent Bar) 13"/>
          <p:cNvSpPr/>
          <p:nvPr/>
        </p:nvSpPr>
        <p:spPr>
          <a:xfrm>
            <a:off x="914400" y="1676520"/>
            <a:ext cx="220968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2807" y="11340"/>
                </a:moveTo>
                <a:lnTo>
                  <a:pt x="22345" y="324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name appears next to task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Callout 1 (Accent Bar) 13"/>
          <p:cNvSpPr/>
          <p:nvPr/>
        </p:nvSpPr>
        <p:spPr>
          <a:xfrm>
            <a:off x="1066680" y="2819520"/>
            <a:ext cx="221004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1641" y="28440"/>
                </a:moveTo>
                <a:lnTo>
                  <a:pt x="22345" y="324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eck mark shows resource has been assigned to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Callout 1 (Accent Bar) 13"/>
          <p:cNvSpPr/>
          <p:nvPr/>
        </p:nvSpPr>
        <p:spPr>
          <a:xfrm>
            <a:off x="3886200" y="4876920"/>
            <a:ext cx="33526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055" y="-39600"/>
                </a:moveTo>
                <a:lnTo>
                  <a:pt x="22091" y="4629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st of resource assignment for selected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Callout 1 (Accent Bar) 13"/>
          <p:cNvSpPr/>
          <p:nvPr/>
        </p:nvSpPr>
        <p:spPr>
          <a:xfrm>
            <a:off x="914400" y="4114800"/>
            <a:ext cx="2209680" cy="99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559" y="-8862"/>
                </a:moveTo>
                <a:lnTo>
                  <a:pt x="22345" y="2492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assignment data is added to Review Information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ke Individual Resource Assignment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ultiple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2" name="Rounded Rectangle 7"/>
          <p:cNvSpPr/>
          <p:nvPr/>
        </p:nvSpPr>
        <p:spPr>
          <a:xfrm>
            <a:off x="1219320" y="2514600"/>
            <a:ext cx="67975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ames of the desired resources in the Assign Resource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ounded Rectangle 6"/>
          <p:cNvSpPr/>
          <p:nvPr/>
        </p:nvSpPr>
        <p:spPr>
          <a:xfrm>
            <a:off x="609480" y="1676520"/>
            <a:ext cx="5562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name of the desired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ounded Rectangle 8"/>
          <p:cNvSpPr/>
          <p:nvPr/>
        </p:nvSpPr>
        <p:spPr>
          <a:xfrm>
            <a:off x="1752480" y="3581280"/>
            <a:ext cx="647712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 button in the Assign Resource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Down Arrow 14"/>
          <p:cNvSpPr/>
          <p:nvPr/>
        </p:nvSpPr>
        <p:spPr>
          <a:xfrm>
            <a:off x="175248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Multiple Resources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046840" cy="3051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ultiple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0" name="Line Callout 1 (Accent Bar) 13"/>
          <p:cNvSpPr/>
          <p:nvPr/>
        </p:nvSpPr>
        <p:spPr>
          <a:xfrm>
            <a:off x="914400" y="1600200"/>
            <a:ext cx="2209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5979" y="13500"/>
                </a:moveTo>
                <a:lnTo>
                  <a:pt x="22345" y="324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name appears next to task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Callout 1 (Accent Bar) 13"/>
          <p:cNvSpPr/>
          <p:nvPr/>
        </p:nvSpPr>
        <p:spPr>
          <a:xfrm>
            <a:off x="914400" y="3200400"/>
            <a:ext cx="2209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2386" y="17640"/>
                </a:moveTo>
                <a:lnTo>
                  <a:pt x="22345" y="324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eck mark shows resources have been assigned to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Callout 1 (Accent Bar) 13"/>
          <p:cNvSpPr/>
          <p:nvPr/>
        </p:nvSpPr>
        <p:spPr>
          <a:xfrm>
            <a:off x="914400" y="4114800"/>
            <a:ext cx="2209680" cy="99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441" y="-3323"/>
                </a:moveTo>
                <a:lnTo>
                  <a:pt x="22345" y="2492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assignment data is added to Review Information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Callout 1 (Accent Bar) 13"/>
          <p:cNvSpPr/>
          <p:nvPr/>
        </p:nvSpPr>
        <p:spPr>
          <a:xfrm>
            <a:off x="3657600" y="4952880"/>
            <a:ext cx="35812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591" y="-48600"/>
                </a:moveTo>
                <a:lnTo>
                  <a:pt x="22060" y="5400"/>
                </a:lnTo>
              </a:path>
              <a:path w="21600" h="21600">
                <a:moveTo>
                  <a:pt x="22060" y="0"/>
                </a:moveTo>
                <a:lnTo>
                  <a:pt x="2206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st of resource assignment for selected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Callout 1 (Accent Bar) 13"/>
          <p:cNvSpPr/>
          <p:nvPr/>
        </p:nvSpPr>
        <p:spPr>
          <a:xfrm>
            <a:off x="914400" y="2438280"/>
            <a:ext cx="220968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1890" y="29700"/>
                </a:moveTo>
                <a:lnTo>
                  <a:pt x="22345" y="400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to which resources are assig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Multiple Resources Simultaneousl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More Resource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Resources to a Tas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Content Placeholder 10"/>
          <p:cNvSpPr/>
          <p:nvPr/>
        </p:nvSpPr>
        <p:spPr>
          <a:xfrm>
            <a:off x="514440" y="1542960"/>
            <a:ext cx="78674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assign a resource to a task, the result i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is the total amount of effort a resource or resources will spend to complete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calculates work using a scheduling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ation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nits =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More Resource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Resources to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effort-driven scheduling, the duration of a task increases or decreases as you remove or assign resources to a t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k does not chan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ject can adjust successor tasks based on new task dur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More Resource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Resources to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Content Placeholder 10"/>
          <p:cNvSpPr/>
          <p:nvPr/>
        </p:nvSpPr>
        <p:spPr>
          <a:xfrm>
            <a:off x="514440" y="1542960"/>
            <a:ext cx="81723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have already started to define resource assignments for tasks in you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now want to assign additional resources to one or more of these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ort-driven scheduling causes duration to be adjusted when you add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More Resource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Resources to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Rounded Rectangle 7"/>
          <p:cNvSpPr/>
          <p:nvPr/>
        </p:nvSpPr>
        <p:spPr>
          <a:xfrm>
            <a:off x="1219320" y="2514600"/>
            <a:ext cx="7162560" cy="11430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ame(s) of the desired resource(s) in the Assign Resource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ounded Rectangle 6"/>
          <p:cNvSpPr/>
          <p:nvPr/>
        </p:nvSpPr>
        <p:spPr>
          <a:xfrm>
            <a:off x="609480" y="1600200"/>
            <a:ext cx="5562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name of the desired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ounded Rectangle 8"/>
          <p:cNvSpPr/>
          <p:nvPr/>
        </p:nvSpPr>
        <p:spPr>
          <a:xfrm>
            <a:off x="1752480" y="3809880"/>
            <a:ext cx="647712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 button in the Assign Resource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Down Arrow 10"/>
          <p:cNvSpPr/>
          <p:nvPr/>
        </p:nvSpPr>
        <p:spPr>
          <a:xfrm>
            <a:off x="1371600" y="2209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own Arrow 14"/>
          <p:cNvSpPr/>
          <p:nvPr/>
        </p:nvSpPr>
        <p:spPr>
          <a:xfrm>
            <a:off x="2057400" y="3505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5613480" cy="311004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More Resource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Resources to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Line Callout 1 (Accent Bar) 6"/>
          <p:cNvSpPr/>
          <p:nvPr/>
        </p:nvSpPr>
        <p:spPr>
          <a:xfrm>
            <a:off x="762120" y="2133720"/>
            <a:ext cx="198108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1888" y="9060"/>
                </a:moveTo>
                <a:lnTo>
                  <a:pt x="22431" y="2160"/>
                </a:lnTo>
              </a:path>
              <a:path w="21600" h="21600">
                <a:moveTo>
                  <a:pt x="22431" y="0"/>
                </a:moveTo>
                <a:lnTo>
                  <a:pt x="2243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ask duration decreases as additional resources are assig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Callout 1 (Accent Bar) 6"/>
          <p:cNvSpPr/>
          <p:nvPr/>
        </p:nvSpPr>
        <p:spPr>
          <a:xfrm>
            <a:off x="6095880" y="1600200"/>
            <a:ext cx="2514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27" y="39450"/>
                </a:moveTo>
                <a:lnTo>
                  <a:pt x="-655" y="5400"/>
                </a:lnTo>
              </a:path>
              <a:path w="21600" h="21600">
                <a:moveTo>
                  <a:pt x="-655" y="0"/>
                </a:moveTo>
                <a:lnTo>
                  <a:pt x="-65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ange Highlighting shows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867280" y="1905120"/>
            <a:ext cx="1526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Callout 1 (Accent Bar) 6"/>
          <p:cNvSpPr/>
          <p:nvPr/>
        </p:nvSpPr>
        <p:spPr>
          <a:xfrm>
            <a:off x="685800" y="3962520"/>
            <a:ext cx="198108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165" y="9780"/>
                </a:moveTo>
                <a:lnTo>
                  <a:pt x="22431" y="2160"/>
                </a:lnTo>
              </a:path>
              <a:path w="21600" h="21600">
                <a:moveTo>
                  <a:pt x="22431" y="0"/>
                </a:moveTo>
                <a:lnTo>
                  <a:pt x="2243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uration and work changes can be monitored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More Resource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0" name="Content Placeholder 10"/>
          <p:cNvSpPr/>
          <p:nvPr/>
        </p:nvSpPr>
        <p:spPr>
          <a:xfrm>
            <a:off x="514440" y="1542960"/>
            <a:ext cx="81723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mart Tag can be used to assign additional resources to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options for adjusting work or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mart Tag is only available until you perform another actio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6095880" cy="1384200"/>
          </a:xfrm>
          <a:prstGeom prst="rect">
            <a:avLst/>
          </a:prstGeom>
          <a:ln w="0">
            <a:noFill/>
          </a:ln>
        </p:spPr>
      </p:pic>
      <p:sp>
        <p:nvSpPr>
          <p:cNvPr id="62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Smart Tag to Assign Resources to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More Resource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4" name="Rounded Rectangle 6"/>
          <p:cNvSpPr/>
          <p:nvPr/>
        </p:nvSpPr>
        <p:spPr>
          <a:xfrm>
            <a:off x="609480" y="1600200"/>
            <a:ext cx="6553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name of the desired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7"/>
          <p:cNvSpPr/>
          <p:nvPr/>
        </p:nvSpPr>
        <p:spPr>
          <a:xfrm>
            <a:off x="1203480" y="2481120"/>
            <a:ext cx="7178400" cy="1100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ame(s) of the desired resource(s) in the Assign Resource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ounded Rectangle 8"/>
          <p:cNvSpPr/>
          <p:nvPr/>
        </p:nvSpPr>
        <p:spPr>
          <a:xfrm>
            <a:off x="1752480" y="3733920"/>
            <a:ext cx="655344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 button in the Assign Resource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own Arrow 10"/>
          <p:cNvSpPr/>
          <p:nvPr/>
        </p:nvSpPr>
        <p:spPr>
          <a:xfrm>
            <a:off x="1447920" y="2209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own Arrow 14"/>
          <p:cNvSpPr/>
          <p:nvPr/>
        </p:nvSpPr>
        <p:spPr>
          <a:xfrm>
            <a:off x="1981080" y="3505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Smart Tag to Assign Resources to Task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251460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 work resources to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individual resource 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 multiple resources simultaneous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more resource assignments to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resources to a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a Smart Tag to assign resources to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More Resource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14080" y="1542960"/>
            <a:ext cx="398124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mall triangle appears to indicate that there is a Smart Tag activated for this t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to or mouse over the task to activate the Smart Tag indic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48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209760" cy="1933560"/>
          </a:xfrm>
          <a:prstGeom prst="rect">
            <a:avLst/>
          </a:prstGeom>
          <a:ln w="0">
            <a:noFill/>
          </a:ln>
        </p:spPr>
      </p:pic>
      <p:sp>
        <p:nvSpPr>
          <p:cNvPr id="635" name="Line Callout 1 (Accent Bar) 6"/>
          <p:cNvSpPr/>
          <p:nvPr/>
        </p:nvSpPr>
        <p:spPr>
          <a:xfrm>
            <a:off x="6019920" y="1676520"/>
            <a:ext cx="2514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00" y="55650"/>
                </a:moveTo>
                <a:lnTo>
                  <a:pt x="-655" y="5400"/>
                </a:lnTo>
              </a:path>
              <a:path w="21600" h="21600">
                <a:moveTo>
                  <a:pt x="-655" y="0"/>
                </a:moveTo>
                <a:lnTo>
                  <a:pt x="-65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mart Tag indi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Callout 1 (Accent Bar) 6"/>
          <p:cNvSpPr/>
          <p:nvPr/>
        </p:nvSpPr>
        <p:spPr>
          <a:xfrm>
            <a:off x="6324480" y="4724280"/>
            <a:ext cx="18288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00" y="-82350"/>
                </a:moveTo>
                <a:lnTo>
                  <a:pt x="-900" y="5400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iangle indi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Smart Tag to Assign Resources to Task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More Resource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03280" y="1542960"/>
            <a:ext cx="3154320" cy="3562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Smart Tag Actions butt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desired option from the Smart Tag 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rcRect l="18750" t="0" r="18750" b="55657"/>
          <a:stretch/>
        </p:blipFill>
        <p:spPr>
          <a:xfrm>
            <a:off x="3962520" y="2590920"/>
            <a:ext cx="4606920" cy="1982520"/>
          </a:xfrm>
          <a:prstGeom prst="rect">
            <a:avLst/>
          </a:prstGeom>
          <a:ln w="0">
            <a:noFill/>
          </a:ln>
        </p:spPr>
      </p:pic>
      <p:sp>
        <p:nvSpPr>
          <p:cNvPr id="641" name="Line Callout 1 (Accent Bar) 6"/>
          <p:cNvSpPr/>
          <p:nvPr/>
        </p:nvSpPr>
        <p:spPr>
          <a:xfrm>
            <a:off x="5410080" y="1676520"/>
            <a:ext cx="2514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1" y="79050"/>
                </a:moveTo>
                <a:lnTo>
                  <a:pt x="-655" y="5400"/>
                </a:lnTo>
              </a:path>
              <a:path w="21600" h="21600">
                <a:moveTo>
                  <a:pt x="-655" y="0"/>
                </a:moveTo>
                <a:lnTo>
                  <a:pt x="-65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mart Tag Actions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Smart Tag to Assign Resources to Task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More Resource Assignment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rcRect l="0" t="0" r="50725" b="0"/>
          <a:stretch/>
        </p:blipFill>
        <p:spPr>
          <a:xfrm>
            <a:off x="762120" y="1600200"/>
            <a:ext cx="2687400" cy="30193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"/>
          <a:srcRect l="0" t="0" r="50725" b="0"/>
          <a:stretch/>
        </p:blipFill>
        <p:spPr>
          <a:xfrm>
            <a:off x="5791320" y="1600200"/>
            <a:ext cx="2687400" cy="3019320"/>
          </a:xfrm>
          <a:prstGeom prst="rect">
            <a:avLst/>
          </a:prstGeom>
          <a:ln w="0">
            <a:noFill/>
          </a:ln>
        </p:spPr>
      </p:pic>
      <p:sp>
        <p:nvSpPr>
          <p:cNvPr id="646" name="TextBox 5"/>
          <p:cNvSpPr/>
          <p:nvPr/>
        </p:nvSpPr>
        <p:spPr>
          <a:xfrm>
            <a:off x="3733920" y="1676520"/>
            <a:ext cx="1904760" cy="1798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hen you select the second option in the Smart Tag options list, pay careful attention to the “before” and “after” duration and work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Callout 1 (Accent Bar) 13"/>
          <p:cNvSpPr/>
          <p:nvPr/>
        </p:nvSpPr>
        <p:spPr>
          <a:xfrm>
            <a:off x="1752480" y="4800600"/>
            <a:ext cx="16765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18" y="-43920"/>
                </a:moveTo>
                <a:lnTo>
                  <a:pt x="-982" y="6480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efore”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Callout 1 (Accent Bar) 13"/>
          <p:cNvSpPr/>
          <p:nvPr/>
        </p:nvSpPr>
        <p:spPr>
          <a:xfrm>
            <a:off x="6858000" y="4800600"/>
            <a:ext cx="16765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64" y="-45360"/>
                </a:moveTo>
                <a:lnTo>
                  <a:pt x="-982" y="6480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”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e a Smart Tag to Assign Resources to Task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aterial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502920" y="1542960"/>
            <a:ext cx="42973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Show/Hide Project Guide button to close the Project Gu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greater viewing area onscre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Assign Resources button on the Standard toolb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695520" cy="66528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5029200" y="2590920"/>
            <a:ext cx="3124080" cy="3070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how/Hide Project Guid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5"/>
          <p:cNvSpPr/>
          <p:nvPr/>
        </p:nvSpPr>
        <p:spPr>
          <a:xfrm>
            <a:off x="5334120" y="4572000"/>
            <a:ext cx="2438280" cy="3070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sign Resources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6172200" y="3733920"/>
            <a:ext cx="695160" cy="664920"/>
          </a:xfrm>
          <a:prstGeom prst="rect">
            <a:avLst/>
          </a:prstGeom>
          <a:ln w="0">
            <a:noFill/>
          </a:ln>
        </p:spPr>
      </p:pic>
      <p:sp>
        <p:nvSpPr>
          <p:cNvPr id="65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a Material Resource to a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aterial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8" name="Rounded Rectangle 6"/>
          <p:cNvSpPr/>
          <p:nvPr/>
        </p:nvSpPr>
        <p:spPr>
          <a:xfrm>
            <a:off x="609480" y="1600200"/>
            <a:ext cx="6553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name of the desired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ounded Rectangle 7"/>
          <p:cNvSpPr/>
          <p:nvPr/>
        </p:nvSpPr>
        <p:spPr>
          <a:xfrm>
            <a:off x="1203480" y="2481120"/>
            <a:ext cx="7178400" cy="11001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Units field for the desired resource in the Assign Resource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ounded Rectangle 8"/>
          <p:cNvSpPr/>
          <p:nvPr/>
        </p:nvSpPr>
        <p:spPr>
          <a:xfrm>
            <a:off x="1752480" y="3733920"/>
            <a:ext cx="655344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the desired number of units for the selected material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Down Arrow 10"/>
          <p:cNvSpPr/>
          <p:nvPr/>
        </p:nvSpPr>
        <p:spPr>
          <a:xfrm>
            <a:off x="1447920" y="2209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own Arrow 14"/>
          <p:cNvSpPr/>
          <p:nvPr/>
        </p:nvSpPr>
        <p:spPr>
          <a:xfrm>
            <a:off x="1981080" y="3505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ounded Rectangle 6"/>
          <p:cNvSpPr/>
          <p:nvPr/>
        </p:nvSpPr>
        <p:spPr>
          <a:xfrm>
            <a:off x="2133720" y="480060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s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Down Arrow 14"/>
          <p:cNvSpPr/>
          <p:nvPr/>
        </p:nvSpPr>
        <p:spPr>
          <a:xfrm>
            <a:off x="2209680" y="45720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a Material Resource to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479840" cy="27162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aterial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8" name="Line Callout 1 (Accent Bar) 8"/>
          <p:cNvSpPr/>
          <p:nvPr/>
        </p:nvSpPr>
        <p:spPr>
          <a:xfrm>
            <a:off x="914400" y="4495680"/>
            <a:ext cx="21337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4511" y="-15150"/>
                </a:moveTo>
                <a:lnTo>
                  <a:pt x="22371" y="36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terial resource label displayed in the units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Callout 1 (Accent Bar) 8"/>
          <p:cNvSpPr/>
          <p:nvPr/>
        </p:nvSpPr>
        <p:spPr>
          <a:xfrm>
            <a:off x="914400" y="1828800"/>
            <a:ext cx="21337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7468" y="23650"/>
                </a:moveTo>
                <a:lnTo>
                  <a:pt x="22371" y="36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terial resource listed next to task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a Material Resource to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Material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33160" y="1523880"/>
            <a:ext cx="780228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ways to handle cost and consumption of a material re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 a fixed unit quant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 a variable rate quant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a Material Resource to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5341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Cost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a Cost Resource to a Tas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Rounded Rectangle 6"/>
          <p:cNvSpPr/>
          <p:nvPr/>
        </p:nvSpPr>
        <p:spPr>
          <a:xfrm>
            <a:off x="609480" y="1600200"/>
            <a:ext cx="472464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 Resources button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ounded Rectangle 7"/>
          <p:cNvSpPr/>
          <p:nvPr/>
        </p:nvSpPr>
        <p:spPr>
          <a:xfrm>
            <a:off x="1143000" y="2666880"/>
            <a:ext cx="5715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name of the desired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ounded Rectangle 8"/>
          <p:cNvSpPr/>
          <p:nvPr/>
        </p:nvSpPr>
        <p:spPr>
          <a:xfrm>
            <a:off x="1752480" y="3505320"/>
            <a:ext cx="6019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desired cost resource in the Assign Resource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Down Arrow 10"/>
          <p:cNvSpPr/>
          <p:nvPr/>
        </p:nvSpPr>
        <p:spPr>
          <a:xfrm>
            <a:off x="1447920" y="24382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Down Arrow 14"/>
          <p:cNvSpPr/>
          <p:nvPr/>
        </p:nvSpPr>
        <p:spPr>
          <a:xfrm>
            <a:off x="1905120" y="3276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ounded Rectangle 6"/>
          <p:cNvSpPr/>
          <p:nvPr/>
        </p:nvSpPr>
        <p:spPr>
          <a:xfrm>
            <a:off x="2133720" y="45720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the cost in the Cost column for the selected cost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Down Arrow 14"/>
          <p:cNvSpPr/>
          <p:nvPr/>
        </p:nvSpPr>
        <p:spPr>
          <a:xfrm>
            <a:off x="2209680" y="43434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Cost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rcRect l="0" t="0" r="14063" b="0"/>
          <a:stretch/>
        </p:blipFill>
        <p:spPr>
          <a:xfrm>
            <a:off x="4038480" y="1752480"/>
            <a:ext cx="4597560" cy="3108600"/>
          </a:xfrm>
          <a:prstGeom prst="rect">
            <a:avLst/>
          </a:prstGeom>
          <a:ln w="0">
            <a:noFill/>
          </a:ln>
        </p:spPr>
      </p:pic>
      <p:sp>
        <p:nvSpPr>
          <p:cNvPr id="685" name="Line Callout 1 (Accent Bar) 8"/>
          <p:cNvSpPr/>
          <p:nvPr/>
        </p:nvSpPr>
        <p:spPr>
          <a:xfrm>
            <a:off x="990720" y="1752480"/>
            <a:ext cx="167616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65250" y="23650"/>
                </a:moveTo>
                <a:lnTo>
                  <a:pt x="22582" y="3600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st resource assig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Callout 1 (Accent Bar) 8"/>
          <p:cNvSpPr/>
          <p:nvPr/>
        </p:nvSpPr>
        <p:spPr>
          <a:xfrm>
            <a:off x="990720" y="3048120"/>
            <a:ext cx="167616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1286" y="-14750"/>
                </a:moveTo>
                <a:lnTo>
                  <a:pt x="22582" y="3600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st of Cost 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Callout 1 (Accent Bar) 8"/>
          <p:cNvSpPr/>
          <p:nvPr/>
        </p:nvSpPr>
        <p:spPr>
          <a:xfrm>
            <a:off x="990720" y="4114800"/>
            <a:ext cx="167616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3432" y="-17550"/>
                </a:moveTo>
                <a:lnTo>
                  <a:pt x="22582" y="3600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st resource appears next to task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a Cost Resource to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Cost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0" name="Content Placeholder 8"/>
          <p:cNvSpPr/>
          <p:nvPr/>
        </p:nvSpPr>
        <p:spPr>
          <a:xfrm>
            <a:off x="514440" y="1542960"/>
            <a:ext cx="79437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of cos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vel expe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dging expe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t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fixed resource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ign a Cost Resource to a Tas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57200" y="1600200"/>
          <a:ext cx="8229600" cy="1871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 material resources to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 a material resource to a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 cost resources to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 a cost resource to a 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work resources to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resource assignments to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aterial resources to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cost resources to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5256000" cy="3573360"/>
          </a:xfrm>
          <a:prstGeom prst="rect">
            <a:avLst/>
          </a:prstGeom>
          <a:ln w="0">
            <a:noFill/>
          </a:ln>
        </p:spPr>
      </p:pic>
      <p:sp>
        <p:nvSpPr>
          <p:cNvPr id="539" name="TextBox 5"/>
          <p:cNvSpPr/>
          <p:nvPr/>
        </p:nvSpPr>
        <p:spPr>
          <a:xfrm>
            <a:off x="762120" y="2209680"/>
            <a:ext cx="1752480" cy="1372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sign Resources dialog box activated using the Resources pane of the Project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Assign Resources Dialog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2" name="TextBox 5"/>
          <p:cNvSpPr/>
          <p:nvPr/>
        </p:nvSpPr>
        <p:spPr>
          <a:xfrm>
            <a:off x="533520" y="2286000"/>
            <a:ext cx="1752480" cy="15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sign Resources dialog box activated using the Assign Resources button on the Standard tool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5800" cy="3632040"/>
          </a:xfrm>
          <a:prstGeom prst="rect">
            <a:avLst/>
          </a:prstGeom>
          <a:ln w="0">
            <a:noFill/>
          </a:ln>
        </p:spPr>
      </p:pic>
      <p:sp>
        <p:nvSpPr>
          <p:cNvPr id="544" name="Line Callout 1 (Accent Bar) 6"/>
          <p:cNvSpPr/>
          <p:nvPr/>
        </p:nvSpPr>
        <p:spPr>
          <a:xfrm>
            <a:off x="7086600" y="2209680"/>
            <a:ext cx="1371600" cy="175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825" y="14889"/>
                </a:moveTo>
                <a:lnTo>
                  <a:pt x="-1200" y="1409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te the Units column in this dialog b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ed to assign material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Assign Resources Dialog Bo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Work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7" name="Rounded Rectangle 9"/>
          <p:cNvSpPr/>
          <p:nvPr/>
        </p:nvSpPr>
        <p:spPr>
          <a:xfrm>
            <a:off x="2133720" y="4114800"/>
            <a:ext cx="647676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ssign Resources dialog box is ac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ounded Rectangle 6"/>
          <p:cNvSpPr/>
          <p:nvPr/>
        </p:nvSpPr>
        <p:spPr>
          <a:xfrm>
            <a:off x="609480" y="1676520"/>
            <a:ext cx="65534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sources on the Projec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7"/>
          <p:cNvSpPr/>
          <p:nvPr/>
        </p:nvSpPr>
        <p:spPr>
          <a:xfrm>
            <a:off x="1203480" y="2481120"/>
            <a:ext cx="6949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ssign people and equipment to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8"/>
          <p:cNvSpPr/>
          <p:nvPr/>
        </p:nvSpPr>
        <p:spPr>
          <a:xfrm>
            <a:off x="1752480" y="3276720"/>
            <a:ext cx="6477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Assig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Down Arrow 15"/>
          <p:cNvSpPr/>
          <p:nvPr/>
        </p:nvSpPr>
        <p:spPr>
          <a:xfrm>
            <a:off x="2286000" y="386064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ke Individual Resource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Work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56" name="Text Placeholder 3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4616280" cy="2798640"/>
          </a:xfrm>
          <a:prstGeom prst="rect">
            <a:avLst/>
          </a:prstGeom>
          <a:ln w="0">
            <a:noFill/>
          </a:ln>
        </p:spPr>
      </p:pic>
      <p:sp>
        <p:nvSpPr>
          <p:cNvPr id="557" name="Line Callout 1 (Accent Bar) 6"/>
          <p:cNvSpPr/>
          <p:nvPr/>
        </p:nvSpPr>
        <p:spPr>
          <a:xfrm>
            <a:off x="762120" y="1828800"/>
            <a:ext cx="20574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250" y="13275"/>
                </a:moveTo>
                <a:lnTo>
                  <a:pt x="22400" y="5400"/>
                </a:lnTo>
              </a:path>
              <a:path w="21600" h="21600">
                <a:moveTo>
                  <a:pt x="22400" y="0"/>
                </a:moveTo>
                <a:lnTo>
                  <a:pt x="224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 the Assign Resources pan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Callout 1 (Accent Bar) 6"/>
          <p:cNvSpPr/>
          <p:nvPr/>
        </p:nvSpPr>
        <p:spPr>
          <a:xfrm>
            <a:off x="762120" y="2514600"/>
            <a:ext cx="20574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983" y="675"/>
                </a:moveTo>
                <a:lnTo>
                  <a:pt x="22400" y="5400"/>
                </a:lnTo>
              </a:path>
              <a:path w="21600" h="21600">
                <a:moveTo>
                  <a:pt x="22400" y="0"/>
                </a:moveTo>
                <a:lnTo>
                  <a:pt x="224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the Assign Resources link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Callout 1 (Accent Bar) 6"/>
          <p:cNvSpPr/>
          <p:nvPr/>
        </p:nvSpPr>
        <p:spPr>
          <a:xfrm>
            <a:off x="762120" y="3276720"/>
            <a:ext cx="205740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9850" y="4725"/>
                </a:moveTo>
                <a:lnTo>
                  <a:pt x="22400" y="3240"/>
                </a:lnTo>
              </a:path>
              <a:path w="21600" h="21600">
                <a:moveTo>
                  <a:pt x="22400" y="0"/>
                </a:moveTo>
                <a:lnTo>
                  <a:pt x="224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o activate the Assign Resources dialo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ke Individual Resource Assignment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Work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2" name="Rounded Rectangle 7"/>
          <p:cNvSpPr/>
          <p:nvPr/>
        </p:nvSpPr>
        <p:spPr>
          <a:xfrm>
            <a:off x="1219320" y="2514600"/>
            <a:ext cx="67975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ame of the desired resource in the Assign Resource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ounded Rectangle 6"/>
          <p:cNvSpPr/>
          <p:nvPr/>
        </p:nvSpPr>
        <p:spPr>
          <a:xfrm>
            <a:off x="609480" y="1676520"/>
            <a:ext cx="5562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name of the desired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ounded Rectangle 8"/>
          <p:cNvSpPr/>
          <p:nvPr/>
        </p:nvSpPr>
        <p:spPr>
          <a:xfrm>
            <a:off x="1752480" y="3581280"/>
            <a:ext cx="647712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Assign button in the Assign Resource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Down Arrow 14"/>
          <p:cNvSpPr/>
          <p:nvPr/>
        </p:nvSpPr>
        <p:spPr>
          <a:xfrm>
            <a:off x="175248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ke Individual Resource Assignment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4898880" cy="327672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ssigning Work Resources to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0" name="Line Callout 1 (Accent Bar) 6"/>
          <p:cNvSpPr/>
          <p:nvPr/>
        </p:nvSpPr>
        <p:spPr>
          <a:xfrm>
            <a:off x="762120" y="1828800"/>
            <a:ext cx="20574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583" y="8175"/>
                </a:moveTo>
                <a:lnTo>
                  <a:pt x="22400" y="5400"/>
                </a:lnTo>
              </a:path>
              <a:path w="21600" h="21600">
                <a:moveTo>
                  <a:pt x="22400" y="0"/>
                </a:moveTo>
                <a:lnTo>
                  <a:pt x="224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the name of the desired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Callout 1 (Accent Bar) 6"/>
          <p:cNvSpPr/>
          <p:nvPr/>
        </p:nvSpPr>
        <p:spPr>
          <a:xfrm>
            <a:off x="762120" y="2514600"/>
            <a:ext cx="20574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4783" y="70875"/>
                </a:moveTo>
                <a:lnTo>
                  <a:pt x="22400" y="5400"/>
                </a:lnTo>
              </a:path>
              <a:path w="21600" h="21600">
                <a:moveTo>
                  <a:pt x="22400" y="0"/>
                </a:moveTo>
                <a:lnTo>
                  <a:pt x="224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the name of the desired 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Callout 1 (Accent Bar) 6"/>
          <p:cNvSpPr/>
          <p:nvPr/>
        </p:nvSpPr>
        <p:spPr>
          <a:xfrm>
            <a:off x="4114800" y="4952880"/>
            <a:ext cx="327672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152" y="-96030"/>
                </a:moveTo>
                <a:lnTo>
                  <a:pt x="22102" y="6480"/>
                </a:lnTo>
              </a:path>
              <a:path w="21600" h="21600">
                <a:moveTo>
                  <a:pt x="22102" y="0"/>
                </a:moveTo>
                <a:lnTo>
                  <a:pt x="22102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the Assign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ke Individual Resource Assignment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6-01T16:21:01Z</dcterms:modified>
  <cp:revision>188</cp:revision>
  <dc:subject/>
  <dc:title>Project Basics</dc:title>
</cp:coreProperties>
</file>