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A43B7-749E-4A89-99D0-D9F609A39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F8DA1-6901-45A4-BBAC-0A7DB0C7705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A41EA-4B98-4086-B5DD-50C3B21E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266AB-5E3C-4414-BD27-7B263830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0186D-5BEA-4B4E-8569-29B3C861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F8AB1-5A91-46C4-97BC-B7AA8F4D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7B528-AEC9-45F3-8849-7638CFF0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D7341-7C2F-4BDB-A600-FABD265F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15FBB-68E3-494A-83C2-3DDFB3DF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EAA9E-BE09-4A98-9E0C-D865715A9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3C8CC-B2DD-4FA1-BA21-EF363126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3BC2D-10BE-4F19-92A4-6D0A5ED1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60485-0486-4D0C-9AF2-678D27D97AC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14436-F46D-4F08-894B-ABE70782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5B3B7-7509-4525-B687-547673D4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BDD74-4670-4E95-B920-B0D0B260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BAACE-6FBB-4276-A5CB-EFA51342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02A89-6441-4B4C-9D06-BC5421F4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94D66-48C7-402C-A996-FC2A5B9C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F100B-0B45-490B-8572-40C67AB6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CB98C-7971-4D4C-90B0-FE37D0E1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DA238-20E3-42C3-AA99-0F4B5BB6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CC1C6-59A5-4903-99C8-8E3DD227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1C4E8-3CF0-447D-B8F2-C5B7329430B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8565A-9718-4166-B6CD-DBB46095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A9002-499F-4A47-ACA5-366A162CF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901B2-519D-4858-B670-EEF47510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B9127-2D6D-4D46-8E17-161D0BD4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C1147-8585-459B-BF22-EA6CF018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AFE2B-CA3C-4954-B2CA-25687361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EF520-CD1E-4169-9667-6EA6AC2B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DDDD4-1402-48C3-9335-BBC5F7BD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A432D-7B88-4AB1-92CF-D14EB0EF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E38A3-8A57-475C-887F-5EEB6D64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10BE7-389E-4D84-B976-1CE0B426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ECB59-646A-4A42-8F11-284A356A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5994D-00F0-4F9D-AE8F-B3B6C4AE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C63EB-8A54-44F7-87E8-06054007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AE564-0AAA-439E-A33C-710E3D7C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01C27-49D7-4825-AECA-017B9925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534D5-3A3E-4559-A487-9AFADE5C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C5E7E-CCD6-46F9-88B4-3CD23916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EEBA6-4270-48AC-A00C-0AECF024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978DD-599C-4DEB-95FC-D3F8D044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50107-3604-4565-8DB0-272EF0EE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26B60-E442-4E60-AD86-3F8D2EB2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31AAD-C736-4B9E-87D9-3D0F7A29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CECF3-25D3-4150-BB9C-489DB442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8BC12-CC61-4957-BD02-02E504DF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4CFA9-D220-41B0-BDCF-609B1F5A2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BA0DA-37FF-4391-8251-49151525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E03B8-8466-41AE-AFC6-A0DFDD8B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39387-2546-40E7-8D3E-F8375D0B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19412-8BD9-4927-B9AB-E5677807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18457-C44A-4E6D-830F-E3148B82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CCBA2-7D03-4CCF-88F3-1FCE7CD6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8ADD8-E841-4E36-91E4-771852DC4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1402A-694C-4FBB-AFD3-22C0679B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96950-08C7-4F1F-9D43-870C92A0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4CF8E-52DF-4B9E-B8AF-B76DE071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2DC16-B9AF-4B84-B7F5-4F7B0735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ADA48-5DA4-4914-A0CD-77FD5858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53CFA-09E9-4728-BD46-0524E2AC08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9F25C-BE07-4AD4-A7D2-8E64A423C0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EAF20-61A5-4B34-A8D2-2928B651B44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3B14A-4082-4717-8814-FFDF90336E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B1A9B-16D3-4122-BDE2-BF45298483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64A8C-B16E-4304-99BC-B4264FD6E0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863DA-95F9-45C8-9852-8212271745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539AE-5C83-477C-86C7-29F07872E6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B944D-8ECD-46AC-A3C6-4332203C7C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528F6-D57C-4564-B824-5A9E44AF63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D2E3D-02A5-4C16-98DC-C477162203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72C85-DB73-431E-BFBF-D48951C637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C2DE8-3C50-4108-AC24-52775E8FC9A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3C43F3-16B0-4CBD-8F0C-C9601EA0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A05510-9E9D-4401-930D-F53821B6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8177F-8751-4056-ACBC-3A55444E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344BC-849B-4B65-8A91-6842BFA356F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09B07B-A886-4884-A9B5-769A22CD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85FA96-30AD-4BF2-915F-2AE1CF8F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2708C-90C1-4D82-9EC9-1AD336FA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EBB28D-F978-429C-A56C-76153575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6EFAC-3052-4DBF-85EA-82635068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5E6410-59C0-41F8-8AAE-9CB54DA4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5AF87-346E-4A0A-93F2-ACD037EF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50D39-9837-4635-ADD7-C9BC637C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62822-979D-42EC-994A-8C7D19D3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9E3CE-DB54-4E64-A72A-BF1AD1AA5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8D712-E09C-4BE2-BAA3-A83854D8C4D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B120D-36CE-4CB1-BCC4-1DD2C449F8C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A79D1-9CF0-45DE-9DD7-64F68BAAE08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BCA72-D6E8-40B4-ADA0-E63A59709C0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670AD-D409-4DB8-B26E-F6838039E76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B9BEF-5418-4022-93CE-4E8140A1866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BBE31-09D2-4E86-905E-02C5E4A9360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C6306-0C9C-4874-B5BE-E9FD2086567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4D427-EB07-458C-9066-AC473BA0558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882BB-9561-484A-BE79-A6F1E6E45C7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AC4BA-8B7F-43A7-9075-86886372A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73442-A1DB-4F83-90AB-29DA01E85FF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4812B-31C7-4B1B-BCB3-0F9025C63D0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7345D-1BB5-4440-B829-1A3A31C8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A9AA2-5308-4B8F-85EB-0C790113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5323D-D29D-482F-B5F6-7A3AC0C2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9D118-A76B-47D2-BBA4-5F554B03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C6B92-0F57-4B5A-9F4E-1491E878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03663-219A-48C3-AE54-1005A1F1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7CEA5-28D8-4613-812F-B4F212A2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A4727-B431-484E-8C93-A3A64AA6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F01C3-8327-4649-9D67-624D5B34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C8794-772A-4B85-B833-53F93629A01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A00E4-7232-4901-9A56-F70D24D0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BD9EB-057E-46E8-8285-EE38F414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C73D5-90DA-4644-A729-4208D9EB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4B143-D189-4315-BA2D-8307D38A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F0097-58D3-49AE-BBFB-28751224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33696-6E6C-41A6-ADBC-2A5B21F2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BC15A-34BF-4E89-93CA-F8F32BE0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7A5BC-18F4-4C02-95CD-90F83A7E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A3127-3D52-4925-85B7-8F25D251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E0D8F-F502-4BE4-BB12-53E1F6F8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D3DFF-D050-43CE-9119-F3A3CDF7DEE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B89D5-AE2D-4D18-BF5F-9B2C219D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5081F-8385-422D-B87D-D831A289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271F4-5056-4E97-A772-BA61D864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6060F-838F-4D35-95B4-E0641426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F0825-D40D-4203-B003-872B536F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050AE-FB18-4757-BB76-7F9A4E36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C9B46-2722-4652-85F5-E99FD60A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8399B-AFE6-45FB-8DB4-3A49A91D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75D3F-690F-4944-A1FD-72E2000A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E4F3C-7364-4D5C-82C4-331311A6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14A15-FCD7-42FC-AC97-2475766CCFE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FC95C-BFDB-40D6-9888-1387FE7A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52BDD-BAD4-47EA-8BBC-835E0084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161B5-7AC3-443F-B0E5-70042BAE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4C2EA-D01C-4224-B880-37021373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21186-D414-4B82-87EB-9B88E637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42A6A-A1F1-40AF-8C4A-A64D059C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358E8-DE88-4659-8A6C-2CF9CB87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0F932-EB6E-4D56-82D7-913F33BA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B50E0-F201-4CB6-A66D-B11C9086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EFC1E-BF8C-4D28-814D-842BDD69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1CCA-7E9F-45F9-A38E-211A6C12FD2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ound Single Corner Rectangle 9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BA84-0A32-4EF3-84F7-F1DA029ADFC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44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C898-1986-46DD-8F6F-6A30406A9A4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48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C887-D26A-4C6E-9B86-7DED23AC324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Rounded Rectangle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5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39E0-B031-4DAA-9F72-9A4E14A37382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90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Straight Connector 7"/>
          <p:cNvSpPr/>
          <p:nvPr/>
        </p:nvSpPr>
        <p:spPr>
          <a:xfrm>
            <a:off x="533520" y="1447920"/>
            <a:ext cx="8076960" cy="144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6666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666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A182-BE32-4B0A-B686-BA6E29C443D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Rounded Rectangle 9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4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7AF9-53BF-4114-B1D4-07488CFFFFB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179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Straight Connector 7"/>
          <p:cNvSpPr/>
          <p:nvPr/>
        </p:nvSpPr>
        <p:spPr>
          <a:xfrm>
            <a:off x="533520" y="1447920"/>
            <a:ext cx="8076960" cy="144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6666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666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3A4A-6263-464B-B164-44B62A17009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2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C51E-8312-40E7-AE5E-A043C8B6384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6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1BE9-9958-45BE-BDFE-12B30AA11C4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FEB8-BEBB-4D97-B7BF-BFB93302D35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35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8A39-DC39-4E4D-ADD2-0117C3538876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1820520"/>
            <a:ext cx="8686800" cy="1684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666ff"/>
                </a:solidFill>
                <a:latin typeface="Verdana"/>
              </a:rPr>
              <a:t>Project Plan </a:t>
            </a:r>
            <a:br>
              <a:rPr sz="4500"/>
            </a:br>
            <a:r>
              <a:rPr b="1" lang="en-US" sz="4500" spc="-1" strike="noStrike">
                <a:solidFill>
                  <a:srgbClr val="6666ff"/>
                </a:solidFill>
                <a:latin typeface="Verdana"/>
              </a:rPr>
              <a:t>Optimization</a:t>
            </a:r>
            <a:endParaRPr b="1" lang="en-US" sz="45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685800" y="3657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Lesson 13</a:t>
            </a:r>
            <a:endParaRPr b="0" lang="en-US" sz="2000" spc="-1" strike="noStrike">
              <a:solidFill>
                <a:srgbClr val="66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king Time and Date Adjust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3" name="Content Placeholder 5"/>
          <p:cNvSpPr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fiscal year is any 12 consecutive-month period defined for accounting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alendar year is the 12-month period from January to Dec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ing a fiscal year timescale is best if there are stakeholders who are accustomed to analyzing information in this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just Fiscal Year Settings Within Microsoft Projec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king Time and Date Adjust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6" name="Content Placeholder 5"/>
          <p:cNvSpPr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alendar tab of the Options dialog box is used for controlling time in Microsoft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ep in mind that the Calendar tab has nothing to do with Project’s base, resource, or task calend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ettings on the Calendar tab affect only the time conversions for task durations that you enter, such as hours in a day, but not when work can be schedu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just Fiscal Year Settings Within Microsoft Projec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king Time and Date Adjust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9" name="Content Placeholder 5"/>
          <p:cNvSpPr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efault Start Time and Default End Time settings supply the default start and end time for task constraints or for actual start and finish dates in which you enter a date but do not include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just Fiscal Year Settings Within Microsoft Projec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Viewing the Project’s Critical Path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View the Project’s Critical Pa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Rounded Rectangle 9"/>
          <p:cNvSpPr/>
          <p:nvPr/>
        </p:nvSpPr>
        <p:spPr>
          <a:xfrm>
            <a:off x="3352680" y="419112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ounded Rectangle 6"/>
          <p:cNvSpPr/>
          <p:nvPr/>
        </p:nvSpPr>
        <p:spPr>
          <a:xfrm>
            <a:off x="1828800" y="175248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ounded Rectangle 7"/>
          <p:cNvSpPr/>
          <p:nvPr/>
        </p:nvSpPr>
        <p:spPr>
          <a:xfrm>
            <a:off x="2209680" y="2540160"/>
            <a:ext cx="3124440" cy="7156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More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ounded Rectangle 8"/>
          <p:cNvSpPr/>
          <p:nvPr/>
        </p:nvSpPr>
        <p:spPr>
          <a:xfrm>
            <a:off x="2971800" y="3378240"/>
            <a:ext cx="33526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Detail Gan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Down Arrow 10"/>
          <p:cNvSpPr/>
          <p:nvPr/>
        </p:nvSpPr>
        <p:spPr>
          <a:xfrm>
            <a:off x="2438280" y="23115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Down Arrow 14"/>
          <p:cNvSpPr/>
          <p:nvPr/>
        </p:nvSpPr>
        <p:spPr>
          <a:xfrm>
            <a:off x="2971800" y="31496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Down Arrow 15"/>
          <p:cNvSpPr/>
          <p:nvPr/>
        </p:nvSpPr>
        <p:spPr>
          <a:xfrm>
            <a:off x="3505320" y="39751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Viewing the Project’s Critical Path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91" name="Rounded Rectangle 6"/>
          <p:cNvSpPr/>
          <p:nvPr/>
        </p:nvSpPr>
        <p:spPr>
          <a:xfrm>
            <a:off x="1828800" y="175248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ounded Rectangle 7"/>
          <p:cNvSpPr/>
          <p:nvPr/>
        </p:nvSpPr>
        <p:spPr>
          <a:xfrm>
            <a:off x="2209680" y="2540160"/>
            <a:ext cx="3733920" cy="7156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int to Table: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ounded Rectangle 8"/>
          <p:cNvSpPr/>
          <p:nvPr/>
        </p:nvSpPr>
        <p:spPr>
          <a:xfrm>
            <a:off x="2971800" y="3378240"/>
            <a:ext cx="25146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Down Arrow 10"/>
          <p:cNvSpPr/>
          <p:nvPr/>
        </p:nvSpPr>
        <p:spPr>
          <a:xfrm>
            <a:off x="2438280" y="23115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Down Arrow 14"/>
          <p:cNvSpPr/>
          <p:nvPr/>
        </p:nvSpPr>
        <p:spPr>
          <a:xfrm>
            <a:off x="2971800" y="31496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View the Project’s Critical Pat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Viewing the Project’s Critical Path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98" name="Rounded Rectangle 9"/>
          <p:cNvSpPr/>
          <p:nvPr/>
        </p:nvSpPr>
        <p:spPr>
          <a:xfrm>
            <a:off x="3352680" y="419112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ounded Rectangle 6"/>
          <p:cNvSpPr/>
          <p:nvPr/>
        </p:nvSpPr>
        <p:spPr>
          <a:xfrm>
            <a:off x="1828800" y="175248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ounded Rectangle 7"/>
          <p:cNvSpPr/>
          <p:nvPr/>
        </p:nvSpPr>
        <p:spPr>
          <a:xfrm>
            <a:off x="2209680" y="2540160"/>
            <a:ext cx="2286000" cy="7156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Go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ounded Rectangle 8"/>
          <p:cNvSpPr/>
          <p:nvPr/>
        </p:nvSpPr>
        <p:spPr>
          <a:xfrm>
            <a:off x="2971800" y="337824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Down Arrow 10"/>
          <p:cNvSpPr/>
          <p:nvPr/>
        </p:nvSpPr>
        <p:spPr>
          <a:xfrm>
            <a:off x="2438280" y="23115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Down Arrow 14"/>
          <p:cNvSpPr/>
          <p:nvPr/>
        </p:nvSpPr>
        <p:spPr>
          <a:xfrm>
            <a:off x="2971800" y="31496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Down Arrow 15"/>
          <p:cNvSpPr/>
          <p:nvPr/>
        </p:nvSpPr>
        <p:spPr>
          <a:xfrm>
            <a:off x="3505320" y="39751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View the Project’s Critical Pat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Viewing the Project’s Critical Path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5823000" cy="3384720"/>
          </a:xfrm>
          <a:prstGeom prst="rect">
            <a:avLst/>
          </a:prstGeom>
          <a:ln w="0">
            <a:noFill/>
          </a:ln>
        </p:spPr>
      </p:pic>
      <p:sp>
        <p:nvSpPr>
          <p:cNvPr id="608" name="Line Callout 1 (Accent Bar) 6"/>
          <p:cNvSpPr/>
          <p:nvPr/>
        </p:nvSpPr>
        <p:spPr>
          <a:xfrm>
            <a:off x="685800" y="1828800"/>
            <a:ext cx="137160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78975" y="10530"/>
                </a:moveTo>
                <a:lnTo>
                  <a:pt x="22800" y="324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Non-critical tasks appear in b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Callout 1 (Accent Bar) 6"/>
          <p:cNvSpPr/>
          <p:nvPr/>
        </p:nvSpPr>
        <p:spPr>
          <a:xfrm>
            <a:off x="762120" y="2895480"/>
            <a:ext cx="137160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93575" y="4410"/>
                </a:moveTo>
                <a:lnTo>
                  <a:pt x="22800" y="324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ritical tasks appear in 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Callout 1 (Accent Bar) 6"/>
          <p:cNvSpPr/>
          <p:nvPr/>
        </p:nvSpPr>
        <p:spPr>
          <a:xfrm>
            <a:off x="914400" y="4419720"/>
            <a:ext cx="1371600" cy="76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10775" y="-6750"/>
                </a:moveTo>
                <a:lnTo>
                  <a:pt x="22800" y="324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lack appears as a thin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View the Project’s Critical Pat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Viewing the Project’s Critical Path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13" name="Rounded Rectangle 6"/>
          <p:cNvSpPr/>
          <p:nvPr/>
        </p:nvSpPr>
        <p:spPr>
          <a:xfrm>
            <a:off x="990720" y="1600200"/>
            <a:ext cx="21333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ounded Rectangle 7"/>
          <p:cNvSpPr/>
          <p:nvPr/>
        </p:nvSpPr>
        <p:spPr>
          <a:xfrm>
            <a:off x="1371600" y="2387520"/>
            <a:ext cx="3733920" cy="7160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int to Table: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ounded Rectangle 8"/>
          <p:cNvSpPr/>
          <p:nvPr/>
        </p:nvSpPr>
        <p:spPr>
          <a:xfrm>
            <a:off x="2133720" y="3225960"/>
            <a:ext cx="25146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Down Arrow 10"/>
          <p:cNvSpPr/>
          <p:nvPr/>
        </p:nvSpPr>
        <p:spPr>
          <a:xfrm>
            <a:off x="1600200" y="215892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Down Arrow 14"/>
          <p:cNvSpPr/>
          <p:nvPr/>
        </p:nvSpPr>
        <p:spPr>
          <a:xfrm>
            <a:off x="2133720" y="29973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ounded Rectangle 8"/>
          <p:cNvSpPr/>
          <p:nvPr/>
        </p:nvSpPr>
        <p:spPr>
          <a:xfrm>
            <a:off x="2514600" y="4038480"/>
            <a:ext cx="6095880" cy="9907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rag the divider bar until all columns in the Schedule table are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own Arrow 14"/>
          <p:cNvSpPr/>
          <p:nvPr/>
        </p:nvSpPr>
        <p:spPr>
          <a:xfrm>
            <a:off x="2590920" y="38098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View the Project’s Critical Pat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Viewing the Project’s Critical Path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rcRect l="0" t="0" r="9375" b="24201"/>
          <a:stretch/>
        </p:blipFill>
        <p:spPr>
          <a:xfrm>
            <a:off x="2819520" y="2133720"/>
            <a:ext cx="5649840" cy="2744640"/>
          </a:xfrm>
          <a:prstGeom prst="rect">
            <a:avLst/>
          </a:prstGeom>
          <a:ln w="0">
            <a:noFill/>
          </a:ln>
        </p:spPr>
      </p:pic>
      <p:sp>
        <p:nvSpPr>
          <p:cNvPr id="623" name="Line Callout 1 (Accent Bar) 6"/>
          <p:cNvSpPr/>
          <p:nvPr/>
        </p:nvSpPr>
        <p:spPr>
          <a:xfrm>
            <a:off x="685800" y="3048120"/>
            <a:ext cx="13716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85975" y="-15107"/>
                </a:moveTo>
                <a:lnTo>
                  <a:pt x="22800" y="2314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Notice free and total slack values for t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View the Project’s Critical Pat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Viewing the Project’s Critical Path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6" name="Content Placeholder 5"/>
          <p:cNvSpPr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ree slack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mount of time the finish date of a task can be delayed before the start of a successor task must be reschedu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tal slack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mount of time the finish date on a task can be delayed before the completion of the project will be delay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task can have free slack, total slack, or bo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View the Project’s Critical Pat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kills Matrix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457200" y="1600200"/>
          <a:ext cx="8229600" cy="1981080"/>
        </p:xfrm>
        <a:graphic>
          <a:graphicData uri="http://schemas.openxmlformats.org/drawingml/2006/table">
            <a:tbl>
              <a:tblPr/>
              <a:tblGrid>
                <a:gridCol w="3429000"/>
                <a:gridCol w="4800600"/>
              </a:tblGrid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ri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time and date adjust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just fiscal year settings within Microsoft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ew the project’s critical p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ew the project’s critical p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ounded Rectangle 7"/>
          <p:cNvSpPr/>
          <p:nvPr/>
        </p:nvSpPr>
        <p:spPr>
          <a:xfrm>
            <a:off x="3048120" y="4102200"/>
            <a:ext cx="320040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Entir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ounded Rectangle 8"/>
          <p:cNvSpPr/>
          <p:nvPr/>
        </p:nvSpPr>
        <p:spPr>
          <a:xfrm>
            <a:off x="3505320" y="4863960"/>
            <a:ext cx="2209680" cy="5461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Down Arrow 14"/>
          <p:cNvSpPr/>
          <p:nvPr/>
        </p:nvSpPr>
        <p:spPr>
          <a:xfrm>
            <a:off x="3657600" y="463536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Viewing the Project’s Critical Path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32" name="Rounded Rectangle 6"/>
          <p:cNvSpPr/>
          <p:nvPr/>
        </p:nvSpPr>
        <p:spPr>
          <a:xfrm>
            <a:off x="1905120" y="1600200"/>
            <a:ext cx="5410080" cy="8683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rag the divider bar to show only the Task Nam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ounded Rectangle 7"/>
          <p:cNvSpPr/>
          <p:nvPr/>
        </p:nvSpPr>
        <p:spPr>
          <a:xfrm>
            <a:off x="2286000" y="259092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ounded Rectangle 8"/>
          <p:cNvSpPr/>
          <p:nvPr/>
        </p:nvSpPr>
        <p:spPr>
          <a:xfrm>
            <a:off x="2743200" y="3352680"/>
            <a:ext cx="2209680" cy="609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Z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Down Arrow 10"/>
          <p:cNvSpPr/>
          <p:nvPr/>
        </p:nvSpPr>
        <p:spPr>
          <a:xfrm>
            <a:off x="2514600" y="24382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Down Arrow 14"/>
          <p:cNvSpPr/>
          <p:nvPr/>
        </p:nvSpPr>
        <p:spPr>
          <a:xfrm>
            <a:off x="2895480" y="31240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Down Arrow 14"/>
          <p:cNvSpPr/>
          <p:nvPr/>
        </p:nvSpPr>
        <p:spPr>
          <a:xfrm>
            <a:off x="3352680" y="388620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View the Project’s Critical Pat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Viewing the Project’s Critical Path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40" name="Rounded Rectangle 6"/>
          <p:cNvSpPr/>
          <p:nvPr/>
        </p:nvSpPr>
        <p:spPr>
          <a:xfrm>
            <a:off x="1523880" y="1752480"/>
            <a:ext cx="48006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n the name of task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ounded Rectangle 7"/>
          <p:cNvSpPr/>
          <p:nvPr/>
        </p:nvSpPr>
        <p:spPr>
          <a:xfrm>
            <a:off x="1905120" y="2540160"/>
            <a:ext cx="2590560" cy="7156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ounded Rectangle 8"/>
          <p:cNvSpPr/>
          <p:nvPr/>
        </p:nvSpPr>
        <p:spPr>
          <a:xfrm>
            <a:off x="2666880" y="3378240"/>
            <a:ext cx="25146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Down Arrow 10"/>
          <p:cNvSpPr/>
          <p:nvPr/>
        </p:nvSpPr>
        <p:spPr>
          <a:xfrm>
            <a:off x="2133720" y="23115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Down Arrow 14"/>
          <p:cNvSpPr/>
          <p:nvPr/>
        </p:nvSpPr>
        <p:spPr>
          <a:xfrm>
            <a:off x="2666880" y="31496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ounded Rectangle 8"/>
          <p:cNvSpPr/>
          <p:nvPr/>
        </p:nvSpPr>
        <p:spPr>
          <a:xfrm>
            <a:off x="3048120" y="4191120"/>
            <a:ext cx="40384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Calculation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Down Arrow 14"/>
          <p:cNvSpPr/>
          <p:nvPr/>
        </p:nvSpPr>
        <p:spPr>
          <a:xfrm>
            <a:off x="3124080" y="39625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View the Project’s Critical Pat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Viewing the Project’s Critical Path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49" name="Rounded Rectangle 6"/>
          <p:cNvSpPr/>
          <p:nvPr/>
        </p:nvSpPr>
        <p:spPr>
          <a:xfrm>
            <a:off x="2209680" y="1874880"/>
            <a:ext cx="502920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he Calculate multiple critical paths check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ounded Rectangle 7"/>
          <p:cNvSpPr/>
          <p:nvPr/>
        </p:nvSpPr>
        <p:spPr>
          <a:xfrm>
            <a:off x="3352680" y="2971800"/>
            <a:ext cx="1752840" cy="7160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Down Arrow 10"/>
          <p:cNvSpPr/>
          <p:nvPr/>
        </p:nvSpPr>
        <p:spPr>
          <a:xfrm>
            <a:off x="3809880" y="27129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View the Project’s Critical Pat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Viewing the Project’s Critical Path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rcRect l="0" t="0" r="9393" b="32433"/>
          <a:stretch/>
        </p:blipFill>
        <p:spPr>
          <a:xfrm>
            <a:off x="2133720" y="2057400"/>
            <a:ext cx="6499080" cy="2806560"/>
          </a:xfrm>
          <a:prstGeom prst="rect">
            <a:avLst/>
          </a:prstGeom>
          <a:ln w="0">
            <a:noFill/>
          </a:ln>
        </p:spPr>
      </p:pic>
      <p:sp>
        <p:nvSpPr>
          <p:cNvPr id="655" name="Line Callout 1 (Accent Bar) 6"/>
          <p:cNvSpPr/>
          <p:nvPr/>
        </p:nvSpPr>
        <p:spPr>
          <a:xfrm>
            <a:off x="533520" y="2133720"/>
            <a:ext cx="137160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8975" y="30300"/>
                </a:moveTo>
                <a:lnTo>
                  <a:pt x="22800" y="216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ritical path within the Pre-Production 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View the Project’s Critical Pat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Viewing the Project’s Critical Path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58" name="Rounded Rectangle 6"/>
          <p:cNvSpPr/>
          <p:nvPr/>
        </p:nvSpPr>
        <p:spPr>
          <a:xfrm>
            <a:off x="1295280" y="2286000"/>
            <a:ext cx="213372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ounded Rectangle 7"/>
          <p:cNvSpPr/>
          <p:nvPr/>
        </p:nvSpPr>
        <p:spPr>
          <a:xfrm>
            <a:off x="1676520" y="3035160"/>
            <a:ext cx="4267080" cy="6652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int to Table: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ounded Rectangle 8"/>
          <p:cNvSpPr/>
          <p:nvPr/>
        </p:nvSpPr>
        <p:spPr>
          <a:xfrm>
            <a:off x="2438280" y="3809880"/>
            <a:ext cx="2514600" cy="6350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Down Arrow 10"/>
          <p:cNvSpPr/>
          <p:nvPr/>
        </p:nvSpPr>
        <p:spPr>
          <a:xfrm>
            <a:off x="1905120" y="28195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Down Arrow 14"/>
          <p:cNvSpPr/>
          <p:nvPr/>
        </p:nvSpPr>
        <p:spPr>
          <a:xfrm>
            <a:off x="2438280" y="359424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ounded Rectangle 8"/>
          <p:cNvSpPr/>
          <p:nvPr/>
        </p:nvSpPr>
        <p:spPr>
          <a:xfrm>
            <a:off x="2819520" y="4572000"/>
            <a:ext cx="5105160" cy="8380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rag the divider bar to the right of the Duration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Down Arrow 14"/>
          <p:cNvSpPr/>
          <p:nvPr/>
        </p:nvSpPr>
        <p:spPr>
          <a:xfrm>
            <a:off x="2895480" y="434340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ounded Rectangle 6"/>
          <p:cNvSpPr/>
          <p:nvPr/>
        </p:nvSpPr>
        <p:spPr>
          <a:xfrm>
            <a:off x="838080" y="1523880"/>
            <a:ext cx="2133720" cy="609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Down Arrow 10"/>
          <p:cNvSpPr/>
          <p:nvPr/>
        </p:nvSpPr>
        <p:spPr>
          <a:xfrm>
            <a:off x="1447920" y="205740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View the Project’s Critical Pat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Viewing the Project’s Critical Path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69" name="Content Placeholder 5"/>
          <p:cNvSpPr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of the most important factors that should be monitored in any project plan is the project’s 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a task on the critical path is completed, it is no longer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ring the life of a project, the critical path will change occasi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View the Project’s Critical Pat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Viewing the Project’s Critical Path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72" name="Content Placeholder 5"/>
          <p:cNvSpPr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or to starting actual work, the project manager must closely manage the critical path and s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e must know the tasks on the critical path and be able to evaluate the risks to success if any tasks are not completed as schedu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e must know where the slack is in the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View the Project’s Critical Pat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Delaying the Start of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75" name="Rounded Rectangle 6"/>
          <p:cNvSpPr/>
          <p:nvPr/>
        </p:nvSpPr>
        <p:spPr>
          <a:xfrm>
            <a:off x="2514600" y="2197080"/>
            <a:ext cx="304812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ask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ounded Rectangle 7"/>
          <p:cNvSpPr/>
          <p:nvPr/>
        </p:nvSpPr>
        <p:spPr>
          <a:xfrm>
            <a:off x="2895480" y="2882880"/>
            <a:ext cx="1981440" cy="5763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ounded Rectangle 8"/>
          <p:cNvSpPr/>
          <p:nvPr/>
        </p:nvSpPr>
        <p:spPr>
          <a:xfrm>
            <a:off x="3429000" y="3568680"/>
            <a:ext cx="2133720" cy="5587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Go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Down Arrow 10"/>
          <p:cNvSpPr/>
          <p:nvPr/>
        </p:nvSpPr>
        <p:spPr>
          <a:xfrm>
            <a:off x="3124080" y="26668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Down Arrow 14"/>
          <p:cNvSpPr/>
          <p:nvPr/>
        </p:nvSpPr>
        <p:spPr>
          <a:xfrm>
            <a:off x="3657600" y="33526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ounded Rectangle 8"/>
          <p:cNvSpPr/>
          <p:nvPr/>
        </p:nvSpPr>
        <p:spPr>
          <a:xfrm>
            <a:off x="3733920" y="4254480"/>
            <a:ext cx="152388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Down Arrow 14"/>
          <p:cNvSpPr/>
          <p:nvPr/>
        </p:nvSpPr>
        <p:spPr>
          <a:xfrm>
            <a:off x="3809880" y="402588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ounded Rectangle 6"/>
          <p:cNvSpPr/>
          <p:nvPr/>
        </p:nvSpPr>
        <p:spPr>
          <a:xfrm>
            <a:off x="2057400" y="1523880"/>
            <a:ext cx="213372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Down Arrow 10"/>
          <p:cNvSpPr/>
          <p:nvPr/>
        </p:nvSpPr>
        <p:spPr>
          <a:xfrm>
            <a:off x="2666880" y="19810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ounded Rectangle 8"/>
          <p:cNvSpPr/>
          <p:nvPr/>
        </p:nvSpPr>
        <p:spPr>
          <a:xfrm>
            <a:off x="4191120" y="4940280"/>
            <a:ext cx="152388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Down Arrow 14"/>
          <p:cNvSpPr/>
          <p:nvPr/>
        </p:nvSpPr>
        <p:spPr>
          <a:xfrm>
            <a:off x="4267080" y="471168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lay the Start of a Resource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Delaying the Start of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1"/>
          <a:srcRect l="0" t="0" r="18787" b="48650"/>
          <a:stretch/>
        </p:blipFill>
        <p:spPr>
          <a:xfrm>
            <a:off x="2438280" y="2438280"/>
            <a:ext cx="6161040" cy="2257560"/>
          </a:xfrm>
          <a:prstGeom prst="rect">
            <a:avLst/>
          </a:prstGeom>
          <a:ln w="0">
            <a:noFill/>
          </a:ln>
        </p:spPr>
      </p:pic>
      <p:sp>
        <p:nvSpPr>
          <p:cNvPr id="689" name="Line Callout 1 (Accent Bar) 6"/>
          <p:cNvSpPr/>
          <p:nvPr/>
        </p:nvSpPr>
        <p:spPr>
          <a:xfrm>
            <a:off x="685800" y="2057400"/>
            <a:ext cx="137160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93175" y="20443"/>
                </a:moveTo>
                <a:lnTo>
                  <a:pt x="22800" y="1543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ou want to delay Luis Bonifaz’s work on this task until July 17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lay the Start of a Resource Assign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Delaying the Start of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92" name="Rounded Rectangle 6"/>
          <p:cNvSpPr/>
          <p:nvPr/>
        </p:nvSpPr>
        <p:spPr>
          <a:xfrm>
            <a:off x="1143000" y="2502000"/>
            <a:ext cx="6781680" cy="533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Assignment Information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ounded Rectangle 7"/>
          <p:cNvSpPr/>
          <p:nvPr/>
        </p:nvSpPr>
        <p:spPr>
          <a:xfrm>
            <a:off x="1752480" y="3187800"/>
            <a:ext cx="3733920" cy="5760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General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ounded Rectangle 8"/>
          <p:cNvSpPr/>
          <p:nvPr/>
        </p:nvSpPr>
        <p:spPr>
          <a:xfrm>
            <a:off x="2362320" y="3873600"/>
            <a:ext cx="4800600" cy="5587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7/17/08 in the Start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Down Arrow 10"/>
          <p:cNvSpPr/>
          <p:nvPr/>
        </p:nvSpPr>
        <p:spPr>
          <a:xfrm>
            <a:off x="2286000" y="297180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Down Arrow 14"/>
          <p:cNvSpPr/>
          <p:nvPr/>
        </p:nvSpPr>
        <p:spPr>
          <a:xfrm>
            <a:off x="2819520" y="365760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ounded Rectangle 8"/>
          <p:cNvSpPr/>
          <p:nvPr/>
        </p:nvSpPr>
        <p:spPr>
          <a:xfrm>
            <a:off x="3733920" y="4559400"/>
            <a:ext cx="1523880" cy="533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Down Arrow 14"/>
          <p:cNvSpPr/>
          <p:nvPr/>
        </p:nvSpPr>
        <p:spPr>
          <a:xfrm>
            <a:off x="3809880" y="433080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ounded Rectangle 6"/>
          <p:cNvSpPr/>
          <p:nvPr/>
        </p:nvSpPr>
        <p:spPr>
          <a:xfrm>
            <a:off x="762120" y="18288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he name of the resource Luis Bonif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Down Arrow 10"/>
          <p:cNvSpPr/>
          <p:nvPr/>
        </p:nvSpPr>
        <p:spPr>
          <a:xfrm>
            <a:off x="1752480" y="228600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lay the Start of a Resource Assign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kills Matrix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457200" y="1600200"/>
          <a:ext cx="8229600" cy="2133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ri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lay the start of assign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lay the start of a resource assig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ly contours to assign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ly a contour to a resource assig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dit a task assignment manua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Delaying the Start of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rcRect l="0" t="0" r="18750" b="48409"/>
          <a:stretch/>
        </p:blipFill>
        <p:spPr>
          <a:xfrm>
            <a:off x="1676520" y="3048120"/>
            <a:ext cx="5987880" cy="2211120"/>
          </a:xfrm>
          <a:prstGeom prst="rect">
            <a:avLst/>
          </a:prstGeom>
          <a:ln w="0">
            <a:noFill/>
          </a:ln>
        </p:spPr>
      </p:pic>
      <p:sp>
        <p:nvSpPr>
          <p:cNvPr id="704" name="Line Callout 1 (Accent Bar) 6"/>
          <p:cNvSpPr/>
          <p:nvPr/>
        </p:nvSpPr>
        <p:spPr>
          <a:xfrm>
            <a:off x="685800" y="1676520"/>
            <a:ext cx="137160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5375" y="53481"/>
                </a:moveTo>
                <a:lnTo>
                  <a:pt x="22800" y="2492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otal work for the task does not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Callout 1 (Accent Bar) 6"/>
          <p:cNvSpPr/>
          <p:nvPr/>
        </p:nvSpPr>
        <p:spPr>
          <a:xfrm>
            <a:off x="6553080" y="1676520"/>
            <a:ext cx="1905120" cy="121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50" y="43453"/>
                </a:moveTo>
                <a:lnTo>
                  <a:pt x="-864" y="2025"/>
                </a:lnTo>
              </a:path>
              <a:path w="21600" h="21600">
                <a:moveTo>
                  <a:pt x="-864" y="0"/>
                </a:moveTo>
                <a:lnTo>
                  <a:pt x="-864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elaying the start of the resource’s assignment shifts the work to the next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lay the Start of a Resource Assign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Delaying the Start of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08" name="Content Placeholder 5"/>
          <p:cNvSpPr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delay the start of work for any number of resources assigned to a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you need to delay the start of work for all resources on a particular task, it may be better to reschedule the start date of the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lay the Start of a Resource Assign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pplying Contours to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11" name="Rounded Rectangle 9"/>
          <p:cNvSpPr/>
          <p:nvPr/>
        </p:nvSpPr>
        <p:spPr>
          <a:xfrm>
            <a:off x="4038480" y="4191120"/>
            <a:ext cx="17528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ounded Rectangle 6"/>
          <p:cNvSpPr/>
          <p:nvPr/>
        </p:nvSpPr>
        <p:spPr>
          <a:xfrm>
            <a:off x="2514600" y="175248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ounded Rectangle 7"/>
          <p:cNvSpPr/>
          <p:nvPr/>
        </p:nvSpPr>
        <p:spPr>
          <a:xfrm>
            <a:off x="2895480" y="2540160"/>
            <a:ext cx="2210040" cy="7156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Go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ounded Rectangle 8"/>
          <p:cNvSpPr/>
          <p:nvPr/>
        </p:nvSpPr>
        <p:spPr>
          <a:xfrm>
            <a:off x="3657600" y="337824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67 in the ID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Down Arrow 10"/>
          <p:cNvSpPr/>
          <p:nvPr/>
        </p:nvSpPr>
        <p:spPr>
          <a:xfrm>
            <a:off x="3124080" y="23115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Down Arrow 14"/>
          <p:cNvSpPr/>
          <p:nvPr/>
        </p:nvSpPr>
        <p:spPr>
          <a:xfrm>
            <a:off x="3657600" y="31496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Down Arrow 15"/>
          <p:cNvSpPr/>
          <p:nvPr/>
        </p:nvSpPr>
        <p:spPr>
          <a:xfrm>
            <a:off x="4191120" y="39751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pplying a Contour to a Resource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pplying Contours to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rcRect l="0" t="0" r="0" b="32268"/>
          <a:stretch/>
        </p:blipFill>
        <p:spPr>
          <a:xfrm>
            <a:off x="1219320" y="2590920"/>
            <a:ext cx="6966000" cy="2741400"/>
          </a:xfrm>
          <a:prstGeom prst="rect">
            <a:avLst/>
          </a:prstGeom>
          <a:ln w="0">
            <a:noFill/>
          </a:ln>
        </p:spPr>
      </p:pic>
      <p:sp>
        <p:nvSpPr>
          <p:cNvPr id="721" name="Line Callout 1 (Accent Bar) 6"/>
          <p:cNvSpPr/>
          <p:nvPr/>
        </p:nvSpPr>
        <p:spPr>
          <a:xfrm>
            <a:off x="685800" y="1676520"/>
            <a:ext cx="2514600" cy="76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5345" y="46350"/>
                </a:moveTo>
                <a:lnTo>
                  <a:pt x="22255" y="3240"/>
                </a:lnTo>
              </a:path>
              <a:path w="21600" h="21600">
                <a:moveTo>
                  <a:pt x="22255" y="0"/>
                </a:moveTo>
                <a:lnTo>
                  <a:pt x="22255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se six resource assignments have a flat cont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80060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pplying a Contour to a Resource Assign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pplying Contours to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25" name="Rounded Rectangle 6"/>
          <p:cNvSpPr/>
          <p:nvPr/>
        </p:nvSpPr>
        <p:spPr>
          <a:xfrm>
            <a:off x="685800" y="1600200"/>
            <a:ext cx="5181480" cy="8380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Greg Guzik in the Task Name column under task 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ounded Rectangle 7"/>
          <p:cNvSpPr/>
          <p:nvPr/>
        </p:nvSpPr>
        <p:spPr>
          <a:xfrm>
            <a:off x="1143000" y="2540160"/>
            <a:ext cx="6781680" cy="5839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Assignment Information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ounded Rectangle 8"/>
          <p:cNvSpPr/>
          <p:nvPr/>
        </p:nvSpPr>
        <p:spPr>
          <a:xfrm>
            <a:off x="1600200" y="3200400"/>
            <a:ext cx="3657600" cy="6350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General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Down Arrow 10"/>
          <p:cNvSpPr/>
          <p:nvPr/>
        </p:nvSpPr>
        <p:spPr>
          <a:xfrm>
            <a:off x="1371600" y="23623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Down Arrow 14"/>
          <p:cNvSpPr/>
          <p:nvPr/>
        </p:nvSpPr>
        <p:spPr>
          <a:xfrm>
            <a:off x="2057400" y="30481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ounded Rectangle 9"/>
          <p:cNvSpPr/>
          <p:nvPr/>
        </p:nvSpPr>
        <p:spPr>
          <a:xfrm>
            <a:off x="2286000" y="3930480"/>
            <a:ext cx="4267080" cy="8049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Back Loaded in the Work contour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Down Arrow 15"/>
          <p:cNvSpPr/>
          <p:nvPr/>
        </p:nvSpPr>
        <p:spPr>
          <a:xfrm>
            <a:off x="2438280" y="37339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ounded Rectangle 9"/>
          <p:cNvSpPr/>
          <p:nvPr/>
        </p:nvSpPr>
        <p:spPr>
          <a:xfrm>
            <a:off x="3352680" y="4863960"/>
            <a:ext cx="1752840" cy="609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Down Arrow 15"/>
          <p:cNvSpPr/>
          <p:nvPr/>
        </p:nvSpPr>
        <p:spPr>
          <a:xfrm>
            <a:off x="3733920" y="47242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pplying a Contour to a Resource Assign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pplying Contours to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rcRect l="0" t="0" r="9375" b="56476"/>
          <a:stretch/>
        </p:blipFill>
        <p:spPr>
          <a:xfrm>
            <a:off x="1371600" y="2438280"/>
            <a:ext cx="7202520" cy="2009880"/>
          </a:xfrm>
          <a:prstGeom prst="rect">
            <a:avLst/>
          </a:prstGeom>
          <a:ln w="0">
            <a:noFill/>
          </a:ln>
        </p:spPr>
      </p:pic>
      <p:sp>
        <p:nvSpPr>
          <p:cNvPr id="737" name="Line Callout 1 (Accent Bar) 6"/>
          <p:cNvSpPr/>
          <p:nvPr/>
        </p:nvSpPr>
        <p:spPr>
          <a:xfrm>
            <a:off x="3657600" y="1600200"/>
            <a:ext cx="373392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781" y="50050"/>
                </a:moveTo>
                <a:lnTo>
                  <a:pt x="-441" y="3600"/>
                </a:lnTo>
              </a:path>
              <a:path w="21600" h="21600">
                <a:moveTo>
                  <a:pt x="-441" y="0"/>
                </a:moveTo>
                <a:lnTo>
                  <a:pt x="-441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tour indicator matches the type of contour applied – back loaded, in this 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Callout 1 (Accent Bar) 6"/>
          <p:cNvSpPr/>
          <p:nvPr/>
        </p:nvSpPr>
        <p:spPr>
          <a:xfrm>
            <a:off x="3733920" y="4648320"/>
            <a:ext cx="266688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413" y="-37550"/>
                </a:moveTo>
                <a:lnTo>
                  <a:pt x="-617" y="3600"/>
                </a:lnTo>
              </a:path>
              <a:path w="21600" h="21600">
                <a:moveTo>
                  <a:pt x="-617" y="0"/>
                </a:moveTo>
                <a:lnTo>
                  <a:pt x="-617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oint to the contour indicator to see a ToolT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pplying a Contour to a Resource Assign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pplying Contours to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41" name="Content Placeholder 5"/>
          <p:cNvSpPr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o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ermines how a resource’s work on a task is scheduled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defined contou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how work is distributed over time in terms of graphical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pplying a Contour to a Resource Assign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pplying Contours to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44" name="Content Placeholder 5"/>
          <p:cNvSpPr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predefined contours include Bell, Front Loaded, Back Loaded, Double Peak, and Tur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ep in mind that when an assignment to a task sets the finish date of the task, the resource is called the “driving re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pplying a Contour to a Resource Assign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pplying Contours to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47" name="Rounded Rectangle 9"/>
          <p:cNvSpPr/>
          <p:nvPr/>
        </p:nvSpPr>
        <p:spPr>
          <a:xfrm>
            <a:off x="4038480" y="4191120"/>
            <a:ext cx="17528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ounded Rectangle 6"/>
          <p:cNvSpPr/>
          <p:nvPr/>
        </p:nvSpPr>
        <p:spPr>
          <a:xfrm>
            <a:off x="2514600" y="175248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ounded Rectangle 7"/>
          <p:cNvSpPr/>
          <p:nvPr/>
        </p:nvSpPr>
        <p:spPr>
          <a:xfrm>
            <a:off x="2895480" y="2540160"/>
            <a:ext cx="2210040" cy="7156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Go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ounded Rectangle 8"/>
          <p:cNvSpPr/>
          <p:nvPr/>
        </p:nvSpPr>
        <p:spPr>
          <a:xfrm>
            <a:off x="3657600" y="337824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51 in the ID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Down Arrow 10"/>
          <p:cNvSpPr/>
          <p:nvPr/>
        </p:nvSpPr>
        <p:spPr>
          <a:xfrm>
            <a:off x="3124080" y="23115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Down Arrow 14"/>
          <p:cNvSpPr/>
          <p:nvPr/>
        </p:nvSpPr>
        <p:spPr>
          <a:xfrm>
            <a:off x="3657600" y="31496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Down Arrow 15"/>
          <p:cNvSpPr/>
          <p:nvPr/>
        </p:nvSpPr>
        <p:spPr>
          <a:xfrm>
            <a:off x="4191120" y="39751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dit a Task Assignmen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pplying Contours to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56" name="Rounded Rectangle 9"/>
          <p:cNvSpPr/>
          <p:nvPr/>
        </p:nvSpPr>
        <p:spPr>
          <a:xfrm>
            <a:off x="2133720" y="342900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ss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ounded Rectangle 6"/>
          <p:cNvSpPr/>
          <p:nvPr/>
        </p:nvSpPr>
        <p:spPr>
          <a:xfrm>
            <a:off x="1066680" y="1689120"/>
            <a:ext cx="6782040" cy="8380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Ido Ben-Sachar’s 8-hour assignment for Wednesday, June 3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ounded Rectangle 7"/>
          <p:cNvSpPr/>
          <p:nvPr/>
        </p:nvSpPr>
        <p:spPr>
          <a:xfrm>
            <a:off x="1600200" y="2679840"/>
            <a:ext cx="1600200" cy="5889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Down Arrow 10"/>
          <p:cNvSpPr/>
          <p:nvPr/>
        </p:nvSpPr>
        <p:spPr>
          <a:xfrm>
            <a:off x="1905120" y="246384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Down Arrow 15"/>
          <p:cNvSpPr/>
          <p:nvPr/>
        </p:nvSpPr>
        <p:spPr>
          <a:xfrm>
            <a:off x="2286000" y="321300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dit a Task Assignment Manuall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kills Matrix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457200" y="1600200"/>
          <a:ext cx="8229600" cy="1676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ri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2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e the project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ntify the project finish date and total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ress the project plan to pull in the project finish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pplying Contours to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63" name="Rounded Rectangle 9"/>
          <p:cNvSpPr/>
          <p:nvPr/>
        </p:nvSpPr>
        <p:spPr>
          <a:xfrm>
            <a:off x="2438280" y="2743200"/>
            <a:ext cx="175284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ounded Rectangle 8"/>
          <p:cNvSpPr/>
          <p:nvPr/>
        </p:nvSpPr>
        <p:spPr>
          <a:xfrm>
            <a:off x="1676520" y="1752480"/>
            <a:ext cx="5943600" cy="8384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Ido Ben-Sachar’s assignment for Wednesday, June 4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Down Arrow 15"/>
          <p:cNvSpPr/>
          <p:nvPr/>
        </p:nvSpPr>
        <p:spPr>
          <a:xfrm>
            <a:off x="2590920" y="252720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ounded Rectangle 9"/>
          <p:cNvSpPr/>
          <p:nvPr/>
        </p:nvSpPr>
        <p:spPr>
          <a:xfrm>
            <a:off x="2971800" y="3505320"/>
            <a:ext cx="213372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ss 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Down Arrow 15"/>
          <p:cNvSpPr/>
          <p:nvPr/>
        </p:nvSpPr>
        <p:spPr>
          <a:xfrm>
            <a:off x="3124080" y="32893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dit a Task Assignment Manuall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pplying Contours to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rcRect l="0" t="0" r="28125" b="48409"/>
          <a:stretch/>
        </p:blipFill>
        <p:spPr>
          <a:xfrm>
            <a:off x="3124080" y="2286000"/>
            <a:ext cx="5484960" cy="2287440"/>
          </a:xfrm>
          <a:prstGeom prst="rect">
            <a:avLst/>
          </a:prstGeom>
          <a:ln w="0">
            <a:noFill/>
          </a:ln>
        </p:spPr>
      </p:pic>
      <p:sp>
        <p:nvSpPr>
          <p:cNvPr id="771" name="Line Callout 1 (Accent Bar) 6"/>
          <p:cNvSpPr/>
          <p:nvPr/>
        </p:nvSpPr>
        <p:spPr>
          <a:xfrm>
            <a:off x="838080" y="1752480"/>
            <a:ext cx="1524240" cy="12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91958" y="18238"/>
                </a:moveTo>
                <a:lnTo>
                  <a:pt x="22680" y="1906"/>
                </a:lnTo>
              </a:path>
              <a:path w="21600" h="21600">
                <a:moveTo>
                  <a:pt x="22680" y="0"/>
                </a:moveTo>
                <a:lnTo>
                  <a:pt x="2268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ork values for Tuesday and Wednesday after ed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Callout 1 (Accent Bar) 6"/>
          <p:cNvSpPr/>
          <p:nvPr/>
        </p:nvSpPr>
        <p:spPr>
          <a:xfrm>
            <a:off x="1143000" y="4038480"/>
            <a:ext cx="13716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8175" y="-25763"/>
                </a:moveTo>
                <a:lnTo>
                  <a:pt x="22800" y="27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dicator shows work has been edi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dit a Task Assignment Manuall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Optimizing the Project Pla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75" name="Rounded Rectangle 6"/>
          <p:cNvSpPr/>
          <p:nvPr/>
        </p:nvSpPr>
        <p:spPr>
          <a:xfrm>
            <a:off x="1828800" y="2197080"/>
            <a:ext cx="304812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More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ounded Rectangle 7"/>
          <p:cNvSpPr/>
          <p:nvPr/>
        </p:nvSpPr>
        <p:spPr>
          <a:xfrm>
            <a:off x="2209680" y="2882880"/>
            <a:ext cx="3353040" cy="5763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Detail Gan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ounded Rectangle 8"/>
          <p:cNvSpPr/>
          <p:nvPr/>
        </p:nvSpPr>
        <p:spPr>
          <a:xfrm>
            <a:off x="2743200" y="3568680"/>
            <a:ext cx="2133720" cy="5587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Down Arrow 10"/>
          <p:cNvSpPr/>
          <p:nvPr/>
        </p:nvSpPr>
        <p:spPr>
          <a:xfrm>
            <a:off x="2438280" y="26668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Down Arrow 14"/>
          <p:cNvSpPr/>
          <p:nvPr/>
        </p:nvSpPr>
        <p:spPr>
          <a:xfrm>
            <a:off x="2971800" y="33526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ounded Rectangle 8"/>
          <p:cNvSpPr/>
          <p:nvPr/>
        </p:nvSpPr>
        <p:spPr>
          <a:xfrm>
            <a:off x="3048120" y="4254480"/>
            <a:ext cx="243828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Down Arrow 14"/>
          <p:cNvSpPr/>
          <p:nvPr/>
        </p:nvSpPr>
        <p:spPr>
          <a:xfrm>
            <a:off x="3124080" y="402588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ounded Rectangle 6"/>
          <p:cNvSpPr/>
          <p:nvPr/>
        </p:nvSpPr>
        <p:spPr>
          <a:xfrm>
            <a:off x="1371600" y="1523880"/>
            <a:ext cx="213372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Down Arrow 10"/>
          <p:cNvSpPr/>
          <p:nvPr/>
        </p:nvSpPr>
        <p:spPr>
          <a:xfrm>
            <a:off x="1981080" y="19810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ounded Rectangle 8"/>
          <p:cNvSpPr/>
          <p:nvPr/>
        </p:nvSpPr>
        <p:spPr>
          <a:xfrm>
            <a:off x="3505320" y="4940280"/>
            <a:ext cx="411480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Projec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Down Arrow 14"/>
          <p:cNvSpPr/>
          <p:nvPr/>
        </p:nvSpPr>
        <p:spPr>
          <a:xfrm>
            <a:off x="3581280" y="471168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dentifying the Project Finish Date and Tota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Optimizing the Project Pla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314680" cy="1581120"/>
          </a:xfrm>
          <a:prstGeom prst="rect">
            <a:avLst/>
          </a:prstGeom>
          <a:ln w="0">
            <a:noFill/>
          </a:ln>
        </p:spPr>
      </p:pic>
      <p:sp>
        <p:nvSpPr>
          <p:cNvPr id="789" name="Line Callout 1 (Accent Bar) 6"/>
          <p:cNvSpPr/>
          <p:nvPr/>
        </p:nvSpPr>
        <p:spPr>
          <a:xfrm>
            <a:off x="609480" y="3733920"/>
            <a:ext cx="1905120" cy="129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3534" y="-17550"/>
                </a:moveTo>
                <a:lnTo>
                  <a:pt x="22464" y="1906"/>
                </a:lnTo>
              </a:path>
              <a:path w="21600" h="21600">
                <a:moveTo>
                  <a:pt x="22464" y="0"/>
                </a:moveTo>
                <a:lnTo>
                  <a:pt x="22464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Finish date is formatted in gray because you cannot directly edit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dentifying the Project Finish Date and Total Cos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Optimizing the Project Pla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92" name="Rounded Rectangle 6"/>
          <p:cNvSpPr/>
          <p:nvPr/>
        </p:nvSpPr>
        <p:spPr>
          <a:xfrm>
            <a:off x="2590920" y="1981080"/>
            <a:ext cx="2895480" cy="8384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Statistics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dentifying the Project Finish Date and Total Cos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191200" cy="2495520"/>
          </a:xfrm>
          <a:prstGeom prst="rect">
            <a:avLst/>
          </a:prstGeom>
          <a:ln w="0">
            <a:noFill/>
          </a:ln>
        </p:spPr>
      </p:pic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Optimizing the Project Pla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96" name="Line Callout 1 (Accent Bar) 6"/>
          <p:cNvSpPr/>
          <p:nvPr/>
        </p:nvSpPr>
        <p:spPr>
          <a:xfrm>
            <a:off x="1828800" y="4495680"/>
            <a:ext cx="335268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281" y="-38835"/>
                </a:moveTo>
                <a:lnTo>
                  <a:pt x="22091" y="3240"/>
                </a:lnTo>
              </a:path>
              <a:path w="21600" h="21600">
                <a:moveTo>
                  <a:pt x="22091" y="0"/>
                </a:moveTo>
                <a:lnTo>
                  <a:pt x="22091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current calculated cost is the  sum of all task and resource costs in the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dentifying the Project Finish Date and Total Cos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Optimizing the Project Pla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99" name="Content Placeholder 5"/>
          <p:cNvSpPr/>
          <p:nvPr/>
        </p:nvSpPr>
        <p:spPr>
          <a:xfrm>
            <a:off x="609480" y="152388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miz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djusting the aspects of the project plan, such as cost, duration, and scope (or any combination of these), to achieve a desired plan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desired result may be a target finish date, duration, or overal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dentifying the Project Finish Date and Total Cos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Optimizing the Project Pla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02" name="Content Placeholder 5"/>
          <p:cNvSpPr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that in the Project Statistics box, many of the values equal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is because you have not yet saved a baseline or entered values into the project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ash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creasing the project’s duration without altering the basic sequence of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dentifying the Project Finish Date and Total Cos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Optimizing the Project Pla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05" name="Rounded Rectangle 9"/>
          <p:cNvSpPr/>
          <p:nvPr/>
        </p:nvSpPr>
        <p:spPr>
          <a:xfrm>
            <a:off x="4267080" y="4191120"/>
            <a:ext cx="17528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ounded Rectangle 6"/>
          <p:cNvSpPr/>
          <p:nvPr/>
        </p:nvSpPr>
        <p:spPr>
          <a:xfrm>
            <a:off x="2514600" y="175248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ounded Rectangle 7"/>
          <p:cNvSpPr/>
          <p:nvPr/>
        </p:nvSpPr>
        <p:spPr>
          <a:xfrm>
            <a:off x="2895480" y="2540160"/>
            <a:ext cx="2210040" cy="7156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Z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ounded Rectangle 8"/>
          <p:cNvSpPr/>
          <p:nvPr/>
        </p:nvSpPr>
        <p:spPr>
          <a:xfrm>
            <a:off x="3657600" y="3378240"/>
            <a:ext cx="19810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Re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Down Arrow 10"/>
          <p:cNvSpPr/>
          <p:nvPr/>
        </p:nvSpPr>
        <p:spPr>
          <a:xfrm>
            <a:off x="3124080" y="23115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Down Arrow 14"/>
          <p:cNvSpPr/>
          <p:nvPr/>
        </p:nvSpPr>
        <p:spPr>
          <a:xfrm>
            <a:off x="3657600" y="31496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Down Arrow 15"/>
          <p:cNvSpPr/>
          <p:nvPr/>
        </p:nvSpPr>
        <p:spPr>
          <a:xfrm>
            <a:off x="4419720" y="39751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ress the Project Plan to Pull in the Project Finish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pplying Contours to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14" name="Rounded Rectangle 9"/>
          <p:cNvSpPr/>
          <p:nvPr/>
        </p:nvSpPr>
        <p:spPr>
          <a:xfrm>
            <a:off x="2133720" y="39625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ounded Rectangle 6"/>
          <p:cNvSpPr/>
          <p:nvPr/>
        </p:nvSpPr>
        <p:spPr>
          <a:xfrm>
            <a:off x="609480" y="1600200"/>
            <a:ext cx="182880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ounded Rectangle 7"/>
          <p:cNvSpPr/>
          <p:nvPr/>
        </p:nvSpPr>
        <p:spPr>
          <a:xfrm>
            <a:off x="990720" y="2362320"/>
            <a:ext cx="2209680" cy="6649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Go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ounded Rectangle 8"/>
          <p:cNvSpPr/>
          <p:nvPr/>
        </p:nvSpPr>
        <p:spPr>
          <a:xfrm>
            <a:off x="1523880" y="3200400"/>
            <a:ext cx="3657600" cy="6350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67 in the ID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Down Arrow 10"/>
          <p:cNvSpPr/>
          <p:nvPr/>
        </p:nvSpPr>
        <p:spPr>
          <a:xfrm>
            <a:off x="1219320" y="20829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Down Arrow 14"/>
          <p:cNvSpPr/>
          <p:nvPr/>
        </p:nvSpPr>
        <p:spPr>
          <a:xfrm>
            <a:off x="1752480" y="29210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Down Arrow 15"/>
          <p:cNvSpPr/>
          <p:nvPr/>
        </p:nvSpPr>
        <p:spPr>
          <a:xfrm>
            <a:off x="2286000" y="37465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ounded Rectangle 9"/>
          <p:cNvSpPr/>
          <p:nvPr/>
        </p:nvSpPr>
        <p:spPr>
          <a:xfrm>
            <a:off x="2590920" y="4711680"/>
            <a:ext cx="609588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croll to see the Gantt bar for task 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Down Arrow 15"/>
          <p:cNvSpPr/>
          <p:nvPr/>
        </p:nvSpPr>
        <p:spPr>
          <a:xfrm>
            <a:off x="2743200" y="44956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ress the Project Plan to Pull in the Project Finish Dat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ftware Orient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3327480" cy="3635280"/>
          </a:xfrm>
          <a:prstGeom prst="rect">
            <a:avLst/>
          </a:prstGeom>
          <a:ln w="0">
            <a:noFill/>
          </a:ln>
        </p:spPr>
      </p:pic>
      <p:sp>
        <p:nvSpPr>
          <p:cNvPr id="541" name="Line Callout 1 (Accent Bar) 6"/>
          <p:cNvSpPr/>
          <p:nvPr/>
        </p:nvSpPr>
        <p:spPr>
          <a:xfrm>
            <a:off x="685800" y="1600200"/>
            <a:ext cx="137160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575" y="27300"/>
                </a:moveTo>
                <a:lnTo>
                  <a:pt x="22800" y="36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Use to set the first day of the 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Callout 1 (Accent Bar) 6"/>
          <p:cNvSpPr/>
          <p:nvPr/>
        </p:nvSpPr>
        <p:spPr>
          <a:xfrm>
            <a:off x="609480" y="3352680"/>
            <a:ext cx="167652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634" y="-10243"/>
                </a:moveTo>
                <a:lnTo>
                  <a:pt x="22582" y="1543"/>
                </a:lnTo>
              </a:path>
              <a:path w="21600" h="21600">
                <a:moveTo>
                  <a:pt x="22582" y="0"/>
                </a:moveTo>
                <a:lnTo>
                  <a:pt x="22582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f you are working with fiscal years, specify which month is the start of the fiscal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Callout 1 (Accent Bar) 6"/>
          <p:cNvSpPr/>
          <p:nvPr/>
        </p:nvSpPr>
        <p:spPr>
          <a:xfrm>
            <a:off x="6705720" y="1676520"/>
            <a:ext cx="152388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783" y="18045"/>
                </a:moveTo>
                <a:lnTo>
                  <a:pt x="-1080" y="1620"/>
                </a:lnTo>
              </a:path>
              <a:path w="21600" h="21600">
                <a:moveTo>
                  <a:pt x="-1080" y="0"/>
                </a:moveTo>
                <a:lnTo>
                  <a:pt x="-108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se settings supply the start and end time when you enter a date but not a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Callout 1 (Accent Bar) 6"/>
          <p:cNvSpPr/>
          <p:nvPr/>
        </p:nvSpPr>
        <p:spPr>
          <a:xfrm>
            <a:off x="6705720" y="3581280"/>
            <a:ext cx="1523880" cy="13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2423" y="-2295"/>
                </a:moveTo>
                <a:lnTo>
                  <a:pt x="-1080" y="1620"/>
                </a:lnTo>
              </a:path>
              <a:path w="21600" h="21600">
                <a:moveTo>
                  <a:pt x="-1080" y="0"/>
                </a:moveTo>
                <a:lnTo>
                  <a:pt x="-108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t hours per day, hours per week, and days per mon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soft Project’s Calendar Tab of the Options Dialog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pplying Contours to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rcRect l="0" t="0" r="18823" b="56758"/>
          <a:stretch/>
        </p:blipFill>
        <p:spPr>
          <a:xfrm>
            <a:off x="990720" y="3048120"/>
            <a:ext cx="7304040" cy="2257200"/>
          </a:xfrm>
          <a:prstGeom prst="rect">
            <a:avLst/>
          </a:prstGeom>
          <a:ln w="0">
            <a:noFill/>
          </a:ln>
        </p:spPr>
      </p:pic>
      <p:sp>
        <p:nvSpPr>
          <p:cNvPr id="826" name="Line Callout 1 (Accent Bar) 6"/>
          <p:cNvSpPr/>
          <p:nvPr/>
        </p:nvSpPr>
        <p:spPr>
          <a:xfrm>
            <a:off x="838080" y="1752480"/>
            <a:ext cx="358164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407" y="52850"/>
                </a:moveTo>
                <a:lnTo>
                  <a:pt x="22060" y="3600"/>
                </a:lnTo>
              </a:path>
              <a:path w="21600" h="21600">
                <a:moveTo>
                  <a:pt x="22060" y="0"/>
                </a:moveTo>
                <a:lnTo>
                  <a:pt x="2206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ask 67 has a back-loaded contour, which has lengthened its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ress the Project Plan to Pull in the Project Finish Dat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pplying Contours to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29" name="Rounded Rectangle 9"/>
          <p:cNvSpPr/>
          <p:nvPr/>
        </p:nvSpPr>
        <p:spPr>
          <a:xfrm>
            <a:off x="2133720" y="4254480"/>
            <a:ext cx="2209680" cy="5461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ss 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ounded Rectangle 6"/>
          <p:cNvSpPr/>
          <p:nvPr/>
        </p:nvSpPr>
        <p:spPr>
          <a:xfrm>
            <a:off x="609480" y="1523880"/>
            <a:ext cx="5562720" cy="609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uble-click the name of task 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ounded Rectangle 7"/>
          <p:cNvSpPr/>
          <p:nvPr/>
        </p:nvSpPr>
        <p:spPr>
          <a:xfrm>
            <a:off x="990720" y="2286000"/>
            <a:ext cx="5638680" cy="8380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Predecessors tab in the Task Information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ounded Rectangle 8"/>
          <p:cNvSpPr/>
          <p:nvPr/>
        </p:nvSpPr>
        <p:spPr>
          <a:xfrm>
            <a:off x="1523880" y="3276720"/>
            <a:ext cx="5562720" cy="8380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–50% in the Lag field for the predecessor task 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Down Arrow 10"/>
          <p:cNvSpPr/>
          <p:nvPr/>
        </p:nvSpPr>
        <p:spPr>
          <a:xfrm>
            <a:off x="1295280" y="207000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Down Arrow 14"/>
          <p:cNvSpPr/>
          <p:nvPr/>
        </p:nvSpPr>
        <p:spPr>
          <a:xfrm>
            <a:off x="1752480" y="30607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Down Arrow 15"/>
          <p:cNvSpPr/>
          <p:nvPr/>
        </p:nvSpPr>
        <p:spPr>
          <a:xfrm>
            <a:off x="2286000" y="40384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ounded Rectangle 9"/>
          <p:cNvSpPr/>
          <p:nvPr/>
        </p:nvSpPr>
        <p:spPr>
          <a:xfrm>
            <a:off x="2590920" y="4952880"/>
            <a:ext cx="198108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Down Arrow 15"/>
          <p:cNvSpPr/>
          <p:nvPr/>
        </p:nvSpPr>
        <p:spPr>
          <a:xfrm>
            <a:off x="2743200" y="473724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ress the Project Plan to Pull in the Project Finish Dat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pplying Contours to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1"/>
          <a:srcRect l="0" t="0" r="23484" b="56758"/>
          <a:stretch/>
        </p:blipFill>
        <p:spPr>
          <a:xfrm>
            <a:off x="914400" y="3048120"/>
            <a:ext cx="6900840" cy="2259000"/>
          </a:xfrm>
          <a:prstGeom prst="rect">
            <a:avLst/>
          </a:prstGeom>
          <a:ln w="0">
            <a:noFill/>
          </a:ln>
        </p:spPr>
      </p:pic>
      <p:sp>
        <p:nvSpPr>
          <p:cNvPr id="841" name="Line Callout 1 (Accent Bar) 6"/>
          <p:cNvSpPr/>
          <p:nvPr/>
        </p:nvSpPr>
        <p:spPr>
          <a:xfrm>
            <a:off x="838080" y="1752480"/>
            <a:ext cx="358164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467" y="59250"/>
                </a:moveTo>
                <a:lnTo>
                  <a:pt x="22060" y="3600"/>
                </a:lnTo>
              </a:path>
              <a:path w="21600" h="21600">
                <a:moveTo>
                  <a:pt x="22060" y="0"/>
                </a:moveTo>
                <a:lnTo>
                  <a:pt x="2206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ask 68 begins when 50% of task 67’s duration has elap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ress the Project Plan to Pull in the Project Finish Dat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pplying Contours to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44" name="Rounded Rectangle 9"/>
          <p:cNvSpPr/>
          <p:nvPr/>
        </p:nvSpPr>
        <p:spPr>
          <a:xfrm>
            <a:off x="3505320" y="4038480"/>
            <a:ext cx="2209680" cy="609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Ins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ounded Rectangle 6"/>
          <p:cNvSpPr/>
          <p:nvPr/>
        </p:nvSpPr>
        <p:spPr>
          <a:xfrm>
            <a:off x="1752480" y="1600200"/>
            <a:ext cx="182880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ounded Rectangle 7"/>
          <p:cNvSpPr/>
          <p:nvPr/>
        </p:nvSpPr>
        <p:spPr>
          <a:xfrm>
            <a:off x="2133720" y="2390760"/>
            <a:ext cx="3047760" cy="636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ask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ounded Rectangle 8"/>
          <p:cNvSpPr/>
          <p:nvPr/>
        </p:nvSpPr>
        <p:spPr>
          <a:xfrm>
            <a:off x="2895480" y="3225960"/>
            <a:ext cx="525780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Work column h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Down Arrow 10"/>
          <p:cNvSpPr/>
          <p:nvPr/>
        </p:nvSpPr>
        <p:spPr>
          <a:xfrm>
            <a:off x="2362320" y="2125800"/>
            <a:ext cx="457200" cy="338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Down Arrow 14"/>
          <p:cNvSpPr/>
          <p:nvPr/>
        </p:nvSpPr>
        <p:spPr>
          <a:xfrm>
            <a:off x="2895480" y="2963880"/>
            <a:ext cx="457200" cy="338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Down Arrow 15"/>
          <p:cNvSpPr/>
          <p:nvPr/>
        </p:nvSpPr>
        <p:spPr>
          <a:xfrm>
            <a:off x="3657600" y="3789360"/>
            <a:ext cx="457200" cy="338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ounded Rectangle 9"/>
          <p:cNvSpPr/>
          <p:nvPr/>
        </p:nvSpPr>
        <p:spPr>
          <a:xfrm>
            <a:off x="4114800" y="4821120"/>
            <a:ext cx="2514600" cy="609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Down Arrow 15"/>
          <p:cNvSpPr/>
          <p:nvPr/>
        </p:nvSpPr>
        <p:spPr>
          <a:xfrm>
            <a:off x="4267080" y="4572000"/>
            <a:ext cx="457200" cy="338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ress the Project Plan to Pull in the Project Finish Dat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pplying Contours to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55" name="Rounded Rectangle 6"/>
          <p:cNvSpPr/>
          <p:nvPr/>
        </p:nvSpPr>
        <p:spPr>
          <a:xfrm>
            <a:off x="533520" y="1600200"/>
            <a:ext cx="723888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Overtime Work in the Field nam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ounded Rectangle 7"/>
          <p:cNvSpPr/>
          <p:nvPr/>
        </p:nvSpPr>
        <p:spPr>
          <a:xfrm>
            <a:off x="1371600" y="2390760"/>
            <a:ext cx="1676520" cy="636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ounded Rectangle 8"/>
          <p:cNvSpPr/>
          <p:nvPr/>
        </p:nvSpPr>
        <p:spPr>
          <a:xfrm>
            <a:off x="1828800" y="3200400"/>
            <a:ext cx="5486400" cy="16509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rag the divider bar between the table and bar portions of the Gantt Chart to the right until the Work column is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Down Arrow 10"/>
          <p:cNvSpPr/>
          <p:nvPr/>
        </p:nvSpPr>
        <p:spPr>
          <a:xfrm>
            <a:off x="1600200" y="2125800"/>
            <a:ext cx="457200" cy="338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Down Arrow 14"/>
          <p:cNvSpPr/>
          <p:nvPr/>
        </p:nvSpPr>
        <p:spPr>
          <a:xfrm>
            <a:off x="2133720" y="2963880"/>
            <a:ext cx="457200" cy="338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ress the Project Plan to Pull in the Project Finish Dat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pplying Contours to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62" name="Rounded Rectangle 9"/>
          <p:cNvSpPr/>
          <p:nvPr/>
        </p:nvSpPr>
        <p:spPr>
          <a:xfrm>
            <a:off x="4038480" y="4191120"/>
            <a:ext cx="17528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ounded Rectangle 6"/>
          <p:cNvSpPr/>
          <p:nvPr/>
        </p:nvSpPr>
        <p:spPr>
          <a:xfrm>
            <a:off x="2514600" y="175248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ounded Rectangle 7"/>
          <p:cNvSpPr/>
          <p:nvPr/>
        </p:nvSpPr>
        <p:spPr>
          <a:xfrm>
            <a:off x="2895480" y="2540160"/>
            <a:ext cx="2210040" cy="7156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Go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ounded Rectangle 8"/>
          <p:cNvSpPr/>
          <p:nvPr/>
        </p:nvSpPr>
        <p:spPr>
          <a:xfrm>
            <a:off x="3657600" y="337824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66 in the ID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Down Arrow 10"/>
          <p:cNvSpPr/>
          <p:nvPr/>
        </p:nvSpPr>
        <p:spPr>
          <a:xfrm>
            <a:off x="3124080" y="23115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Down Arrow 14"/>
          <p:cNvSpPr/>
          <p:nvPr/>
        </p:nvSpPr>
        <p:spPr>
          <a:xfrm>
            <a:off x="3657600" y="31496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Down Arrow 15"/>
          <p:cNvSpPr/>
          <p:nvPr/>
        </p:nvSpPr>
        <p:spPr>
          <a:xfrm>
            <a:off x="4191120" y="39751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ress the Project Plan to Pull in the Project Finish Dat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pplying Contours to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1"/>
          <a:srcRect l="0" t="0" r="28235" b="48650"/>
          <a:stretch/>
        </p:blipFill>
        <p:spPr>
          <a:xfrm>
            <a:off x="2895480" y="2286000"/>
            <a:ext cx="5658120" cy="2349360"/>
          </a:xfrm>
          <a:prstGeom prst="rect">
            <a:avLst/>
          </a:prstGeom>
          <a:ln w="0">
            <a:noFill/>
          </a:ln>
        </p:spPr>
      </p:pic>
      <p:sp>
        <p:nvSpPr>
          <p:cNvPr id="872" name=""/>
          <p:cNvSpPr/>
          <p:nvPr/>
        </p:nvSpPr>
        <p:spPr>
          <a:xfrm>
            <a:off x="5334120" y="2743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Callout 1 (Accent Bar) 6"/>
          <p:cNvSpPr/>
          <p:nvPr/>
        </p:nvSpPr>
        <p:spPr>
          <a:xfrm>
            <a:off x="838080" y="1905120"/>
            <a:ext cx="1371600" cy="121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70775" y="19406"/>
                </a:moveTo>
                <a:lnTo>
                  <a:pt x="22800" y="2025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Note the work values for the assignments on task 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ress the Project Plan to Pull in the Project Finish Dat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pplying Contours to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76" name="Rounded Rectangle 6"/>
          <p:cNvSpPr/>
          <p:nvPr/>
        </p:nvSpPr>
        <p:spPr>
          <a:xfrm>
            <a:off x="1752480" y="1676520"/>
            <a:ext cx="5334120" cy="965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Overtime Work cell for Jamie Reding on task 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ounded Rectangle 7"/>
          <p:cNvSpPr/>
          <p:nvPr/>
        </p:nvSpPr>
        <p:spPr>
          <a:xfrm>
            <a:off x="2133720" y="2743200"/>
            <a:ext cx="1523880" cy="7160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ounded Rectangle 8"/>
          <p:cNvSpPr/>
          <p:nvPr/>
        </p:nvSpPr>
        <p:spPr>
          <a:xfrm>
            <a:off x="2666880" y="358128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ss 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Down Arrow 10"/>
          <p:cNvSpPr/>
          <p:nvPr/>
        </p:nvSpPr>
        <p:spPr>
          <a:xfrm>
            <a:off x="2362320" y="25146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Down Arrow 14"/>
          <p:cNvSpPr/>
          <p:nvPr/>
        </p:nvSpPr>
        <p:spPr>
          <a:xfrm>
            <a:off x="2895480" y="33526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ress the Project Plan to Pull in the Project Finish Dat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pplying Contours to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83" name="Rounded Rectangle 6"/>
          <p:cNvSpPr/>
          <p:nvPr/>
        </p:nvSpPr>
        <p:spPr>
          <a:xfrm>
            <a:off x="1752480" y="1676520"/>
            <a:ext cx="5334120" cy="965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Overtime Work cell for Florian Voss on task 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ounded Rectangle 7"/>
          <p:cNvSpPr/>
          <p:nvPr/>
        </p:nvSpPr>
        <p:spPr>
          <a:xfrm>
            <a:off x="2133720" y="2743200"/>
            <a:ext cx="1523880" cy="7160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ounded Rectangle 8"/>
          <p:cNvSpPr/>
          <p:nvPr/>
        </p:nvSpPr>
        <p:spPr>
          <a:xfrm>
            <a:off x="2666880" y="358128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ss 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Down Arrow 10"/>
          <p:cNvSpPr/>
          <p:nvPr/>
        </p:nvSpPr>
        <p:spPr>
          <a:xfrm>
            <a:off x="2362320" y="25146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Down Arrow 14"/>
          <p:cNvSpPr/>
          <p:nvPr/>
        </p:nvSpPr>
        <p:spPr>
          <a:xfrm>
            <a:off x="2895480" y="33526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ress the Project Plan to Pull in the Project Finish Dat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pplying Contours to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90" name="Rounded Rectangle 6"/>
          <p:cNvSpPr/>
          <p:nvPr/>
        </p:nvSpPr>
        <p:spPr>
          <a:xfrm>
            <a:off x="1752480" y="1676520"/>
            <a:ext cx="5334120" cy="965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Overtime Work cell for Shu Ito on task 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ounded Rectangle 7"/>
          <p:cNvSpPr/>
          <p:nvPr/>
        </p:nvSpPr>
        <p:spPr>
          <a:xfrm>
            <a:off x="2133720" y="2743200"/>
            <a:ext cx="1523880" cy="7160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ounded Rectangle 8"/>
          <p:cNvSpPr/>
          <p:nvPr/>
        </p:nvSpPr>
        <p:spPr>
          <a:xfrm>
            <a:off x="2666880" y="358128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ss 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Down Arrow 10"/>
          <p:cNvSpPr/>
          <p:nvPr/>
        </p:nvSpPr>
        <p:spPr>
          <a:xfrm>
            <a:off x="2362320" y="25146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Down Arrow 14"/>
          <p:cNvSpPr/>
          <p:nvPr/>
        </p:nvSpPr>
        <p:spPr>
          <a:xfrm>
            <a:off x="2895480" y="33526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ress the Project Plan to Pull in the Project Finish Dat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king Time and Date Adjust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47" name="Rounded Rectangle 9"/>
          <p:cNvSpPr/>
          <p:nvPr/>
        </p:nvSpPr>
        <p:spPr>
          <a:xfrm>
            <a:off x="2133720" y="435600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ounded Rectangle 6"/>
          <p:cNvSpPr/>
          <p:nvPr/>
        </p:nvSpPr>
        <p:spPr>
          <a:xfrm>
            <a:off x="609480" y="1676520"/>
            <a:ext cx="68580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Show/Hide Project Guide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ounded Rectangle 7"/>
          <p:cNvSpPr/>
          <p:nvPr/>
        </p:nvSpPr>
        <p:spPr>
          <a:xfrm>
            <a:off x="990720" y="2481120"/>
            <a:ext cx="7257960" cy="9781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rag the divider bar on the Gantt Chart until the Start and Finish columns are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ounded Rectangle 8"/>
          <p:cNvSpPr/>
          <p:nvPr/>
        </p:nvSpPr>
        <p:spPr>
          <a:xfrm>
            <a:off x="1752480" y="3581280"/>
            <a:ext cx="22100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Down Arrow 10"/>
          <p:cNvSpPr/>
          <p:nvPr/>
        </p:nvSpPr>
        <p:spPr>
          <a:xfrm>
            <a:off x="1219320" y="22352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Down Arrow 14"/>
          <p:cNvSpPr/>
          <p:nvPr/>
        </p:nvSpPr>
        <p:spPr>
          <a:xfrm>
            <a:off x="1752480" y="33526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Down Arrow 15"/>
          <p:cNvSpPr/>
          <p:nvPr/>
        </p:nvSpPr>
        <p:spPr>
          <a:xfrm>
            <a:off x="2286000" y="41781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just Fiscal Year Settings Within Microsof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pplying Contours to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97" name="Rounded Rectangle 6"/>
          <p:cNvSpPr/>
          <p:nvPr/>
        </p:nvSpPr>
        <p:spPr>
          <a:xfrm>
            <a:off x="1752480" y="1676520"/>
            <a:ext cx="5334120" cy="965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Overtime Work cell for Jane Clayton on task 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ounded Rectangle 7"/>
          <p:cNvSpPr/>
          <p:nvPr/>
        </p:nvSpPr>
        <p:spPr>
          <a:xfrm>
            <a:off x="2133720" y="2743200"/>
            <a:ext cx="1523880" cy="7160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ounded Rectangle 8"/>
          <p:cNvSpPr/>
          <p:nvPr/>
        </p:nvSpPr>
        <p:spPr>
          <a:xfrm>
            <a:off x="2666880" y="358128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ss 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Down Arrow 10"/>
          <p:cNvSpPr/>
          <p:nvPr/>
        </p:nvSpPr>
        <p:spPr>
          <a:xfrm>
            <a:off x="2362320" y="25146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Down Arrow 14"/>
          <p:cNvSpPr/>
          <p:nvPr/>
        </p:nvSpPr>
        <p:spPr>
          <a:xfrm>
            <a:off x="2895480" y="33526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ress the Project Plan to Pull in the Project Finish Dat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pplying Contours to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04" name="Rounded Rectangle 6"/>
          <p:cNvSpPr/>
          <p:nvPr/>
        </p:nvSpPr>
        <p:spPr>
          <a:xfrm>
            <a:off x="1752480" y="1676520"/>
            <a:ext cx="5334120" cy="965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Overtime Work cell for Bjorn Rettig on task 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ounded Rectangle 7"/>
          <p:cNvSpPr/>
          <p:nvPr/>
        </p:nvSpPr>
        <p:spPr>
          <a:xfrm>
            <a:off x="2133720" y="2743200"/>
            <a:ext cx="1523880" cy="7160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ounded Rectangle 8"/>
          <p:cNvSpPr/>
          <p:nvPr/>
        </p:nvSpPr>
        <p:spPr>
          <a:xfrm>
            <a:off x="2666880" y="358128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ss 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Down Arrow 10"/>
          <p:cNvSpPr/>
          <p:nvPr/>
        </p:nvSpPr>
        <p:spPr>
          <a:xfrm>
            <a:off x="2362320" y="25146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Down Arrow 14"/>
          <p:cNvSpPr/>
          <p:nvPr/>
        </p:nvSpPr>
        <p:spPr>
          <a:xfrm>
            <a:off x="2895480" y="33526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ress the Project Plan to Pull in the Project Finish Dat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pplying Contours to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rcRect l="0" t="0" r="28125" b="48409"/>
          <a:stretch/>
        </p:blipFill>
        <p:spPr>
          <a:xfrm>
            <a:off x="2057400" y="2971800"/>
            <a:ext cx="5694480" cy="2374920"/>
          </a:xfrm>
          <a:prstGeom prst="rect">
            <a:avLst/>
          </a:prstGeom>
          <a:ln w="0">
            <a:noFill/>
          </a:ln>
        </p:spPr>
      </p:pic>
      <p:sp>
        <p:nvSpPr>
          <p:cNvPr id="912" name=""/>
          <p:cNvSpPr/>
          <p:nvPr/>
        </p:nvSpPr>
        <p:spPr>
          <a:xfrm>
            <a:off x="4114800" y="3657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Callout 1 (Accent Bar) 6"/>
          <p:cNvSpPr/>
          <p:nvPr/>
        </p:nvSpPr>
        <p:spPr>
          <a:xfrm>
            <a:off x="838080" y="1752480"/>
            <a:ext cx="1905120" cy="106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7134" y="45064"/>
                </a:moveTo>
                <a:lnTo>
                  <a:pt x="22464" y="2314"/>
                </a:lnTo>
              </a:path>
              <a:path w="21600" h="21600">
                <a:moveTo>
                  <a:pt x="22464" y="0"/>
                </a:moveTo>
                <a:lnTo>
                  <a:pt x="22464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vertime work added for resource assignments on task 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ress the Project Plan to Pull in the Project Finish Dat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pplying Contours to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16" name="Rounded Rectangle 9"/>
          <p:cNvSpPr/>
          <p:nvPr/>
        </p:nvSpPr>
        <p:spPr>
          <a:xfrm>
            <a:off x="3200400" y="42670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ounded Rectangle 6"/>
          <p:cNvSpPr/>
          <p:nvPr/>
        </p:nvSpPr>
        <p:spPr>
          <a:xfrm>
            <a:off x="1523880" y="1600200"/>
            <a:ext cx="23623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ounded Rectangle 7"/>
          <p:cNvSpPr/>
          <p:nvPr/>
        </p:nvSpPr>
        <p:spPr>
          <a:xfrm>
            <a:off x="1905120" y="2387520"/>
            <a:ext cx="4190760" cy="7160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Projec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ounded Rectangle 8"/>
          <p:cNvSpPr/>
          <p:nvPr/>
        </p:nvSpPr>
        <p:spPr>
          <a:xfrm>
            <a:off x="2514600" y="3225960"/>
            <a:ext cx="3581280" cy="888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te the new Finish date of 7/21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Down Arrow 10"/>
          <p:cNvSpPr/>
          <p:nvPr/>
        </p:nvSpPr>
        <p:spPr>
          <a:xfrm>
            <a:off x="2133720" y="215892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Down Arrow 14"/>
          <p:cNvSpPr/>
          <p:nvPr/>
        </p:nvSpPr>
        <p:spPr>
          <a:xfrm>
            <a:off x="2666880" y="29973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Down Arrow 15"/>
          <p:cNvSpPr/>
          <p:nvPr/>
        </p:nvSpPr>
        <p:spPr>
          <a:xfrm>
            <a:off x="3352680" y="40514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ress the Project Plan to Pull in the Project Finish Dat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pplying Contours to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25" name="Content Placeholder 5"/>
          <p:cNvSpPr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crosoft Project cannot automate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ject manager must know the nature of the project and how it should be optim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may need to make trade-offs such as cutting scope, adding resources, allowing overtime, or adding lea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ress the Project Plan to Pull in the Project Finish Dat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ummar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514080" y="1542960"/>
            <a:ext cx="8248680" cy="3789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time and date adjust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project’s critical pa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lay the start of assign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Learned How 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ummar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Learned How to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Content Placeholder 6"/>
          <p:cNvSpPr/>
          <p:nvPr/>
        </p:nvSpPr>
        <p:spPr>
          <a:xfrm>
            <a:off x="514440" y="1542960"/>
            <a:ext cx="748656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y contours to assig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mize the projec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king Time and Date Adjust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56" name="Rounded Rectangle 7"/>
          <p:cNvSpPr/>
          <p:nvPr/>
        </p:nvSpPr>
        <p:spPr>
          <a:xfrm>
            <a:off x="1203480" y="2481120"/>
            <a:ext cx="72547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July in the Fiscal year starts in :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ounded Rectangle 6"/>
          <p:cNvSpPr/>
          <p:nvPr/>
        </p:nvSpPr>
        <p:spPr>
          <a:xfrm>
            <a:off x="609480" y="1676520"/>
            <a:ext cx="38102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Calendar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ounded Rectangle 8"/>
          <p:cNvSpPr/>
          <p:nvPr/>
        </p:nvSpPr>
        <p:spPr>
          <a:xfrm>
            <a:off x="1752480" y="327672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Down Arrow 10"/>
          <p:cNvSpPr/>
          <p:nvPr/>
        </p:nvSpPr>
        <p:spPr>
          <a:xfrm>
            <a:off x="1219320" y="22352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Down Arrow 14"/>
          <p:cNvSpPr/>
          <p:nvPr/>
        </p:nvSpPr>
        <p:spPr>
          <a:xfrm>
            <a:off x="1752480" y="30351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just Fiscal Year Settings Within Microsoft Projec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king Time and Date Adjust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563" name="Text Placeholder 3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5667480" cy="3292200"/>
          </a:xfrm>
          <a:prstGeom prst="rect">
            <a:avLst/>
          </a:prstGeom>
          <a:ln w="0">
            <a:noFill/>
          </a:ln>
        </p:spPr>
      </p:pic>
      <p:sp>
        <p:nvSpPr>
          <p:cNvPr id="564" name="Line Callout 1 (Accent Bar) 6"/>
          <p:cNvSpPr/>
          <p:nvPr/>
        </p:nvSpPr>
        <p:spPr>
          <a:xfrm>
            <a:off x="609480" y="1676520"/>
            <a:ext cx="1981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8413" y="1350"/>
                </a:moveTo>
                <a:lnTo>
                  <a:pt x="22431" y="2314"/>
                </a:lnTo>
              </a:path>
              <a:path w="21600" h="21600">
                <a:moveTo>
                  <a:pt x="22431" y="0"/>
                </a:moveTo>
                <a:lnTo>
                  <a:pt x="22431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iscal year setting displays December 30, 2008, for December 30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Callout 1 (Accent Bar) 6"/>
          <p:cNvSpPr/>
          <p:nvPr/>
        </p:nvSpPr>
        <p:spPr>
          <a:xfrm>
            <a:off x="609480" y="3352680"/>
            <a:ext cx="198144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7752" y="23906"/>
                </a:moveTo>
                <a:lnTo>
                  <a:pt x="22431" y="2025"/>
                </a:lnTo>
              </a:path>
              <a:path w="21600" h="21600">
                <a:moveTo>
                  <a:pt x="22431" y="0"/>
                </a:moveTo>
                <a:lnTo>
                  <a:pt x="22431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ate formats in fields, such as Start and Finish columns, are not affected by fiscal year set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just Fiscal Year Settings Within Microsoft Projec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king Time and Date Adjust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68" name="Rounded Rectangle 7"/>
          <p:cNvSpPr/>
          <p:nvPr/>
        </p:nvSpPr>
        <p:spPr>
          <a:xfrm>
            <a:off x="2422440" y="2633760"/>
            <a:ext cx="5502240" cy="1023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rag the divider back to the right edge of the Duration colum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ounded Rectangle 6"/>
          <p:cNvSpPr/>
          <p:nvPr/>
        </p:nvSpPr>
        <p:spPr>
          <a:xfrm>
            <a:off x="1828800" y="182880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Down Arrow 10"/>
          <p:cNvSpPr/>
          <p:nvPr/>
        </p:nvSpPr>
        <p:spPr>
          <a:xfrm>
            <a:off x="2438280" y="238752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just Fiscal Year Settings Within Microsoft Projec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14:18Z</dcterms:created>
  <dc:creator/>
  <dc:description/>
  <dc:language>en-US</dc:language>
  <cp:lastModifiedBy>Custom Editorial Productions</cp:lastModifiedBy>
  <dcterms:modified xsi:type="dcterms:W3CDTF">2007-06-13T19:00:35Z</dcterms:modified>
  <cp:revision>198</cp:revision>
  <dc:subject/>
  <dc:title>Project Basics</dc:title>
</cp:coreProperties>
</file>