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  <p:sldId id="285" r:id="rId43"/>
    <p:sldId id="286" r:id="rId44"/>
    <p:sldId id="287" r:id="rId45"/>
    <p:sldId id="288" r:id="rId46"/>
    <p:sldId id="289" r:id="rId47"/>
    <p:sldId id="290" r:id="rId48"/>
    <p:sldId id="291" r:id="rId49"/>
    <p:sldId id="292" r:id="rId50"/>
    <p:sldId id="293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slide" Target="slides/slide30.xml"/><Relationship Id="rId44" Type="http://schemas.openxmlformats.org/officeDocument/2006/relationships/slide" Target="slides/slide31.xml"/><Relationship Id="rId45" Type="http://schemas.openxmlformats.org/officeDocument/2006/relationships/slide" Target="slides/slide32.xml"/><Relationship Id="rId46" Type="http://schemas.openxmlformats.org/officeDocument/2006/relationships/slide" Target="slides/slide33.xml"/><Relationship Id="rId47" Type="http://schemas.openxmlformats.org/officeDocument/2006/relationships/slide" Target="slides/slide34.xml"/><Relationship Id="rId48" Type="http://schemas.openxmlformats.org/officeDocument/2006/relationships/slide" Target="slides/slide35.xml"/><Relationship Id="rId49" Type="http://schemas.openxmlformats.org/officeDocument/2006/relationships/slide" Target="slides/slide36.xml"/><Relationship Id="rId50" Type="http://schemas.openxmlformats.org/officeDocument/2006/relationships/slide" Target="slides/slide37.xml"/><Relationship Id="rId51" Type="http://schemas.openxmlformats.org/officeDocument/2006/relationships/slide" Target="slides/slide38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2A1451-92EF-497E-A6B6-E2E85800B5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818352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3280" y="3084120"/>
            <a:ext cx="818352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EEFA4E-0D13-41F9-8FC2-34FFCF45AC5D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AD47E6-E2DC-41B7-ACCC-476732B66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830589-A949-4F47-98E0-731DF3478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ubTitle"/>
          </p:nvPr>
        </p:nvSpPr>
        <p:spPr>
          <a:xfrm>
            <a:off x="304920" y="5486040"/>
            <a:ext cx="853416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463E30-AE3C-4E67-8CE2-F0136EFC0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328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9EA64E-33A6-4861-A874-8FD65EFF9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69692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20F1B0-B386-4FF2-8179-53495944D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503280" y="3084120"/>
            <a:ext cx="818352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24B947-073D-4C63-823C-BE6DEA16F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818352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503280" y="3084120"/>
            <a:ext cx="818352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122A77-1DBE-4623-8D8A-BF20522E7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50328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69692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D1FF2D-659F-4E30-8BC4-534910D9A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3270240" y="45720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037200" y="45720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503280" y="308412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PlaceHolder 6"/>
          <p:cNvSpPr>
            <a:spLocks noGrp="1"/>
          </p:cNvSpPr>
          <p:nvPr>
            <p:ph/>
          </p:nvPr>
        </p:nvSpPr>
        <p:spPr>
          <a:xfrm>
            <a:off x="3270240" y="308412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PlaceHolder 7"/>
          <p:cNvSpPr>
            <a:spLocks noGrp="1"/>
          </p:cNvSpPr>
          <p:nvPr>
            <p:ph/>
          </p:nvPr>
        </p:nvSpPr>
        <p:spPr>
          <a:xfrm>
            <a:off x="6037200" y="308412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216FD0-D2E0-4B37-B8D5-ADA1FB1D5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0E4C4E-C665-467B-AA42-EEFB43092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328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9692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D8B2D5-7649-447A-894E-9C057A1BC17A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subTitle"/>
          </p:nvPr>
        </p:nvSpPr>
        <p:spPr>
          <a:xfrm>
            <a:off x="503280" y="457200"/>
            <a:ext cx="818352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D40529-2690-4A49-9280-DCDFFC949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818352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8D1C04-4059-43E1-837F-BF56DB8BF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211657-93AD-4EDA-8C45-35604A31B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76A4EC-415D-42A9-AF55-A64B219B8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ubTitle"/>
          </p:nvPr>
        </p:nvSpPr>
        <p:spPr>
          <a:xfrm>
            <a:off x="304920" y="5486040"/>
            <a:ext cx="853416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825858-238F-40D7-AC76-DC2FD2AA8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50328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AFBD38-3F91-4116-927A-177FC96B7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69692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A9D814-A27E-4AD9-89B1-69CF1D4DF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3280" y="3084120"/>
            <a:ext cx="818352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B7ADDF-A559-4E8B-BC1D-A8D4E5717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818352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503280" y="3084120"/>
            <a:ext cx="818352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55F8B2-3086-410F-BEF7-A39B8E642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50328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/>
          </p:nvPr>
        </p:nvSpPr>
        <p:spPr>
          <a:xfrm>
            <a:off x="469692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759A12-577D-4113-9674-2C62E718B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0240" y="45720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37200" y="45720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3280" y="308412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0240" y="308412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37200" y="308412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500FFA-9729-4520-AE9E-A67FC90FC6DC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3270240" y="45720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6037200" y="45720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503280" y="308412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9" name="PlaceHolder 6"/>
          <p:cNvSpPr>
            <a:spLocks noGrp="1"/>
          </p:cNvSpPr>
          <p:nvPr>
            <p:ph/>
          </p:nvPr>
        </p:nvSpPr>
        <p:spPr>
          <a:xfrm>
            <a:off x="3270240" y="308412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0" name="PlaceHolder 7"/>
          <p:cNvSpPr>
            <a:spLocks noGrp="1"/>
          </p:cNvSpPr>
          <p:nvPr>
            <p:ph/>
          </p:nvPr>
        </p:nvSpPr>
        <p:spPr>
          <a:xfrm>
            <a:off x="6037200" y="308412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0A12E2-5A5A-40A8-884A-8B7B95792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B62141-C5DD-414A-8132-D777E31EB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subTitle"/>
          </p:nvPr>
        </p:nvSpPr>
        <p:spPr>
          <a:xfrm>
            <a:off x="503280" y="457200"/>
            <a:ext cx="818352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0C390E-C358-4CB6-B23E-4571B1BD4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818352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9AF3F6-B177-424E-B7E1-582867E80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87275A-2456-4966-BBE8-410647602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47A330-27D8-4FAA-9772-36578DA94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ubTitle"/>
          </p:nvPr>
        </p:nvSpPr>
        <p:spPr>
          <a:xfrm>
            <a:off x="304920" y="5486040"/>
            <a:ext cx="853416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6F4E2B-5FBD-4242-B067-12DB3F8F8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50328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8DD9A3-8ED1-47F5-B18A-588BADB92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69692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DB396B-588C-4F49-8340-9D85683DC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503280" y="3084120"/>
            <a:ext cx="818352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4746EA-1148-4AE0-815B-BC30498FA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42EA60-82AE-49DD-AB1F-F0F0D9EBB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818352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503280" y="3084120"/>
            <a:ext cx="818352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515520-BCD5-4F3D-AE7B-4BECFF12A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50328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469692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C14F5F-73B3-4239-9907-975857C92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3270240" y="45720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6037200" y="45720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503280" y="308412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4" name="PlaceHolder 6"/>
          <p:cNvSpPr>
            <a:spLocks noGrp="1"/>
          </p:cNvSpPr>
          <p:nvPr>
            <p:ph/>
          </p:nvPr>
        </p:nvSpPr>
        <p:spPr>
          <a:xfrm>
            <a:off x="3270240" y="308412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5" name="PlaceHolder 7"/>
          <p:cNvSpPr>
            <a:spLocks noGrp="1"/>
          </p:cNvSpPr>
          <p:nvPr>
            <p:ph/>
          </p:nvPr>
        </p:nvSpPr>
        <p:spPr>
          <a:xfrm>
            <a:off x="6037200" y="308412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50620B-C91A-4572-A1BB-B1623C839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6E69CE-976D-4171-BE31-B9DA04A86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subTitle"/>
          </p:nvPr>
        </p:nvSpPr>
        <p:spPr>
          <a:xfrm>
            <a:off x="503280" y="457200"/>
            <a:ext cx="818352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BDE665-2244-463F-AD21-3A626309F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818352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243012-E235-47AA-BD69-09430CCBA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FC96C8-6E3E-49A2-9C9A-E18B773F0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E7701C-8D38-4C91-8664-C981867A7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ubTitle"/>
          </p:nvPr>
        </p:nvSpPr>
        <p:spPr>
          <a:xfrm>
            <a:off x="304920" y="5486040"/>
            <a:ext cx="853416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8779D2-1BC6-4952-BA7A-C44923682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50328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9676F5-2F4D-4E4D-A3CF-8E82ABE66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503280" y="457200"/>
            <a:ext cx="818352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C54391-2B22-41B5-944C-CA6A8CD35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69692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68F8DB-2CB8-4E9E-B7A0-7BD0AC4FE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503280" y="3084120"/>
            <a:ext cx="818352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0679E2-2215-4B37-9BD0-D98E50DCF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818352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503280" y="3084120"/>
            <a:ext cx="818352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8CE93F-2BE0-4E3D-952C-63125C247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50328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/>
          </p:nvPr>
        </p:nvSpPr>
        <p:spPr>
          <a:xfrm>
            <a:off x="469692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64406D-CCB8-4543-8384-47B6D4FDA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3270240" y="45720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6037200" y="45720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503280" y="308412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9" name="PlaceHolder 6"/>
          <p:cNvSpPr>
            <a:spLocks noGrp="1"/>
          </p:cNvSpPr>
          <p:nvPr>
            <p:ph/>
          </p:nvPr>
        </p:nvSpPr>
        <p:spPr>
          <a:xfrm>
            <a:off x="3270240" y="308412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0" name="PlaceHolder 7"/>
          <p:cNvSpPr>
            <a:spLocks noGrp="1"/>
          </p:cNvSpPr>
          <p:nvPr>
            <p:ph/>
          </p:nvPr>
        </p:nvSpPr>
        <p:spPr>
          <a:xfrm>
            <a:off x="6037200" y="308412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CE3695-A494-49F1-A5AC-ECF355E7E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818352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E3C801-5DC4-4263-A493-9E8DCE14A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63A023-52CD-44FE-B515-0DD3912B2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99D9FB-29A3-4EAA-B239-27AC8CDEA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04920" y="5486040"/>
            <a:ext cx="853416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897C3C-18EE-4DED-8ED6-3FE7E7670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328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F2EE5B-9C45-4F7B-ACDC-162B4E946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03280" y="457200"/>
            <a:ext cx="818352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999248-B174-4D16-9B36-F6F583148D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9692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C0066F-27F9-4290-B27A-B6615A429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03280" y="3084120"/>
            <a:ext cx="818352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A878DF-BFD8-43F8-AE4B-A6B2548E9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818352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03280" y="3084120"/>
            <a:ext cx="818352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68BEED-7BE9-4FF6-9532-C9A7B3A48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0328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9692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57A0DC-E74F-41C0-B196-6EF9D4A1C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70240" y="45720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37200" y="45720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03280" y="308412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70240" y="308412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37200" y="308412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1BF65D-D76C-4E54-9040-CEC55FE47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5D51D0-07A5-46FD-9545-9B3028B0138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03280" y="457200"/>
            <a:ext cx="818352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8BB0F0-80B9-481B-916A-BB768B0B088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818352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1F32F9-A0A2-4961-BC9E-84F71771306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8A5859-A3B1-4105-ABDD-39B966F3ACA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064BF0-3194-466C-8F55-6918C944550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818352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22B3B6-32C6-4A38-8A24-BBB014030D4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304920" y="5486040"/>
            <a:ext cx="853416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C485C8-F970-419C-AF78-D8A38A2BB39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328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5615F7-3AE0-4F01-8FFE-35A16B87924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9692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9B123A-FC3C-4674-A112-EDDFD9A6247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03280" y="3084120"/>
            <a:ext cx="818352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D9B7D2-9630-42B2-AAC6-9EF7C8EA5BA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818352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03280" y="3084120"/>
            <a:ext cx="818352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C56915-FAC0-47DB-90D9-EE8280745E0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0328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9692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09FF9E-03EE-4555-A58C-B5F1F80C05D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70240" y="45720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37200" y="45720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503280" y="308412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70240" y="308412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37200" y="308412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17F2B2-BCEC-4A5A-AC18-90DD7E1C078C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810F6C0-F976-4A1A-96BF-EAFA205FB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457200"/>
            <a:ext cx="818352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7223114-1307-41A9-ADDB-85155D284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818352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4745DCE-78F6-47BB-BC58-E481FC4C6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553348-B40A-45D1-BC10-48056E424F40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7C621F0-63D0-4E0B-A5A7-CBF2A5233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58C8CF7-86D2-41D7-9132-B805F7FD6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304920" y="5486040"/>
            <a:ext cx="853416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6073D0B-AC12-4FBC-9879-037A6BEB0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9E1E086-3B29-4E0E-ADCF-9607169E6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FE8AAFD-BA20-46AD-9F9A-FE540BFD8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3084120"/>
            <a:ext cx="818352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9300759-A680-4994-B9AA-462874D63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818352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3084120"/>
            <a:ext cx="818352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6DF859-2B59-4666-9E95-7DC387CAD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05CB1CD-36A1-4FF2-8A75-262561F81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45720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45720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308412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308412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308412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38A4317-B1FE-4765-AE1F-719BA0E95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292BC1-D101-47B8-A533-9679B7DA4B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5783D2-51B2-44E9-9A54-DCAB4E153181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503280" y="457200"/>
            <a:ext cx="818352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1A29C4-C15C-40BD-8DD3-8D68C718B8D7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818352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64D070-DBC5-449A-9DF3-F18DD8F34ED3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DEE1EE-FAFD-4C1F-8C54-99B72F15FA42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694EBB-60BE-49FF-9500-A01617AF54DB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304920" y="5486040"/>
            <a:ext cx="853416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6B5BB6-E80F-416C-A75B-341605081358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50328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AEEF67-4C1B-4DF8-95D7-82DC4447E3E0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69692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29F509-27D8-4BDF-A5FE-5E6B6DC1D983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3280" y="3084120"/>
            <a:ext cx="818352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3AEC14-A9AA-4A2D-A4A8-ECF4E384714E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818352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503280" y="3084120"/>
            <a:ext cx="818352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97938C-41E1-464A-B80A-B571D28D6996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50328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69692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27BFD2-54E5-4AD4-A993-979124F187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920" y="5486040"/>
            <a:ext cx="853416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0B5263-9F0B-4269-9348-22C4D2036515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3270240" y="45720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037200" y="45720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503280" y="308412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3270240" y="308412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6037200" y="308412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693256-D78C-4CD4-A3B5-8973D9832F85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BB7164-5656-4262-868A-398E1722D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503280" y="457200"/>
            <a:ext cx="818352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7C936E-BF1F-4DBB-9D9B-4A00C5F3C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818352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6883A1-ED15-4738-9A52-9A0B0917E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599720-13BA-496F-9D7F-3067623B7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E438E3-DCF9-4890-9859-631D32C30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304920" y="5486040"/>
            <a:ext cx="853416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BFDBE7-4F27-45E1-8647-F16143A5E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328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AB09B4-12E5-4812-ABD4-02CFC9AE7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9692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9F3834-DA78-46F2-8227-6ACC18CBC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03280" y="3084120"/>
            <a:ext cx="818352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EA3925-34E8-4344-8135-98BB64C67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0328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915551-517F-41F2-B245-FBE8920F68BD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818352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503280" y="3084120"/>
            <a:ext cx="818352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7A734C-96B1-4731-83D6-327413583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50328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9692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8950C9-08A9-4D3D-B054-81C5B9AAA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70240" y="45720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37200" y="45720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503280" y="308412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70240" y="308412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37200" y="308412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368060-5CEC-4857-94B8-F22941D15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5E50C7-4874-45D2-ACA1-4C030B30B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503280" y="457200"/>
            <a:ext cx="818352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683D31-08E6-443F-AB2A-7828613A3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818352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C6C961-90E9-4C7D-B8CC-C804B1BB5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19851B-6C55-4115-9E46-7645F816D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122413-58F0-4105-8A20-11F989B95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304920" y="5486040"/>
            <a:ext cx="853416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79F6CE-7C91-4C32-A643-497E744A9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50328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CEF9B1-3031-467A-BB47-A85AA9CDE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9692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AEA383-49C6-4294-93F9-A79A8510AEF4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9692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BB8CD3-62E6-49C1-9377-5A757F78D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503280" y="3084120"/>
            <a:ext cx="818352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245015-8DAD-4B61-9DE8-AC77E6AB9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818352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503280" y="3084120"/>
            <a:ext cx="818352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31AC01-7DBC-468A-AE62-BF5644270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50328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9692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A33D12-27F3-420D-AB85-AA9A2D935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70240" y="45720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37200" y="45720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503280" y="308412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70240" y="308412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37200" y="308412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F59B2B-66BA-4BD7-9708-52B4E576B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7BCC40-DB56-4FAB-BD53-DF677B775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503280" y="457200"/>
            <a:ext cx="818352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220979-216D-4962-B760-2F3C41EE7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818352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51F77D-7C3D-4961-ADEA-8B6A5CFFE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DBBE87-6E0A-4AF2-8E3A-91AC66E89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F96331-BCEB-43C2-9A94-CAAD5C838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3280" y="3084120"/>
            <a:ext cx="818352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FE7091-F727-4A9E-B115-24CD92AB0A04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304920" y="5486040"/>
            <a:ext cx="853416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975C7F-2649-431B-8CD9-7E08A5E7B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50328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FA6D2E-ADA5-4B12-972A-C7ADB25C5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9692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9D8494-23F6-4C33-B8F7-F8CAA855C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3280" y="3084120"/>
            <a:ext cx="818352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A645AC-28BE-467C-8C5B-BD27EEFA8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818352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503280" y="3084120"/>
            <a:ext cx="818352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659046-789A-4A57-AEA3-23EB3F213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50328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9692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533608-53C9-4B38-9C1F-549AEEE92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70240" y="45720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37200" y="45720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503280" y="308412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70240" y="308412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37200" y="308412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4C5F75-E7BE-494B-ABD5-1EA696CEA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BAABC0-650E-4407-AE09-27ABC7289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subTitle"/>
          </p:nvPr>
        </p:nvSpPr>
        <p:spPr>
          <a:xfrm>
            <a:off x="503280" y="457200"/>
            <a:ext cx="818352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0B4244-A3C9-4B48-9AD9-D6C47D2F9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818352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9D4451-7F90-43D8-990F-AED9AA708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Rounded Rectangle 8"/>
          <p:cNvGrpSpPr/>
          <p:nvPr/>
        </p:nvGrpSpPr>
        <p:grpSpPr>
          <a:xfrm>
            <a:off x="414360" y="426960"/>
            <a:ext cx="8315280" cy="5065920"/>
            <a:chOff x="414360" y="426960"/>
            <a:chExt cx="8315280" cy="5065920"/>
          </a:xfrm>
        </p:grpSpPr>
        <p:pic>
          <p:nvPicPr>
            <p:cNvPr id="2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06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0720" y="465120"/>
              <a:ext cx="8242560" cy="498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93300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993300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9561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601"/>
              </a:spcBef>
              <a:buClr>
                <a:srgbClr val="9933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601"/>
              </a:spcBef>
              <a:buClr>
                <a:srgbClr val="9933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601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601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60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1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EF982-2AF3-4F4A-9BF1-52F6A0625A58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ounded Rectangle 7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ound Single Corner Rectangle 9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93300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993300"/>
              </a:solidFill>
              <a:latin typeface="Verdan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9561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601"/>
              </a:spcBef>
              <a:buClr>
                <a:srgbClr val="9933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601"/>
              </a:spcBef>
              <a:buClr>
                <a:srgbClr val="9933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601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601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60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dt" idx="22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ftr" idx="23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sldNum" idx="24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9C347-3CD2-428C-A36F-6D765112EB22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2" name="Rounded Rectangle 8"/>
          <p:cNvGrpSpPr/>
          <p:nvPr/>
        </p:nvGrpSpPr>
        <p:grpSpPr>
          <a:xfrm>
            <a:off x="414360" y="426960"/>
            <a:ext cx="8315280" cy="5065920"/>
            <a:chOff x="414360" y="426960"/>
            <a:chExt cx="8315280" cy="5065920"/>
          </a:xfrm>
        </p:grpSpPr>
        <p:pic>
          <p:nvPicPr>
            <p:cNvPr id="443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06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4" name=""/>
            <p:cNvSpPr/>
            <p:nvPr/>
          </p:nvSpPr>
          <p:spPr>
            <a:xfrm>
              <a:off x="450720" y="465120"/>
              <a:ext cx="8242560" cy="498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93300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993300"/>
              </a:solidFill>
              <a:latin typeface="Verdan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9561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601"/>
              </a:spcBef>
              <a:buClr>
                <a:srgbClr val="9933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601"/>
              </a:spcBef>
              <a:buClr>
                <a:srgbClr val="9933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601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601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60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 type="dt" idx="25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 type="ftr" idx="26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 type="sldNum" idx="27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60C80-A821-4FFE-83AF-F5AC161DBA75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7" name="Rounded Rectangle 8"/>
          <p:cNvGrpSpPr/>
          <p:nvPr/>
        </p:nvGrpSpPr>
        <p:grpSpPr>
          <a:xfrm>
            <a:off x="414360" y="426960"/>
            <a:ext cx="8315280" cy="5065920"/>
            <a:chOff x="414360" y="426960"/>
            <a:chExt cx="8315280" cy="5065920"/>
          </a:xfrm>
        </p:grpSpPr>
        <p:pic>
          <p:nvPicPr>
            <p:cNvPr id="488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06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9" name=""/>
            <p:cNvSpPr/>
            <p:nvPr/>
          </p:nvSpPr>
          <p:spPr>
            <a:xfrm>
              <a:off x="450720" y="465120"/>
              <a:ext cx="8242560" cy="498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93300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993300"/>
              </a:solidFill>
              <a:latin typeface="Verdana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9561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601"/>
              </a:spcBef>
              <a:buClr>
                <a:srgbClr val="9933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601"/>
              </a:spcBef>
              <a:buClr>
                <a:srgbClr val="9933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601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601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60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 type="dt" idx="28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 type="ftr" idx="29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 type="sldNum" idx="30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8F2FF-A21A-4651-81C2-A55090742A39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ounded Rectangle 7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Rounded Rectangle 9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5" name="Rounded Rectangle 9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9561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601"/>
              </a:spcBef>
              <a:buClr>
                <a:srgbClr val="9933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ff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6666ff"/>
              </a:solidFill>
              <a:latin typeface="Verdana"/>
            </a:endParaRPr>
          </a:p>
          <a:p>
            <a:pPr lvl="1" marL="547560" indent="-199800">
              <a:spcBef>
                <a:spcPts val="601"/>
              </a:spcBef>
              <a:buClr>
                <a:srgbClr val="9933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6666ff"/>
              </a:solidFill>
              <a:latin typeface="Verdana"/>
            </a:endParaRPr>
          </a:p>
          <a:p>
            <a:pPr lvl="2" marL="785880" indent="-182520">
              <a:spcBef>
                <a:spcPts val="601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ff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6666ff"/>
              </a:solidFill>
              <a:latin typeface="Verdana"/>
            </a:endParaRPr>
          </a:p>
          <a:p>
            <a:pPr lvl="3" marL="1023840" indent="-182520">
              <a:spcBef>
                <a:spcPts val="601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ff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6666ff"/>
              </a:solidFill>
              <a:latin typeface="Verdana"/>
            </a:endParaRPr>
          </a:p>
          <a:p>
            <a:pPr lvl="4" marL="1279440" indent="-182520">
              <a:spcBef>
                <a:spcPts val="60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ff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6666ff"/>
              </a:solidFill>
              <a:latin typeface="Verdana"/>
            </a:endParaRPr>
          </a:p>
          <a:p>
            <a:pPr lvl="5" marL="127944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ff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6666ff"/>
              </a:solidFill>
              <a:latin typeface="Verdana"/>
            </a:endParaRPr>
          </a:p>
          <a:p>
            <a:pPr lvl="6" marL="127944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ff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2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3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4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82615-CB7B-4C2F-BECF-5EC4E58FDDA9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Rounded Rectangle 8"/>
          <p:cNvGrpSpPr/>
          <p:nvPr/>
        </p:nvGrpSpPr>
        <p:grpSpPr>
          <a:xfrm>
            <a:off x="414360" y="426960"/>
            <a:ext cx="8315280" cy="5065920"/>
            <a:chOff x="414360" y="426960"/>
            <a:chExt cx="8315280" cy="5065920"/>
          </a:xfrm>
        </p:grpSpPr>
        <p:pic>
          <p:nvPicPr>
            <p:cNvPr id="90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06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450720" y="465120"/>
              <a:ext cx="8242560" cy="498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Straight Connector 7"/>
          <p:cNvSpPr/>
          <p:nvPr/>
        </p:nvSpPr>
        <p:spPr>
          <a:xfrm>
            <a:off x="533520" y="1447920"/>
            <a:ext cx="8076960" cy="1440"/>
          </a:xfrm>
          <a:prstGeom prst="line">
            <a:avLst/>
          </a:prstGeom>
          <a:ln w="5724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503280" y="457200"/>
            <a:ext cx="818352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601"/>
              </a:spcBef>
              <a:buClr>
                <a:srgbClr val="66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601"/>
              </a:spcBef>
              <a:buClr>
                <a:srgbClr val="6666f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601"/>
              </a:spcBef>
              <a:buClr>
                <a:srgbClr val="6666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601"/>
              </a:spcBef>
              <a:buClr>
                <a:srgbClr val="6666ff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601"/>
              </a:spcBef>
              <a:buClr>
                <a:srgbClr val="6666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Num" idx="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B58B1-D2F5-4A77-9104-FECDA06B1DCA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ounded Rectangle 7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Rounded Rectangle 9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134" name="Rounded Rectangle 9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93300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993300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9561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601"/>
              </a:spcBef>
              <a:buClr>
                <a:srgbClr val="9933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601"/>
              </a:spcBef>
              <a:buClr>
                <a:srgbClr val="9933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601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601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60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6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7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8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C3AD7-B12D-4E26-9307-86991E206A4C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Rounded Rectangle 8"/>
          <p:cNvGrpSpPr/>
          <p:nvPr/>
        </p:nvGrpSpPr>
        <p:grpSpPr>
          <a:xfrm>
            <a:off x="414360" y="426960"/>
            <a:ext cx="8315280" cy="5065920"/>
            <a:chOff x="414360" y="426960"/>
            <a:chExt cx="8315280" cy="5065920"/>
          </a:xfrm>
        </p:grpSpPr>
        <p:pic>
          <p:nvPicPr>
            <p:cNvPr id="179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06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"/>
            <p:cNvSpPr/>
            <p:nvPr/>
          </p:nvSpPr>
          <p:spPr>
            <a:xfrm>
              <a:off x="450720" y="465120"/>
              <a:ext cx="8242560" cy="498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1" name="Straight Connector 7"/>
          <p:cNvSpPr/>
          <p:nvPr/>
        </p:nvSpPr>
        <p:spPr>
          <a:xfrm>
            <a:off x="533520" y="1447920"/>
            <a:ext cx="8076960" cy="1440"/>
          </a:xfrm>
          <a:prstGeom prst="line">
            <a:avLst/>
          </a:prstGeom>
          <a:ln w="5724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503280" y="457200"/>
            <a:ext cx="818352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601"/>
              </a:spcBef>
              <a:buClr>
                <a:srgbClr val="66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601"/>
              </a:spcBef>
              <a:buClr>
                <a:srgbClr val="6666f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601"/>
              </a:spcBef>
              <a:buClr>
                <a:srgbClr val="6666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601"/>
              </a:spcBef>
              <a:buClr>
                <a:srgbClr val="6666ff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601"/>
              </a:spcBef>
              <a:buClr>
                <a:srgbClr val="6666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123E2-A9F9-47D9-954C-C0C56A2D116F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Rounded Rectangle 8"/>
          <p:cNvGrpSpPr/>
          <p:nvPr/>
        </p:nvGrpSpPr>
        <p:grpSpPr>
          <a:xfrm>
            <a:off x="414360" y="426960"/>
            <a:ext cx="8315280" cy="5065920"/>
            <a:chOff x="414360" y="426960"/>
            <a:chExt cx="8315280" cy="5065920"/>
          </a:xfrm>
        </p:grpSpPr>
        <p:pic>
          <p:nvPicPr>
            <p:cNvPr id="223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06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4" name=""/>
            <p:cNvSpPr/>
            <p:nvPr/>
          </p:nvSpPr>
          <p:spPr>
            <a:xfrm>
              <a:off x="450720" y="465120"/>
              <a:ext cx="8242560" cy="498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93300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993300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9561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601"/>
              </a:spcBef>
              <a:buClr>
                <a:srgbClr val="9933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601"/>
              </a:spcBef>
              <a:buClr>
                <a:srgbClr val="9933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601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601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60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932FD-C5F4-4676-96B8-26394E3024BB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7" name="Rounded Rectangle 8"/>
          <p:cNvGrpSpPr/>
          <p:nvPr/>
        </p:nvGrpSpPr>
        <p:grpSpPr>
          <a:xfrm>
            <a:off x="414360" y="426960"/>
            <a:ext cx="8315280" cy="5065920"/>
            <a:chOff x="414360" y="426960"/>
            <a:chExt cx="8315280" cy="5065920"/>
          </a:xfrm>
        </p:grpSpPr>
        <p:pic>
          <p:nvPicPr>
            <p:cNvPr id="268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06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"/>
            <p:cNvSpPr/>
            <p:nvPr/>
          </p:nvSpPr>
          <p:spPr>
            <a:xfrm>
              <a:off x="450720" y="465120"/>
              <a:ext cx="8242560" cy="498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9561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601"/>
              </a:spcBef>
              <a:buClr>
                <a:srgbClr val="9933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601"/>
              </a:spcBef>
              <a:buClr>
                <a:srgbClr val="9933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601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601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60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08344-DCFE-4031-B1FE-F38137C2BA7A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ounded Rectangle 7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93300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993300"/>
              </a:solidFill>
              <a:latin typeface="Verdan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9561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601"/>
              </a:spcBef>
              <a:buClr>
                <a:srgbClr val="9933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601"/>
              </a:spcBef>
              <a:buClr>
                <a:srgbClr val="9933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601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601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60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16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ftr" idx="17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sldNum" idx="18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B7D42-C672-47E2-B3C8-CF2ECE7C100D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4" name="Rounded Rectangle 8"/>
          <p:cNvGrpSpPr/>
          <p:nvPr/>
        </p:nvGrpSpPr>
        <p:grpSpPr>
          <a:xfrm>
            <a:off x="414360" y="426960"/>
            <a:ext cx="8315280" cy="5065920"/>
            <a:chOff x="414360" y="426960"/>
            <a:chExt cx="8315280" cy="5065920"/>
          </a:xfrm>
        </p:grpSpPr>
        <p:pic>
          <p:nvPicPr>
            <p:cNvPr id="355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06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6" name=""/>
            <p:cNvSpPr/>
            <p:nvPr/>
          </p:nvSpPr>
          <p:spPr>
            <a:xfrm>
              <a:off x="450720" y="465120"/>
              <a:ext cx="8242560" cy="498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93300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993300"/>
              </a:solidFill>
              <a:latin typeface="Verdan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9561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601"/>
              </a:spcBef>
              <a:buClr>
                <a:srgbClr val="9933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601"/>
              </a:spcBef>
              <a:buClr>
                <a:srgbClr val="9933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601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601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60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 type="dt" idx="19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 type="ftr" idx="20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 type="sldNum" idx="21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0BF88-5A73-42AB-AEF1-C24C3D822FDD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49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49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49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722160" y="18208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6666ff"/>
                </a:solidFill>
                <a:latin typeface="Verdana"/>
              </a:rPr>
              <a:t>Integrating Microsoft Project with Other Programs</a:t>
            </a:r>
            <a:endParaRPr b="1" lang="en-US" sz="45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subTitle"/>
          </p:nvPr>
        </p:nvSpPr>
        <p:spPr>
          <a:xfrm>
            <a:off x="722160" y="3684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9766f"/>
                </a:solidFill>
                <a:latin typeface="Verdana"/>
              </a:rPr>
              <a:t>Lesson 10</a:t>
            </a:r>
            <a:endParaRPr b="0" lang="en-US" sz="2000" spc="-1" strike="noStrike">
              <a:solidFill>
                <a:srgbClr val="6666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6666ff"/>
                </a:solidFill>
                <a:latin typeface="Verdana"/>
              </a:rPr>
              <a:t>Use a GIF Image to Display Information</a:t>
            </a:r>
            <a:endParaRPr b="1" lang="en-US" sz="29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584" name="Rounded Rectangle 7"/>
          <p:cNvSpPr/>
          <p:nvPr/>
        </p:nvSpPr>
        <p:spPr>
          <a:xfrm>
            <a:off x="2651040" y="2557440"/>
            <a:ext cx="3673440" cy="6858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Open Hyperli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ounded Rectangle 6"/>
          <p:cNvSpPr/>
          <p:nvPr/>
        </p:nvSpPr>
        <p:spPr>
          <a:xfrm>
            <a:off x="2057400" y="1752480"/>
            <a:ext cx="4724280" cy="6858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Go on the Web tool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Rounded Rectangle 8"/>
          <p:cNvSpPr/>
          <p:nvPr/>
        </p:nvSpPr>
        <p:spPr>
          <a:xfrm>
            <a:off x="3200400" y="3352680"/>
            <a:ext cx="2514600" cy="6858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Brow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Down Arrow 10"/>
          <p:cNvSpPr/>
          <p:nvPr/>
        </p:nvSpPr>
        <p:spPr>
          <a:xfrm>
            <a:off x="2666880" y="2311560"/>
            <a:ext cx="457200" cy="3808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Down Arrow 14"/>
          <p:cNvSpPr/>
          <p:nvPr/>
        </p:nvSpPr>
        <p:spPr>
          <a:xfrm>
            <a:off x="3200400" y="3111480"/>
            <a:ext cx="457200" cy="3808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 Placeholder 3"/>
          <p:cNvSpPr/>
          <p:nvPr/>
        </p:nvSpPr>
        <p:spPr>
          <a:xfrm>
            <a:off x="533520" y="609480"/>
            <a:ext cx="80769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91440" bIns="46800" anchor="b">
            <a:normAutofit fontScale="76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Use a GIF Image to Display Project Information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6666ff"/>
                </a:solidFill>
                <a:latin typeface="Verdana"/>
              </a:rPr>
              <a:t>Use a GIF Image to Display Information</a:t>
            </a:r>
            <a:endParaRPr b="1" lang="en-US" sz="29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591" name="Rounded Rectangle 7"/>
          <p:cNvSpPr/>
          <p:nvPr/>
        </p:nvSpPr>
        <p:spPr>
          <a:xfrm>
            <a:off x="1355760" y="2405160"/>
            <a:ext cx="5502240" cy="125244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Locate and select the Don Funk Music Video 10 GIF image that you saved earl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Rounded Rectangle 6"/>
          <p:cNvSpPr/>
          <p:nvPr/>
        </p:nvSpPr>
        <p:spPr>
          <a:xfrm>
            <a:off x="762120" y="1523880"/>
            <a:ext cx="4876560" cy="76212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lect GIF Files from the Files of Type 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Rounded Rectangle 8"/>
          <p:cNvSpPr/>
          <p:nvPr/>
        </p:nvSpPr>
        <p:spPr>
          <a:xfrm>
            <a:off x="1905120" y="3809880"/>
            <a:ext cx="2514600" cy="6858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Op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Down Arrow 10"/>
          <p:cNvSpPr/>
          <p:nvPr/>
        </p:nvSpPr>
        <p:spPr>
          <a:xfrm>
            <a:off x="1828800" y="2222640"/>
            <a:ext cx="457200" cy="2919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Down Arrow 14"/>
          <p:cNvSpPr/>
          <p:nvPr/>
        </p:nvSpPr>
        <p:spPr>
          <a:xfrm>
            <a:off x="1905120" y="3568680"/>
            <a:ext cx="457200" cy="3808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Rounded Rectangle 8"/>
          <p:cNvSpPr/>
          <p:nvPr/>
        </p:nvSpPr>
        <p:spPr>
          <a:xfrm>
            <a:off x="2133720" y="4648320"/>
            <a:ext cx="4647960" cy="76176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OK in the Open Internet Address dialog 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Down Arrow 14"/>
          <p:cNvSpPr/>
          <p:nvPr/>
        </p:nvSpPr>
        <p:spPr>
          <a:xfrm>
            <a:off x="2438280" y="4432320"/>
            <a:ext cx="457200" cy="2919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Text Placeholder 3"/>
          <p:cNvSpPr/>
          <p:nvPr/>
        </p:nvSpPr>
        <p:spPr>
          <a:xfrm>
            <a:off x="533520" y="609480"/>
            <a:ext cx="80769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91440" bIns="46800" anchor="b">
            <a:normAutofit fontScale="76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Use a GIF Image to Display Project Information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6666ff"/>
                </a:solidFill>
                <a:latin typeface="Verdana"/>
              </a:rPr>
              <a:t>Use a GIF Image to Display Information</a:t>
            </a:r>
            <a:endParaRPr b="1" lang="en-US" sz="2900" spc="-1" strike="noStrike">
              <a:solidFill>
                <a:srgbClr val="6666ff"/>
              </a:solidFill>
              <a:latin typeface="Verdana"/>
            </a:endParaRPr>
          </a:p>
        </p:txBody>
      </p:sp>
      <p:pic>
        <p:nvPicPr>
          <p:cNvPr id="600" name="Text Placeholder 3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5119560" cy="3763800"/>
          </a:xfrm>
          <a:prstGeom prst="rect">
            <a:avLst/>
          </a:prstGeom>
          <a:ln w="0">
            <a:noFill/>
          </a:ln>
        </p:spPr>
      </p:pic>
      <p:sp>
        <p:nvSpPr>
          <p:cNvPr id="601" name="TextBox 5"/>
          <p:cNvSpPr/>
          <p:nvPr/>
        </p:nvSpPr>
        <p:spPr>
          <a:xfrm>
            <a:off x="762120" y="1981080"/>
            <a:ext cx="1752480" cy="158580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The Gantt Chart view is saved as a GIF file, which you can view in a browser or graphics editing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Text Placeholder 3"/>
          <p:cNvSpPr/>
          <p:nvPr/>
        </p:nvSpPr>
        <p:spPr>
          <a:xfrm>
            <a:off x="533520" y="609480"/>
            <a:ext cx="80769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91440" bIns="46800" anchor="b">
            <a:normAutofit fontScale="76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Use a GIF Image to Display Project Information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6666ff"/>
                </a:solidFill>
                <a:latin typeface="Verdana"/>
              </a:rPr>
              <a:t>Use a GIF Image to Display Information</a:t>
            </a:r>
            <a:endParaRPr b="1" lang="en-US" sz="29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604" name="Rounded Rectangle 7"/>
          <p:cNvSpPr/>
          <p:nvPr/>
        </p:nvSpPr>
        <p:spPr>
          <a:xfrm>
            <a:off x="2057400" y="2760840"/>
            <a:ext cx="4800600" cy="165888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f the view does not return to Microsoft Project, select Don Funk Music Video 10 from your Task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Rounded Rectangle 6"/>
          <p:cNvSpPr/>
          <p:nvPr/>
        </p:nvSpPr>
        <p:spPr>
          <a:xfrm>
            <a:off x="2057400" y="1600200"/>
            <a:ext cx="4724280" cy="99072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ose the program you used to display the GIF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Down Arrow 10"/>
          <p:cNvSpPr/>
          <p:nvPr/>
        </p:nvSpPr>
        <p:spPr>
          <a:xfrm>
            <a:off x="4038480" y="2514600"/>
            <a:ext cx="457200" cy="3808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Text Placeholder 3"/>
          <p:cNvSpPr/>
          <p:nvPr/>
        </p:nvSpPr>
        <p:spPr>
          <a:xfrm>
            <a:off x="533520" y="609480"/>
            <a:ext cx="80769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91440" bIns="46800" anchor="b">
            <a:normAutofit fontScale="76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Use a GIF Image to Display Project Information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6666ff"/>
                </a:solidFill>
                <a:latin typeface="Verdana"/>
              </a:rPr>
              <a:t>Use a GIF Image to Display Information</a:t>
            </a:r>
            <a:endParaRPr b="1" lang="en-US" sz="29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609" name="Content Placeholder 10"/>
          <p:cNvSpPr/>
          <p:nvPr/>
        </p:nvSpPr>
        <p:spPr>
          <a:xfrm>
            <a:off x="514440" y="1542960"/>
            <a:ext cx="8096040" cy="378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rmAutofit/>
          </a:bodyPr>
          <a:p>
            <a:pPr marL="264960" indent="-264960">
              <a:lnSpc>
                <a:spcPct val="100000"/>
              </a:lnSpc>
              <a:spcBef>
                <a:spcPts val="451"/>
              </a:spcBef>
              <a:spcAft>
                <a:spcPts val="1199"/>
              </a:spcAft>
              <a:buClr>
                <a:srgbClr val="66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ject supports the standard copy and paste functionality of most Microsoft Windows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451"/>
              </a:spcBef>
              <a:spcAft>
                <a:spcPts val="1199"/>
              </a:spcAft>
              <a:buClr>
                <a:srgbClr val="66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ject also has an additional feature called Copy Pi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14"/>
              </a:spcBef>
              <a:spcAft>
                <a:spcPts val="1199"/>
              </a:spcAft>
              <a:buClr>
                <a:srgbClr val="66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py Picture enables you to take a snapshot of a view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Text Placeholder 3"/>
          <p:cNvSpPr/>
          <p:nvPr/>
        </p:nvSpPr>
        <p:spPr>
          <a:xfrm>
            <a:off x="533520" y="609480"/>
            <a:ext cx="80769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91440" bIns="46800" anchor="b">
            <a:normAutofit fontScale="76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Use a GIF Image to Display Project Information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6666ff"/>
                </a:solidFill>
                <a:latin typeface="Verdana"/>
              </a:rPr>
              <a:t>Use a GIF Image to Display Information</a:t>
            </a:r>
            <a:endParaRPr b="1" lang="en-US" sz="29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612" name="Content Placeholder 10"/>
          <p:cNvSpPr/>
          <p:nvPr/>
        </p:nvSpPr>
        <p:spPr>
          <a:xfrm>
            <a:off x="514440" y="1542960"/>
            <a:ext cx="8096040" cy="378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rmAutofit/>
          </a:bodyPr>
          <a:p>
            <a:pPr marL="264960" indent="-264960">
              <a:lnSpc>
                <a:spcPct val="100000"/>
              </a:lnSpc>
              <a:spcBef>
                <a:spcPts val="451"/>
              </a:spcBef>
              <a:spcAft>
                <a:spcPts val="1199"/>
              </a:spcAft>
              <a:buClr>
                <a:srgbClr val="66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You have several options with Copy Pi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14"/>
              </a:spcBef>
              <a:spcAft>
                <a:spcPts val="1199"/>
              </a:spcAft>
              <a:buClr>
                <a:srgbClr val="66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You can copy the entire view that is visible on the scre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14"/>
              </a:spcBef>
              <a:spcAft>
                <a:spcPts val="1199"/>
              </a:spcAft>
              <a:buClr>
                <a:srgbClr val="66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You can copy just selected rows of tab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14"/>
              </a:spcBef>
              <a:spcAft>
                <a:spcPts val="1199"/>
              </a:spcAft>
              <a:buClr>
                <a:srgbClr val="66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You can copy a range of time that you specify or show on the scre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Text Placeholder 3"/>
          <p:cNvSpPr/>
          <p:nvPr/>
        </p:nvSpPr>
        <p:spPr>
          <a:xfrm>
            <a:off x="533520" y="609480"/>
            <a:ext cx="80769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91440" bIns="46800" anchor="b">
            <a:normAutofit fontScale="76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Use a GIF Image to Display Project Information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6666ff"/>
                </a:solidFill>
                <a:latin typeface="Verdana"/>
              </a:rPr>
              <a:t>Use a GIF Image to Display Information</a:t>
            </a:r>
            <a:endParaRPr b="1" lang="en-US" sz="29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615" name="Content Placeholder 10"/>
          <p:cNvSpPr/>
          <p:nvPr/>
        </p:nvSpPr>
        <p:spPr>
          <a:xfrm>
            <a:off x="514440" y="1542960"/>
            <a:ext cx="8096040" cy="378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rmAutofit/>
          </a:bodyPr>
          <a:p>
            <a:pPr marL="264960" indent="-264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66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ith any of these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66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You can copy onto the windows clipboar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66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You can save the image to a GIF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Text Placeholder 3"/>
          <p:cNvSpPr/>
          <p:nvPr/>
        </p:nvSpPr>
        <p:spPr>
          <a:xfrm>
            <a:off x="533520" y="609480"/>
            <a:ext cx="80769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91440" bIns="46800" anchor="b">
            <a:normAutofit fontScale="76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Use a GIF Image to Display Project Information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Copying and Pasting with Project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618" name="Rounded Rectangle 7"/>
          <p:cNvSpPr/>
          <p:nvPr/>
        </p:nvSpPr>
        <p:spPr>
          <a:xfrm>
            <a:off x="1432080" y="1523880"/>
            <a:ext cx="5273640" cy="12528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ake sure your screen shows project summary tasks zoomed to show the entire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Rounded Rectangle 8"/>
          <p:cNvSpPr/>
          <p:nvPr/>
        </p:nvSpPr>
        <p:spPr>
          <a:xfrm>
            <a:off x="1981080" y="2928960"/>
            <a:ext cx="3200400" cy="6858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Copy Pi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Down Arrow 14"/>
          <p:cNvSpPr/>
          <p:nvPr/>
        </p:nvSpPr>
        <p:spPr>
          <a:xfrm>
            <a:off x="1981080" y="2687760"/>
            <a:ext cx="457200" cy="3808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Rounded Rectangle 8"/>
          <p:cNvSpPr/>
          <p:nvPr/>
        </p:nvSpPr>
        <p:spPr>
          <a:xfrm>
            <a:off x="2209680" y="3767040"/>
            <a:ext cx="4114800" cy="88128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Under the Render image label, select For scre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Down Arrow 14"/>
          <p:cNvSpPr/>
          <p:nvPr/>
        </p:nvSpPr>
        <p:spPr>
          <a:xfrm>
            <a:off x="2514600" y="3551400"/>
            <a:ext cx="457200" cy="2919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Rounded Rectangle 8"/>
          <p:cNvSpPr/>
          <p:nvPr/>
        </p:nvSpPr>
        <p:spPr>
          <a:xfrm>
            <a:off x="3124080" y="4813200"/>
            <a:ext cx="1676520" cy="52092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Down Arrow 14"/>
          <p:cNvSpPr/>
          <p:nvPr/>
        </p:nvSpPr>
        <p:spPr>
          <a:xfrm>
            <a:off x="3124080" y="4572000"/>
            <a:ext cx="457200" cy="2919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Text Placeholder 3"/>
          <p:cNvSpPr/>
          <p:nvPr/>
        </p:nvSpPr>
        <p:spPr>
          <a:xfrm>
            <a:off x="533520" y="609480"/>
            <a:ext cx="80769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91440" bIns="46800" anchor="b">
            <a:normAutofit fontScale="71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py an Image from Project and Paste It into Another Docu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Copying and Pasting with Project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627" name="Rounded Rectangle 7"/>
          <p:cNvSpPr/>
          <p:nvPr/>
        </p:nvSpPr>
        <p:spPr>
          <a:xfrm>
            <a:off x="1432080" y="1655640"/>
            <a:ext cx="5806800" cy="64296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tart Microsoft Word or WordP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Rounded Rectangle 8"/>
          <p:cNvSpPr/>
          <p:nvPr/>
        </p:nvSpPr>
        <p:spPr>
          <a:xfrm>
            <a:off x="1828800" y="2438280"/>
            <a:ext cx="5867280" cy="99072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Open the Letter to Agent document from your Lesson 10 fol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Down Arrow 14"/>
          <p:cNvSpPr/>
          <p:nvPr/>
        </p:nvSpPr>
        <p:spPr>
          <a:xfrm>
            <a:off x="1981080" y="2209680"/>
            <a:ext cx="457200" cy="3812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Rounded Rectangle 8"/>
          <p:cNvSpPr/>
          <p:nvPr/>
        </p:nvSpPr>
        <p:spPr>
          <a:xfrm>
            <a:off x="2209680" y="3538440"/>
            <a:ext cx="4953240" cy="88128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Highlight the phrase “(Insert summary Gantt Chart here)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Down Arrow 14"/>
          <p:cNvSpPr/>
          <p:nvPr/>
        </p:nvSpPr>
        <p:spPr>
          <a:xfrm>
            <a:off x="2514600" y="3352680"/>
            <a:ext cx="457200" cy="2923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Rounded Rectangle 8"/>
          <p:cNvSpPr/>
          <p:nvPr/>
        </p:nvSpPr>
        <p:spPr>
          <a:xfrm>
            <a:off x="2819520" y="4572000"/>
            <a:ext cx="3047760" cy="76212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Paste in Word or WordP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Down Arrow 14"/>
          <p:cNvSpPr/>
          <p:nvPr/>
        </p:nvSpPr>
        <p:spPr>
          <a:xfrm>
            <a:off x="3124080" y="4343400"/>
            <a:ext cx="457200" cy="2919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Text Placeholder 3"/>
          <p:cNvSpPr/>
          <p:nvPr/>
        </p:nvSpPr>
        <p:spPr>
          <a:xfrm>
            <a:off x="533520" y="609480"/>
            <a:ext cx="80769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91440" bIns="46800" anchor="b">
            <a:normAutofit fontScale="75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py an Image and Paste It into Another Document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Copying and Pasting with Project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pic>
        <p:nvPicPr>
          <p:cNvPr id="636" name="Text Placeholder 3" descr=""/>
          <p:cNvPicPr/>
          <p:nvPr/>
        </p:nvPicPr>
        <p:blipFill>
          <a:blip r:embed="rId1"/>
          <a:stretch/>
        </p:blipFill>
        <p:spPr>
          <a:xfrm>
            <a:off x="3505320" y="1600200"/>
            <a:ext cx="4871880" cy="3654360"/>
          </a:xfrm>
          <a:prstGeom prst="rect">
            <a:avLst/>
          </a:prstGeom>
          <a:ln w="0">
            <a:noFill/>
          </a:ln>
        </p:spPr>
      </p:pic>
      <p:sp>
        <p:nvSpPr>
          <p:cNvPr id="637" name="TextBox 5"/>
          <p:cNvSpPr/>
          <p:nvPr/>
        </p:nvSpPr>
        <p:spPr>
          <a:xfrm>
            <a:off x="914400" y="2209680"/>
            <a:ext cx="1752480" cy="115956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Letter to Agent document containing snapshot of Gantt Chart 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Line Callout 1 (Accent Bar) 6"/>
          <p:cNvSpPr/>
          <p:nvPr/>
        </p:nvSpPr>
        <p:spPr>
          <a:xfrm>
            <a:off x="1219320" y="4191120"/>
            <a:ext cx="13716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49975" y="-7125"/>
                </a:moveTo>
                <a:lnTo>
                  <a:pt x="22800" y="2700"/>
                </a:lnTo>
              </a:path>
              <a:path w="21600" h="21600">
                <a:moveTo>
                  <a:pt x="22800" y="0"/>
                </a:moveTo>
                <a:lnTo>
                  <a:pt x="22800" y="21600"/>
                </a:lnTo>
              </a:path>
            </a:pathLst>
          </a:custGeom>
          <a:solidFill>
            <a:srgbClr val="595959"/>
          </a:solidFill>
          <a:ln w="190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Snapshot of Gantt Chart was inserted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Text Placeholder 3"/>
          <p:cNvSpPr/>
          <p:nvPr/>
        </p:nvSpPr>
        <p:spPr>
          <a:xfrm>
            <a:off x="533520" y="609480"/>
            <a:ext cx="80769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91440" bIns="46800" anchor="b">
            <a:normAutofit fontScale="75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py an Image and Paste It into Another Document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Skills Matrix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graphicFrame>
        <p:nvGraphicFramePr>
          <p:cNvPr id="534" name=""/>
          <p:cNvGraphicFramePr/>
          <p:nvPr/>
        </p:nvGraphicFramePr>
        <p:xfrm>
          <a:off x="457200" y="1600200"/>
          <a:ext cx="8229600" cy="1905120"/>
        </p:xfrm>
        <a:graphic>
          <a:graphicData uri="http://schemas.openxmlformats.org/drawingml/2006/table">
            <a:tbl>
              <a:tblPr/>
              <a:tblGrid>
                <a:gridCol w="3429000"/>
                <a:gridCol w="4800600"/>
              </a:tblGrid>
              <a:tr h="42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kil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atrix Ski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666ff"/>
                    </a:solidFill>
                  </a:tcPr>
                </a:tc>
              </a:tr>
              <a:tr h="73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se a GIF image to display project inform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se a GIF image to display project inform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</a:tr>
              <a:tr h="74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py and paste with Microsoft Proje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py an image from Project and paste it into another docu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35" name=""/>
          <p:cNvGraphicFramePr/>
          <p:nvPr/>
        </p:nvGraphicFramePr>
        <p:xfrm>
          <a:off x="457200" y="3505320"/>
          <a:ext cx="8229600" cy="761760"/>
        </p:xfrm>
        <a:graphic>
          <a:graphicData uri="http://schemas.openxmlformats.org/drawingml/2006/table">
            <a:tbl>
              <a:tblPr/>
              <a:tblGrid>
                <a:gridCol w="3429000"/>
                <a:gridCol w="4800600"/>
              </a:tblGrid>
              <a:tr h="76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se other file formats in Microsoft Proje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se a different file format in Microsoft Proje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Copying and Pasting with Project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641" name="Content Placeholder 5"/>
          <p:cNvSpPr/>
          <p:nvPr/>
        </p:nvSpPr>
        <p:spPr>
          <a:xfrm>
            <a:off x="503280" y="1542960"/>
            <a:ext cx="8183520" cy="39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rmAutofit/>
          </a:bodyPr>
          <a:p>
            <a:pPr marL="264960" indent="-264960">
              <a:lnSpc>
                <a:spcPct val="100000"/>
              </a:lnSpc>
              <a:spcBef>
                <a:spcPts val="451"/>
              </a:spcBef>
              <a:spcAft>
                <a:spcPts val="1199"/>
              </a:spcAft>
              <a:buClr>
                <a:srgbClr val="66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You can copy and paste data to and from Project using the various commands in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199800">
              <a:lnSpc>
                <a:spcPct val="100000"/>
              </a:lnSpc>
              <a:spcBef>
                <a:spcPts val="414"/>
              </a:spcBef>
              <a:spcAft>
                <a:spcPts val="1199"/>
              </a:spcAft>
              <a:buClr>
                <a:srgbClr val="66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p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199800">
              <a:lnSpc>
                <a:spcPct val="100000"/>
              </a:lnSpc>
              <a:spcBef>
                <a:spcPts val="414"/>
              </a:spcBef>
              <a:spcAft>
                <a:spcPts val="1199"/>
              </a:spcAft>
              <a:buClr>
                <a:srgbClr val="66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py Pi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199800">
              <a:lnSpc>
                <a:spcPct val="100000"/>
              </a:lnSpc>
              <a:spcBef>
                <a:spcPts val="414"/>
              </a:spcBef>
              <a:spcAft>
                <a:spcPts val="1199"/>
              </a:spcAft>
              <a:buClr>
                <a:srgbClr val="66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py Ce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199800">
              <a:lnSpc>
                <a:spcPct val="100000"/>
              </a:lnSpc>
              <a:spcBef>
                <a:spcPts val="414"/>
              </a:spcBef>
              <a:spcAft>
                <a:spcPts val="1199"/>
              </a:spcAft>
              <a:buClr>
                <a:srgbClr val="66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as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199800">
              <a:lnSpc>
                <a:spcPct val="100000"/>
              </a:lnSpc>
              <a:spcBef>
                <a:spcPts val="414"/>
              </a:spcBef>
              <a:spcAft>
                <a:spcPts val="1199"/>
              </a:spcAft>
              <a:buClr>
                <a:srgbClr val="66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aste Speci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Text Placeholder 3"/>
          <p:cNvSpPr/>
          <p:nvPr/>
        </p:nvSpPr>
        <p:spPr>
          <a:xfrm>
            <a:off x="533520" y="609480"/>
            <a:ext cx="80769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91440" bIns="46800" anchor="b">
            <a:normAutofit fontScale="75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py an Image and Paste It into Another Document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Copying and Pasting with Project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644" name="Content Placeholder 5"/>
          <p:cNvSpPr/>
          <p:nvPr/>
        </p:nvSpPr>
        <p:spPr>
          <a:xfrm>
            <a:off x="503280" y="1542960"/>
            <a:ext cx="8183520" cy="39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rmAutofit/>
          </a:bodyPr>
          <a:p>
            <a:pPr marL="264960" indent="-264960">
              <a:lnSpc>
                <a:spcPct val="100000"/>
              </a:lnSpc>
              <a:spcBef>
                <a:spcPts val="451"/>
              </a:spcBef>
              <a:spcAft>
                <a:spcPts val="1199"/>
              </a:spcAft>
              <a:buClr>
                <a:srgbClr val="66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en you copy data from Project, you have two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199800">
              <a:lnSpc>
                <a:spcPct val="100000"/>
              </a:lnSpc>
              <a:spcBef>
                <a:spcPts val="414"/>
              </a:spcBef>
              <a:spcAft>
                <a:spcPts val="1199"/>
              </a:spcAft>
              <a:buClr>
                <a:srgbClr val="66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py text from a table and paste it as text into the destination program. You can edit data in the destination progra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199800">
              <a:lnSpc>
                <a:spcPct val="100000"/>
              </a:lnSpc>
              <a:spcBef>
                <a:spcPts val="414"/>
              </a:spcBef>
              <a:spcAft>
                <a:spcPts val="1199"/>
              </a:spcAft>
              <a:buClr>
                <a:srgbClr val="66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py a graphic image of a view from Project and paste it as a graphic image in the destination program. The image can only be edited with a graphics editing progra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Text Placeholder 3"/>
          <p:cNvSpPr/>
          <p:nvPr/>
        </p:nvSpPr>
        <p:spPr>
          <a:xfrm>
            <a:off x="533520" y="609480"/>
            <a:ext cx="80769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91440" bIns="46800" anchor="b">
            <a:normAutofit fontScale="75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py an Image and Paste It into Another Document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Copying and Pasting with Project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647" name="Content Placeholder 5"/>
          <p:cNvSpPr/>
          <p:nvPr/>
        </p:nvSpPr>
        <p:spPr>
          <a:xfrm>
            <a:off x="503280" y="1542960"/>
            <a:ext cx="8183520" cy="39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rmAutofit/>
          </a:bodyPr>
          <a:p>
            <a:pPr marL="264960" indent="-264960">
              <a:lnSpc>
                <a:spcPct val="100000"/>
              </a:lnSpc>
              <a:spcBef>
                <a:spcPts val="451"/>
              </a:spcBef>
              <a:spcAft>
                <a:spcPts val="1199"/>
              </a:spcAft>
              <a:buClr>
                <a:srgbClr val="66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en you paste data into Project, you have two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199800">
              <a:lnSpc>
                <a:spcPct val="100000"/>
              </a:lnSpc>
              <a:spcBef>
                <a:spcPts val="414"/>
              </a:spcBef>
              <a:spcAft>
                <a:spcPts val="1199"/>
              </a:spcAft>
              <a:buClr>
                <a:srgbClr val="66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You can paste text into a table in Proj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199800">
              <a:lnSpc>
                <a:spcPct val="100000"/>
              </a:lnSpc>
              <a:spcBef>
                <a:spcPts val="414"/>
              </a:spcBef>
              <a:spcAft>
                <a:spcPts val="1199"/>
              </a:spcAft>
              <a:buClr>
                <a:srgbClr val="66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You can paste a graphic image and/or OLE object from another progra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Text Placeholder 3"/>
          <p:cNvSpPr/>
          <p:nvPr/>
        </p:nvSpPr>
        <p:spPr>
          <a:xfrm>
            <a:off x="533520" y="609480"/>
            <a:ext cx="80769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91440" bIns="46800" anchor="b">
            <a:normAutofit fontScale="75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py an Image and Paste It into Another Document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Copying and Pasting with Project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650" name="Content Placeholder 5"/>
          <p:cNvSpPr/>
          <p:nvPr/>
        </p:nvSpPr>
        <p:spPr>
          <a:xfrm>
            <a:off x="503280" y="1542960"/>
            <a:ext cx="8183520" cy="39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rmAutofit/>
          </a:bodyPr>
          <a:p>
            <a:pPr marL="264960" indent="-264960">
              <a:lnSpc>
                <a:spcPct val="100000"/>
              </a:lnSpc>
              <a:spcBef>
                <a:spcPts val="451"/>
              </a:spcBef>
              <a:spcAft>
                <a:spcPts val="1199"/>
              </a:spcAft>
              <a:buClr>
                <a:srgbClr val="66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graphic image or OLE object from another program can be pas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199800">
              <a:lnSpc>
                <a:spcPct val="100000"/>
              </a:lnSpc>
              <a:spcBef>
                <a:spcPts val="414"/>
              </a:spcBef>
              <a:spcAft>
                <a:spcPts val="1199"/>
              </a:spcAft>
              <a:buClr>
                <a:srgbClr val="66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to a graphical portion of a Gantt chart view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199800">
              <a:lnSpc>
                <a:spcPct val="100000"/>
              </a:lnSpc>
              <a:spcBef>
                <a:spcPts val="414"/>
              </a:spcBef>
              <a:spcAft>
                <a:spcPts val="1199"/>
              </a:spcAft>
              <a:buClr>
                <a:srgbClr val="66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to a task, resource, or assignment no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199800">
              <a:lnSpc>
                <a:spcPct val="100000"/>
              </a:lnSpc>
              <a:spcBef>
                <a:spcPts val="414"/>
              </a:spcBef>
              <a:spcAft>
                <a:spcPts val="1199"/>
              </a:spcAft>
              <a:buClr>
                <a:srgbClr val="66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o a form view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199800">
              <a:lnSpc>
                <a:spcPct val="100000"/>
              </a:lnSpc>
              <a:spcBef>
                <a:spcPts val="414"/>
              </a:spcBef>
              <a:spcAft>
                <a:spcPts val="1199"/>
              </a:spcAft>
              <a:buClr>
                <a:srgbClr val="66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o a header, footer, or legend of a view re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Text Placeholder 3"/>
          <p:cNvSpPr/>
          <p:nvPr/>
        </p:nvSpPr>
        <p:spPr>
          <a:xfrm>
            <a:off x="533520" y="609480"/>
            <a:ext cx="80769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91440" bIns="46800" anchor="b">
            <a:normAutofit fontScale="75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py an Image and Paste It into Another Document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Copying and Pasting with Project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653" name="Content Placeholder 5"/>
          <p:cNvSpPr/>
          <p:nvPr/>
        </p:nvSpPr>
        <p:spPr>
          <a:xfrm>
            <a:off x="503280" y="1542960"/>
            <a:ext cx="8183520" cy="39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rmAutofit/>
          </a:bodyPr>
          <a:p>
            <a:pPr marL="264960" indent="-264960">
              <a:lnSpc>
                <a:spcPct val="100000"/>
              </a:lnSpc>
              <a:spcBef>
                <a:spcPts val="451"/>
              </a:spcBef>
              <a:spcAft>
                <a:spcPts val="1199"/>
              </a:spcAft>
              <a:buClr>
                <a:srgbClr val="66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en pasting text as multiple colum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199800">
              <a:lnSpc>
                <a:spcPct val="100000"/>
              </a:lnSpc>
              <a:spcBef>
                <a:spcPts val="414"/>
              </a:spcBef>
              <a:spcAft>
                <a:spcPts val="1199"/>
              </a:spcAft>
              <a:buClr>
                <a:srgbClr val="66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ke sure the order of the information in the source program matches the order of columns in the Project t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199800">
              <a:lnSpc>
                <a:spcPct val="100000"/>
              </a:lnSpc>
              <a:spcBef>
                <a:spcPts val="414"/>
              </a:spcBef>
              <a:spcAft>
                <a:spcPts val="1199"/>
              </a:spcAft>
              <a:buClr>
                <a:srgbClr val="66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ke sure the columns in the source program support the same type of data as do the columns in Proj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Text Placeholder 3"/>
          <p:cNvSpPr/>
          <p:nvPr/>
        </p:nvSpPr>
        <p:spPr>
          <a:xfrm>
            <a:off x="533520" y="609480"/>
            <a:ext cx="80769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91440" bIns="46800" anchor="b">
            <a:normAutofit fontScale="75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py an Image and Paste It into Another Document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Using Other File Formats in Project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656" name="Content Placeholder 5"/>
          <p:cNvSpPr/>
          <p:nvPr/>
        </p:nvSpPr>
        <p:spPr>
          <a:xfrm>
            <a:off x="503280" y="1542960"/>
            <a:ext cx="8183520" cy="39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rmAutofit/>
          </a:bodyPr>
          <a:p>
            <a:pPr marL="264960" indent="-264960">
              <a:lnSpc>
                <a:spcPct val="100000"/>
              </a:lnSpc>
              <a:spcBef>
                <a:spcPts val="451"/>
              </a:spcBef>
              <a:spcAft>
                <a:spcPts val="1199"/>
              </a:spcAft>
              <a:buClr>
                <a:srgbClr val="66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ject 2007 has a security setting that may prevent you from opening legacy or non-default file forma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451"/>
              </a:spcBef>
              <a:spcAft>
                <a:spcPts val="1199"/>
              </a:spcAft>
              <a:buClr>
                <a:srgbClr val="66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f you see a dialog box with a warning message when you try to open a file, you may need to change your sett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Text Placeholder 3"/>
          <p:cNvSpPr/>
          <p:nvPr/>
        </p:nvSpPr>
        <p:spPr>
          <a:xfrm>
            <a:off x="533520" y="609480"/>
            <a:ext cx="80769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91440" bIns="46800" anchor="b">
            <a:normAutofit fontScale="77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Use a Different File Format in Microsoft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Using Other File Formats in Project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659" name="Content Placeholder 5"/>
          <p:cNvSpPr/>
          <p:nvPr/>
        </p:nvSpPr>
        <p:spPr>
          <a:xfrm>
            <a:off x="503280" y="1542960"/>
            <a:ext cx="8183520" cy="39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rmAutofit/>
          </a:bodyPr>
          <a:p>
            <a:pPr marL="264960" indent="-264960">
              <a:lnSpc>
                <a:spcPct val="100000"/>
              </a:lnSpc>
              <a:spcBef>
                <a:spcPts val="451"/>
              </a:spcBef>
              <a:spcAft>
                <a:spcPts val="1199"/>
              </a:spcAft>
              <a:buClr>
                <a:srgbClr val="66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n the menu bar, click Tools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451"/>
              </a:spcBef>
              <a:spcAft>
                <a:spcPts val="1199"/>
              </a:spcAft>
              <a:buClr>
                <a:srgbClr val="66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he Security t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451"/>
              </a:spcBef>
              <a:spcAft>
                <a:spcPts val="1199"/>
              </a:spcAft>
              <a:buClr>
                <a:srgbClr val="66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nder Legacy Formats, select Prompt when loading files with legacy or non-default file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Text Placeholder 3"/>
          <p:cNvSpPr/>
          <p:nvPr/>
        </p:nvSpPr>
        <p:spPr>
          <a:xfrm>
            <a:off x="533520" y="609480"/>
            <a:ext cx="80769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91440" bIns="46800" anchor="b">
            <a:normAutofit fontScale="76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Use a Different File Format in Microsoft Project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Using Other File Formats in Project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662" name="Rounded Rectangle 7"/>
          <p:cNvSpPr/>
          <p:nvPr/>
        </p:nvSpPr>
        <p:spPr>
          <a:xfrm>
            <a:off x="1203480" y="2481120"/>
            <a:ext cx="2301840" cy="6858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Op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Rounded Rectangle 6"/>
          <p:cNvSpPr/>
          <p:nvPr/>
        </p:nvSpPr>
        <p:spPr>
          <a:xfrm>
            <a:off x="609480" y="1676520"/>
            <a:ext cx="2133720" cy="6858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Rounded Rectangle 8"/>
          <p:cNvSpPr/>
          <p:nvPr/>
        </p:nvSpPr>
        <p:spPr>
          <a:xfrm>
            <a:off x="1523880" y="3276720"/>
            <a:ext cx="5105520" cy="83808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n the Files of type box, select Microsoft Excel Workboo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Down Arrow 10"/>
          <p:cNvSpPr/>
          <p:nvPr/>
        </p:nvSpPr>
        <p:spPr>
          <a:xfrm>
            <a:off x="1219320" y="2235240"/>
            <a:ext cx="457200" cy="3808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Down Arrow 14"/>
          <p:cNvSpPr/>
          <p:nvPr/>
        </p:nvSpPr>
        <p:spPr>
          <a:xfrm>
            <a:off x="1752480" y="3035160"/>
            <a:ext cx="457200" cy="3812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Rounded Rectangle 8"/>
          <p:cNvSpPr/>
          <p:nvPr/>
        </p:nvSpPr>
        <p:spPr>
          <a:xfrm>
            <a:off x="2209680" y="4280040"/>
            <a:ext cx="5943600" cy="83808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Locate the folder where the Sample Task List workbook file is sa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Down Arrow 14"/>
          <p:cNvSpPr/>
          <p:nvPr/>
        </p:nvSpPr>
        <p:spPr>
          <a:xfrm>
            <a:off x="2438280" y="4038480"/>
            <a:ext cx="457200" cy="3812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Text Placeholder 3"/>
          <p:cNvSpPr/>
          <p:nvPr/>
        </p:nvSpPr>
        <p:spPr>
          <a:xfrm>
            <a:off x="533520" y="609480"/>
            <a:ext cx="80769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91440" bIns="46800" anchor="b">
            <a:normAutofit fontScale="76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Use a Different File Format in Microsoft Project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Rounded Rectangle 7"/>
          <p:cNvSpPr/>
          <p:nvPr/>
        </p:nvSpPr>
        <p:spPr>
          <a:xfrm>
            <a:off x="2193840" y="4648320"/>
            <a:ext cx="2301840" cy="60948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N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Rounded Rectangle 7"/>
          <p:cNvSpPr/>
          <p:nvPr/>
        </p:nvSpPr>
        <p:spPr>
          <a:xfrm>
            <a:off x="1584360" y="3886200"/>
            <a:ext cx="3063960" cy="60948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lect New 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Down Arrow 10"/>
          <p:cNvSpPr/>
          <p:nvPr/>
        </p:nvSpPr>
        <p:spPr>
          <a:xfrm>
            <a:off x="2438280" y="4419720"/>
            <a:ext cx="457200" cy="3808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Using Other File Formats in Project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674" name="Rounded Rectangle 7"/>
          <p:cNvSpPr/>
          <p:nvPr/>
        </p:nvSpPr>
        <p:spPr>
          <a:xfrm>
            <a:off x="1203480" y="3124080"/>
            <a:ext cx="2301840" cy="60984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N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Rounded Rectangle 6"/>
          <p:cNvSpPr/>
          <p:nvPr/>
        </p:nvSpPr>
        <p:spPr>
          <a:xfrm>
            <a:off x="609480" y="1523880"/>
            <a:ext cx="4876920" cy="83844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Double-click the Sample Task List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Down Arrow 10"/>
          <p:cNvSpPr/>
          <p:nvPr/>
        </p:nvSpPr>
        <p:spPr>
          <a:xfrm>
            <a:off x="1828800" y="3657600"/>
            <a:ext cx="457200" cy="3808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Content Placeholder 5"/>
          <p:cNvSpPr/>
          <p:nvPr/>
        </p:nvSpPr>
        <p:spPr>
          <a:xfrm>
            <a:off x="1295280" y="2438280"/>
            <a:ext cx="5105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rmAutofit/>
          </a:bodyPr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66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Import Wizard app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Text Placeholder 3"/>
          <p:cNvSpPr/>
          <p:nvPr/>
        </p:nvSpPr>
        <p:spPr>
          <a:xfrm>
            <a:off x="533520" y="609480"/>
            <a:ext cx="80769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91440" bIns="46800" anchor="b">
            <a:normAutofit fontScale="76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Use a Different File Format in Microsoft Project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Rounded Rectangle 7"/>
          <p:cNvSpPr/>
          <p:nvPr/>
        </p:nvSpPr>
        <p:spPr>
          <a:xfrm>
            <a:off x="1981080" y="3505320"/>
            <a:ext cx="2301840" cy="60948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lect Ta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Rounded Rectangle 7"/>
          <p:cNvSpPr/>
          <p:nvPr/>
        </p:nvSpPr>
        <p:spPr>
          <a:xfrm>
            <a:off x="1371600" y="2743200"/>
            <a:ext cx="2057400" cy="60948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N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Down Arrow 10"/>
          <p:cNvSpPr/>
          <p:nvPr/>
        </p:nvSpPr>
        <p:spPr>
          <a:xfrm>
            <a:off x="2225520" y="3276720"/>
            <a:ext cx="457200" cy="3808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Using Other File Formats in Project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683" name="Rounded Rectangle 7"/>
          <p:cNvSpPr/>
          <p:nvPr/>
        </p:nvSpPr>
        <p:spPr>
          <a:xfrm>
            <a:off x="990720" y="1981080"/>
            <a:ext cx="3962160" cy="60984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lect As a new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Down Arrow 10"/>
          <p:cNvSpPr/>
          <p:nvPr/>
        </p:nvSpPr>
        <p:spPr>
          <a:xfrm>
            <a:off x="1616040" y="2514600"/>
            <a:ext cx="457200" cy="3808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Rounded Rectangle 7"/>
          <p:cNvSpPr/>
          <p:nvPr/>
        </p:nvSpPr>
        <p:spPr>
          <a:xfrm>
            <a:off x="2498760" y="4267080"/>
            <a:ext cx="5197320" cy="60984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lect Import includes hea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Down Arrow 10"/>
          <p:cNvSpPr/>
          <p:nvPr/>
        </p:nvSpPr>
        <p:spPr>
          <a:xfrm>
            <a:off x="2743200" y="4038480"/>
            <a:ext cx="457200" cy="3812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Text Placeholder 3"/>
          <p:cNvSpPr/>
          <p:nvPr/>
        </p:nvSpPr>
        <p:spPr>
          <a:xfrm>
            <a:off x="533520" y="609480"/>
            <a:ext cx="80769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91440" bIns="46800" anchor="b">
            <a:normAutofit fontScale="76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Use a Different File Format in Microsoft Project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Software Orientation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pic>
        <p:nvPicPr>
          <p:cNvPr id="537" name="" descr=""/>
          <p:cNvPicPr/>
          <p:nvPr/>
        </p:nvPicPr>
        <p:blipFill>
          <a:blip r:embed="rId1"/>
          <a:stretch/>
        </p:blipFill>
        <p:spPr>
          <a:xfrm>
            <a:off x="2709720" y="1900080"/>
            <a:ext cx="3724560" cy="3057840"/>
          </a:xfrm>
          <a:prstGeom prst="rect">
            <a:avLst/>
          </a:prstGeom>
          <a:ln w="0">
            <a:noFill/>
          </a:ln>
        </p:spPr>
      </p:pic>
      <p:sp>
        <p:nvSpPr>
          <p:cNvPr id="538" name="Line Callout 1 (Accent Bar) 6"/>
          <p:cNvSpPr/>
          <p:nvPr/>
        </p:nvSpPr>
        <p:spPr>
          <a:xfrm>
            <a:off x="609480" y="1523880"/>
            <a:ext cx="1676520" cy="1143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27798" y="15420"/>
                </a:moveTo>
                <a:lnTo>
                  <a:pt x="22582" y="2160"/>
                </a:lnTo>
              </a:path>
              <a:path w="21600" h="21600">
                <a:moveTo>
                  <a:pt x="22582" y="0"/>
                </a:moveTo>
                <a:lnTo>
                  <a:pt x="22582" y="21600"/>
                </a:lnTo>
              </a:path>
            </a:pathLst>
          </a:custGeom>
          <a:solidFill>
            <a:srgbClr val="595959"/>
          </a:solidFill>
          <a:ln w="190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Enables you to convert the image for screen, printer, or to a GIF 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Line Callout 1 (Accent Bar) 6"/>
          <p:cNvSpPr/>
          <p:nvPr/>
        </p:nvSpPr>
        <p:spPr>
          <a:xfrm>
            <a:off x="609480" y="2819520"/>
            <a:ext cx="1676520" cy="1143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28452" y="11340"/>
                </a:moveTo>
                <a:lnTo>
                  <a:pt x="22582" y="2160"/>
                </a:lnTo>
              </a:path>
              <a:path w="21600" h="21600">
                <a:moveTo>
                  <a:pt x="22582" y="0"/>
                </a:moveTo>
                <a:lnTo>
                  <a:pt x="22582" y="21600"/>
                </a:lnTo>
              </a:path>
            </a:pathLst>
          </a:custGeom>
          <a:solidFill>
            <a:srgbClr val="595959"/>
          </a:solidFill>
          <a:ln w="190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Enables you to copy all of the rows on the screen or just selected row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Line Callout 1 (Accent Bar) 6"/>
          <p:cNvSpPr/>
          <p:nvPr/>
        </p:nvSpPr>
        <p:spPr>
          <a:xfrm>
            <a:off x="609480" y="4038480"/>
            <a:ext cx="1676520" cy="1371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28616" y="50"/>
                </a:moveTo>
                <a:lnTo>
                  <a:pt x="22582" y="1800"/>
                </a:lnTo>
              </a:path>
              <a:path w="21600" h="21600">
                <a:moveTo>
                  <a:pt x="22582" y="0"/>
                </a:moveTo>
                <a:lnTo>
                  <a:pt x="22582" y="21600"/>
                </a:lnTo>
              </a:path>
            </a:pathLst>
          </a:custGeom>
          <a:solidFill>
            <a:srgbClr val="595959"/>
          </a:solidFill>
          <a:ln w="190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Enables you to copy the image as shown onscreen or for a specific date ran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Line Callout 1 (Accent Bar) 6"/>
          <p:cNvSpPr/>
          <p:nvPr/>
        </p:nvSpPr>
        <p:spPr>
          <a:xfrm>
            <a:off x="6629400" y="2133720"/>
            <a:ext cx="167652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566" y="17100"/>
                </a:moveTo>
                <a:lnTo>
                  <a:pt x="-982" y="2160"/>
                </a:lnTo>
              </a:path>
              <a:path w="21600" h="21600">
                <a:moveTo>
                  <a:pt x="-982" y="0"/>
                </a:moveTo>
                <a:lnTo>
                  <a:pt x="-982" y="21600"/>
                </a:lnTo>
              </a:path>
            </a:pathLst>
          </a:custGeom>
          <a:solidFill>
            <a:srgbClr val="595959"/>
          </a:solidFill>
          <a:ln w="190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Specifies the location of the GIF 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 Placeholder 3"/>
          <p:cNvSpPr/>
          <p:nvPr/>
        </p:nvSpPr>
        <p:spPr>
          <a:xfrm>
            <a:off x="533520" y="609480"/>
            <a:ext cx="80769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91440" bIns="46800" anchor="b">
            <a:normAutofit fontScale="84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icrosoft Project’s Copy Picture Dialog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Rounded Rectangle 7"/>
          <p:cNvSpPr/>
          <p:nvPr/>
        </p:nvSpPr>
        <p:spPr>
          <a:xfrm>
            <a:off x="1981080" y="2514600"/>
            <a:ext cx="3810240" cy="129528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lect Task List from the Source worksheet name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Rounded Rectangle 7"/>
          <p:cNvSpPr/>
          <p:nvPr/>
        </p:nvSpPr>
        <p:spPr>
          <a:xfrm>
            <a:off x="1371600" y="1752480"/>
            <a:ext cx="2057400" cy="60984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N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Down Arrow 10"/>
          <p:cNvSpPr/>
          <p:nvPr/>
        </p:nvSpPr>
        <p:spPr>
          <a:xfrm>
            <a:off x="2225520" y="2286000"/>
            <a:ext cx="457200" cy="3808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Using Other File Formats in Project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692" name="Text Placeholder 3"/>
          <p:cNvSpPr/>
          <p:nvPr/>
        </p:nvSpPr>
        <p:spPr>
          <a:xfrm>
            <a:off x="533520" y="609480"/>
            <a:ext cx="80769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91440" bIns="46800" anchor="b">
            <a:normAutofit fontScale="76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Use a Different File Format in Microsoft Project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3" name="" descr=""/>
          <p:cNvPicPr/>
          <p:nvPr/>
        </p:nvPicPr>
        <p:blipFill>
          <a:blip r:embed="rId1"/>
          <a:stretch/>
        </p:blipFill>
        <p:spPr>
          <a:xfrm>
            <a:off x="4191120" y="1676520"/>
            <a:ext cx="4397400" cy="3402000"/>
          </a:xfrm>
          <a:prstGeom prst="rect">
            <a:avLst/>
          </a:prstGeom>
          <a:ln w="0">
            <a:noFill/>
          </a:ln>
        </p:spPr>
      </p:pic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Using Other File Formats in Project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695" name="Line Callout 1 (Accent Bar) 13"/>
          <p:cNvSpPr/>
          <p:nvPr/>
        </p:nvSpPr>
        <p:spPr>
          <a:xfrm>
            <a:off x="609480" y="1676520"/>
            <a:ext cx="1371600" cy="1100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58050" y="13870"/>
                </a:moveTo>
                <a:lnTo>
                  <a:pt x="22800" y="2244"/>
                </a:lnTo>
              </a:path>
              <a:path w="21600" h="21600">
                <a:moveTo>
                  <a:pt x="22800" y="0"/>
                </a:moveTo>
                <a:lnTo>
                  <a:pt x="22800" y="21600"/>
                </a:lnTo>
              </a:path>
            </a:pathLst>
          </a:custGeom>
          <a:solidFill>
            <a:srgbClr val="595959"/>
          </a:solidFill>
          <a:ln w="190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Select the worksheet name from the source file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Line Callout 1 (Accent Bar) 13"/>
          <p:cNvSpPr/>
          <p:nvPr/>
        </p:nvSpPr>
        <p:spPr>
          <a:xfrm>
            <a:off x="2209680" y="2514600"/>
            <a:ext cx="1524240" cy="1219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29565" y="10716"/>
                </a:moveTo>
                <a:lnTo>
                  <a:pt x="22680" y="2025"/>
                </a:lnTo>
              </a:path>
              <a:path w="21600" h="21600">
                <a:moveTo>
                  <a:pt x="22680" y="0"/>
                </a:moveTo>
                <a:lnTo>
                  <a:pt x="22680" y="21600"/>
                </a:lnTo>
              </a:path>
            </a:pathLst>
          </a:custGeom>
          <a:solidFill>
            <a:srgbClr val="595959"/>
          </a:solidFill>
          <a:ln w="190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Use this section to specify how you want to map the fiel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Line Callout 1 (Accent Bar) 13"/>
          <p:cNvSpPr/>
          <p:nvPr/>
        </p:nvSpPr>
        <p:spPr>
          <a:xfrm>
            <a:off x="457200" y="3886200"/>
            <a:ext cx="1600200" cy="1523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51643" y="653"/>
                </a:moveTo>
                <a:lnTo>
                  <a:pt x="22629" y="1620"/>
                </a:lnTo>
              </a:path>
              <a:path w="21600" h="21600">
                <a:moveTo>
                  <a:pt x="22629" y="0"/>
                </a:moveTo>
                <a:lnTo>
                  <a:pt x="22629" y="21600"/>
                </a:lnTo>
              </a:path>
            </a:pathLst>
          </a:custGeom>
          <a:solidFill>
            <a:srgbClr val="595959"/>
          </a:solidFill>
          <a:ln w="190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Preview area shows how data from another file format will be mapped to Proje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Text Placeholder 3"/>
          <p:cNvSpPr/>
          <p:nvPr/>
        </p:nvSpPr>
        <p:spPr>
          <a:xfrm>
            <a:off x="533520" y="609480"/>
            <a:ext cx="80769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91440" bIns="46800" anchor="b">
            <a:normAutofit fontScale="76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Use a Different File Format in Microsoft Project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Rounded Rectangle 7"/>
          <p:cNvSpPr/>
          <p:nvPr/>
        </p:nvSpPr>
        <p:spPr>
          <a:xfrm>
            <a:off x="2498760" y="2590920"/>
            <a:ext cx="3063960" cy="60948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Fini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Using Other File Formats in Project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701" name="Rounded Rectangle 7"/>
          <p:cNvSpPr/>
          <p:nvPr/>
        </p:nvSpPr>
        <p:spPr>
          <a:xfrm>
            <a:off x="2117880" y="1828800"/>
            <a:ext cx="2301840" cy="60948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N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Down Arrow 10"/>
          <p:cNvSpPr/>
          <p:nvPr/>
        </p:nvSpPr>
        <p:spPr>
          <a:xfrm>
            <a:off x="2743200" y="2362320"/>
            <a:ext cx="457200" cy="3808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Text Placeholder 3"/>
          <p:cNvSpPr/>
          <p:nvPr/>
        </p:nvSpPr>
        <p:spPr>
          <a:xfrm>
            <a:off x="533520" y="609480"/>
            <a:ext cx="80769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91440" bIns="46800" anchor="b">
            <a:normAutofit fontScale="76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Use a Different File Format in Microsoft Project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Using Other File Formats in Project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pic>
        <p:nvPicPr>
          <p:cNvPr id="705" name="" descr=""/>
          <p:cNvPicPr/>
          <p:nvPr/>
        </p:nvPicPr>
        <p:blipFill>
          <a:blip r:embed="rId1"/>
          <a:stretch/>
        </p:blipFill>
        <p:spPr>
          <a:xfrm>
            <a:off x="1447920" y="1828800"/>
            <a:ext cx="6019560" cy="1276200"/>
          </a:xfrm>
          <a:prstGeom prst="rect">
            <a:avLst/>
          </a:prstGeom>
          <a:ln w="0">
            <a:noFill/>
          </a:ln>
        </p:spPr>
      </p:pic>
      <p:sp>
        <p:nvSpPr>
          <p:cNvPr id="706" name="Rounded Rectangle 7"/>
          <p:cNvSpPr/>
          <p:nvPr/>
        </p:nvSpPr>
        <p:spPr>
          <a:xfrm>
            <a:off x="3276720" y="3962520"/>
            <a:ext cx="1752480" cy="60948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Y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Text Placeholder 3"/>
          <p:cNvSpPr/>
          <p:nvPr/>
        </p:nvSpPr>
        <p:spPr>
          <a:xfrm>
            <a:off x="533520" y="609480"/>
            <a:ext cx="80769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91440" bIns="46800" anchor="b">
            <a:normAutofit fontScale="76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Use a Different File Format in Microsoft Project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Using Other File Formats in Project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pic>
        <p:nvPicPr>
          <p:cNvPr id="709" name="" descr=""/>
          <p:cNvPicPr/>
          <p:nvPr/>
        </p:nvPicPr>
        <p:blipFill>
          <a:blip r:embed="rId1"/>
          <a:srcRect l="0" t="0" r="0" b="50885"/>
          <a:stretch/>
        </p:blipFill>
        <p:spPr>
          <a:xfrm>
            <a:off x="1295280" y="1600200"/>
            <a:ext cx="6472440" cy="2193840"/>
          </a:xfrm>
          <a:prstGeom prst="rect">
            <a:avLst/>
          </a:prstGeom>
          <a:ln w="0">
            <a:noFill/>
          </a:ln>
        </p:spPr>
      </p:pic>
      <p:sp>
        <p:nvSpPr>
          <p:cNvPr id="710" name="Line Callout 1 (Accent Bar) 13"/>
          <p:cNvSpPr/>
          <p:nvPr/>
        </p:nvSpPr>
        <p:spPr>
          <a:xfrm>
            <a:off x="3124080" y="4114800"/>
            <a:ext cx="2362320" cy="1143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25665" y="-28560"/>
                </a:moveTo>
                <a:lnTo>
                  <a:pt x="22297" y="2160"/>
                </a:lnTo>
              </a:path>
              <a:path w="21600" h="21600">
                <a:moveTo>
                  <a:pt x="22297" y="0"/>
                </a:moveTo>
                <a:lnTo>
                  <a:pt x="22297" y="21600"/>
                </a:lnTo>
              </a:path>
            </a:pathLst>
          </a:custGeom>
          <a:solidFill>
            <a:srgbClr val="595959"/>
          </a:solidFill>
          <a:ln w="190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After data is imported, it appears as an unlinked sequence of tasks, ready to be edi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 flipH="1" flipV="1">
            <a:off x="2666520" y="2666880"/>
            <a:ext cx="304920" cy="1905120"/>
          </a:xfrm>
          <a:prstGeom prst="line">
            <a:avLst/>
          </a:prstGeom>
          <a:ln w="190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 flipV="1">
            <a:off x="2971800" y="4114440"/>
            <a:ext cx="0" cy="1143000"/>
          </a:xfrm>
          <a:prstGeom prst="line">
            <a:avLst/>
          </a:prstGeom>
          <a:ln w="190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Text Placeholder 3"/>
          <p:cNvSpPr/>
          <p:nvPr/>
        </p:nvSpPr>
        <p:spPr>
          <a:xfrm>
            <a:off x="533520" y="609480"/>
            <a:ext cx="80769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91440" bIns="46800" anchor="b">
            <a:normAutofit fontScale="76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Use a Different File Format in Microsoft Project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Using Other File Formats in Project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715" name="Content Placeholder 5"/>
          <p:cNvSpPr/>
          <p:nvPr/>
        </p:nvSpPr>
        <p:spPr>
          <a:xfrm>
            <a:off x="503280" y="1542960"/>
            <a:ext cx="8183520" cy="39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rmAutofit/>
          </a:bodyPr>
          <a:p>
            <a:pPr marL="264960" indent="-264960">
              <a:lnSpc>
                <a:spcPct val="100000"/>
              </a:lnSpc>
              <a:spcBef>
                <a:spcPts val="451"/>
              </a:spcBef>
              <a:spcAft>
                <a:spcPts val="1199"/>
              </a:spcAft>
              <a:buClr>
                <a:srgbClr val="66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ject uses export maps when saving data to other file forma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451"/>
              </a:spcBef>
              <a:spcAft>
                <a:spcPts val="1199"/>
              </a:spcAft>
              <a:buClr>
                <a:srgbClr val="66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port map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—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pecifies the exact data to export and how to structure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Text Placeholder 3"/>
          <p:cNvSpPr/>
          <p:nvPr/>
        </p:nvSpPr>
        <p:spPr>
          <a:xfrm>
            <a:off x="533520" y="609480"/>
            <a:ext cx="80769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91440" bIns="46800" anchor="b">
            <a:normAutofit fontScale="76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Use a Different File Format in Microsoft Project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Using Other File Formats in Project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718" name="Content Placeholder 5"/>
          <p:cNvSpPr/>
          <p:nvPr/>
        </p:nvSpPr>
        <p:spPr>
          <a:xfrm>
            <a:off x="503280" y="1542960"/>
            <a:ext cx="8183520" cy="39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rmAutofit/>
          </a:bodyPr>
          <a:p>
            <a:pPr marL="264960" indent="-264960">
              <a:lnSpc>
                <a:spcPct val="100000"/>
              </a:lnSpc>
              <a:spcBef>
                <a:spcPts val="451"/>
              </a:spcBef>
              <a:spcAft>
                <a:spcPts val="1199"/>
              </a:spcAft>
              <a:buClr>
                <a:srgbClr val="66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ject uses import maps when opening data from another file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451"/>
              </a:spcBef>
              <a:spcAft>
                <a:spcPts val="1199"/>
              </a:spcAft>
              <a:buClr>
                <a:srgbClr val="66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mport map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—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pecifies the exact data to import and how to structure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Text Placeholder 3"/>
          <p:cNvSpPr/>
          <p:nvPr/>
        </p:nvSpPr>
        <p:spPr>
          <a:xfrm>
            <a:off x="533520" y="609480"/>
            <a:ext cx="80769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91440" bIns="46800" anchor="b">
            <a:normAutofit fontScale="76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Use a Different File Format in Microsoft Project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Using Other File Formats in Project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721" name="Content Placeholder 5"/>
          <p:cNvSpPr/>
          <p:nvPr/>
        </p:nvSpPr>
        <p:spPr>
          <a:xfrm>
            <a:off x="503280" y="1542960"/>
            <a:ext cx="8183520" cy="39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rmAutofit/>
          </a:bodyPr>
          <a:p>
            <a:pPr marL="264960" indent="-264960">
              <a:lnSpc>
                <a:spcPct val="100000"/>
              </a:lnSpc>
              <a:spcBef>
                <a:spcPts val="451"/>
              </a:spcBef>
              <a:spcAft>
                <a:spcPts val="1199"/>
              </a:spcAft>
              <a:buClr>
                <a:srgbClr val="66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same maps are used for both opening and saving data, so they are often referred to as import/export maps or data m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451"/>
              </a:spcBef>
              <a:spcAft>
                <a:spcPts val="1199"/>
              </a:spcAft>
              <a:buClr>
                <a:srgbClr val="66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ata map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—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llow you to specify how you want individual fields in the source program’s file to correspond to individual fields in the destination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451"/>
              </a:spcBef>
              <a:spcAft>
                <a:spcPts val="1199"/>
              </a:spcAft>
              <a:buClr>
                <a:srgbClr val="66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ata maps can be used over and o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Text Placeholder 3"/>
          <p:cNvSpPr/>
          <p:nvPr/>
        </p:nvSpPr>
        <p:spPr>
          <a:xfrm>
            <a:off x="533520" y="609480"/>
            <a:ext cx="80769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91440" bIns="46800" anchor="b">
            <a:normAutofit fontScale="76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Use a Different File Format in Microsoft Project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Summary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724" name=""/>
          <p:cNvSpPr txBox="1"/>
          <p:nvPr/>
        </p:nvSpPr>
        <p:spPr>
          <a:xfrm>
            <a:off x="514440" y="1542960"/>
            <a:ext cx="7486560" cy="37893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601"/>
              </a:spcBef>
              <a:spcAft>
                <a:spcPts val="601"/>
              </a:spcAft>
              <a:buClr>
                <a:srgbClr val="66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e a GIF image to display project 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601"/>
              </a:spcBef>
              <a:spcAft>
                <a:spcPts val="601"/>
              </a:spcAft>
              <a:buClr>
                <a:srgbClr val="66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py and paste with Microsoft Projec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601"/>
              </a:spcBef>
              <a:spcAft>
                <a:spcPts val="601"/>
              </a:spcAft>
              <a:buClr>
                <a:srgbClr val="66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601"/>
              </a:spcBef>
              <a:spcAft>
                <a:spcPts val="601"/>
              </a:spcAft>
              <a:buClr>
                <a:srgbClr val="66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e other file formats in Microsoft Projec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502920" y="538200"/>
            <a:ext cx="8077320" cy="851040"/>
          </a:xfrm>
          <a:prstGeom prst="rect">
            <a:avLst/>
          </a:prstGeom>
          <a:noFill/>
          <a:ln w="0">
            <a:noFill/>
          </a:ln>
        </p:spPr>
        <p:txBody>
          <a:bodyPr lIns="45720" tIns="91440" anchor="b">
            <a:normAutofit/>
          </a:bodyPr>
          <a:p>
            <a:pPr marL="264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You Learned How t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6666ff"/>
                </a:solidFill>
                <a:latin typeface="Verdana"/>
              </a:rPr>
              <a:t>Use a GIF Image to Display Information</a:t>
            </a:r>
            <a:endParaRPr b="1" lang="en-US" sz="29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544" name="Rounded Rectangle 6"/>
          <p:cNvSpPr/>
          <p:nvPr/>
        </p:nvSpPr>
        <p:spPr>
          <a:xfrm>
            <a:off x="914400" y="1752480"/>
            <a:ext cx="2514600" cy="6858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Rounded Rectangle 7"/>
          <p:cNvSpPr/>
          <p:nvPr/>
        </p:nvSpPr>
        <p:spPr>
          <a:xfrm>
            <a:off x="1508040" y="2557440"/>
            <a:ext cx="4969080" cy="6858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oint to Filtered for: All Ta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Rounded Rectangle 8"/>
          <p:cNvSpPr/>
          <p:nvPr/>
        </p:nvSpPr>
        <p:spPr>
          <a:xfrm>
            <a:off x="2057400" y="3352680"/>
            <a:ext cx="3886200" cy="6858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Summary Ta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Down Arrow 10"/>
          <p:cNvSpPr/>
          <p:nvPr/>
        </p:nvSpPr>
        <p:spPr>
          <a:xfrm>
            <a:off x="1523880" y="2311560"/>
            <a:ext cx="457200" cy="3808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Down Arrow 14"/>
          <p:cNvSpPr/>
          <p:nvPr/>
        </p:nvSpPr>
        <p:spPr>
          <a:xfrm>
            <a:off x="2057400" y="3111480"/>
            <a:ext cx="457200" cy="3808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 Placeholder 3"/>
          <p:cNvSpPr/>
          <p:nvPr/>
        </p:nvSpPr>
        <p:spPr>
          <a:xfrm>
            <a:off x="533520" y="609480"/>
            <a:ext cx="80769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91440" bIns="46800" anchor="b">
            <a:normAutofit fontScale="77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Use a GIF Image to Display Project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6666ff"/>
                </a:solidFill>
                <a:latin typeface="Verdana"/>
              </a:rPr>
              <a:t>Use a GIF Image to Display Information</a:t>
            </a:r>
            <a:endParaRPr b="1" lang="en-US" sz="29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551" name="Rounded Rectangle 7"/>
          <p:cNvSpPr/>
          <p:nvPr/>
        </p:nvSpPr>
        <p:spPr>
          <a:xfrm>
            <a:off x="2955960" y="2481120"/>
            <a:ext cx="2301840" cy="6858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Zo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Rounded Rectangle 6"/>
          <p:cNvSpPr/>
          <p:nvPr/>
        </p:nvSpPr>
        <p:spPr>
          <a:xfrm>
            <a:off x="2362320" y="1676520"/>
            <a:ext cx="2133360" cy="6858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Rounded Rectangle 8"/>
          <p:cNvSpPr/>
          <p:nvPr/>
        </p:nvSpPr>
        <p:spPr>
          <a:xfrm>
            <a:off x="3505320" y="3276720"/>
            <a:ext cx="3352680" cy="6858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Entire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Down Arrow 10"/>
          <p:cNvSpPr/>
          <p:nvPr/>
        </p:nvSpPr>
        <p:spPr>
          <a:xfrm>
            <a:off x="2971800" y="2235240"/>
            <a:ext cx="457200" cy="3808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Down Arrow 14"/>
          <p:cNvSpPr/>
          <p:nvPr/>
        </p:nvSpPr>
        <p:spPr>
          <a:xfrm>
            <a:off x="3505320" y="3035160"/>
            <a:ext cx="457200" cy="3812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Rounded Rectangle 8"/>
          <p:cNvSpPr/>
          <p:nvPr/>
        </p:nvSpPr>
        <p:spPr>
          <a:xfrm>
            <a:off x="3962520" y="4114800"/>
            <a:ext cx="1828800" cy="6858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Down Arrow 14"/>
          <p:cNvSpPr/>
          <p:nvPr/>
        </p:nvSpPr>
        <p:spPr>
          <a:xfrm>
            <a:off x="3962520" y="3873600"/>
            <a:ext cx="457200" cy="3808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 Placeholder 3"/>
          <p:cNvSpPr/>
          <p:nvPr/>
        </p:nvSpPr>
        <p:spPr>
          <a:xfrm>
            <a:off x="533520" y="609480"/>
            <a:ext cx="80769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91440" bIns="46800" anchor="b">
            <a:normAutofit fontScale="76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Use a GIF Image to Display Project Information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6666ff"/>
                </a:solidFill>
                <a:latin typeface="Verdana"/>
              </a:rPr>
              <a:t>Use a GIF Image to Display Information</a:t>
            </a:r>
            <a:endParaRPr b="1" lang="en-US" sz="2900" spc="-1" strike="noStrike">
              <a:solidFill>
                <a:srgbClr val="6666ff"/>
              </a:solidFill>
              <a:latin typeface="Verdana"/>
            </a:endParaRPr>
          </a:p>
        </p:txBody>
      </p:sp>
      <p:pic>
        <p:nvPicPr>
          <p:cNvPr id="560" name="Text Placeholder 3" descr=""/>
          <p:cNvPicPr/>
          <p:nvPr/>
        </p:nvPicPr>
        <p:blipFill>
          <a:blip r:embed="rId1"/>
          <a:srcRect l="0" t="0" r="0" b="50885"/>
          <a:stretch/>
        </p:blipFill>
        <p:spPr>
          <a:xfrm>
            <a:off x="1371600" y="3124080"/>
            <a:ext cx="6472080" cy="2194200"/>
          </a:xfrm>
          <a:prstGeom prst="rect">
            <a:avLst/>
          </a:prstGeom>
          <a:ln w="0">
            <a:noFill/>
          </a:ln>
        </p:spPr>
      </p:pic>
      <p:sp>
        <p:nvSpPr>
          <p:cNvPr id="561" name="Line Callout 1 (Accent Bar) 6"/>
          <p:cNvSpPr/>
          <p:nvPr/>
        </p:nvSpPr>
        <p:spPr>
          <a:xfrm>
            <a:off x="609480" y="1828800"/>
            <a:ext cx="167652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26816" y="34875"/>
                </a:moveTo>
                <a:lnTo>
                  <a:pt x="22582" y="2700"/>
                </a:lnTo>
              </a:path>
              <a:path w="21600" h="21600">
                <a:moveTo>
                  <a:pt x="22582" y="0"/>
                </a:moveTo>
                <a:lnTo>
                  <a:pt x="22582" y="21600"/>
                </a:lnTo>
              </a:path>
            </a:pathLst>
          </a:custGeom>
          <a:solidFill>
            <a:srgbClr val="595959"/>
          </a:solidFill>
          <a:ln w="190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Tasks are collapsed to show summary tas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Line Callout 1 (Accent Bar) 6"/>
          <p:cNvSpPr/>
          <p:nvPr/>
        </p:nvSpPr>
        <p:spPr>
          <a:xfrm>
            <a:off x="6553080" y="1828800"/>
            <a:ext cx="167652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857" y="51975"/>
                </a:moveTo>
                <a:lnTo>
                  <a:pt x="-982" y="2700"/>
                </a:lnTo>
              </a:path>
              <a:path w="21600" h="21600">
                <a:moveTo>
                  <a:pt x="-982" y="0"/>
                </a:moveTo>
                <a:lnTo>
                  <a:pt x="-982" y="21600"/>
                </a:lnTo>
              </a:path>
            </a:pathLst>
          </a:custGeom>
          <a:solidFill>
            <a:srgbClr val="595959"/>
          </a:solidFill>
          <a:ln w="190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Entire project is visible in the active windo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Text Placeholder 3"/>
          <p:cNvSpPr/>
          <p:nvPr/>
        </p:nvSpPr>
        <p:spPr>
          <a:xfrm>
            <a:off x="533520" y="609480"/>
            <a:ext cx="80769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91440" bIns="46800" anchor="b">
            <a:normAutofit fontScale="76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Use a GIF Image to Display Project Information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6666ff"/>
                </a:solidFill>
                <a:latin typeface="Verdana"/>
              </a:rPr>
              <a:t>Use a GIF Image to Display Information</a:t>
            </a:r>
            <a:endParaRPr b="1" lang="en-US" sz="29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565" name="Rounded Rectangle 7"/>
          <p:cNvSpPr/>
          <p:nvPr/>
        </p:nvSpPr>
        <p:spPr>
          <a:xfrm>
            <a:off x="1508040" y="2481120"/>
            <a:ext cx="6264360" cy="87156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Under the Render image label, Click TO GIF imag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Rounded Rectangle 6"/>
          <p:cNvSpPr/>
          <p:nvPr/>
        </p:nvSpPr>
        <p:spPr>
          <a:xfrm>
            <a:off x="914400" y="1676520"/>
            <a:ext cx="4876920" cy="6858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he Copy Picture butt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Down Arrow 10"/>
          <p:cNvSpPr/>
          <p:nvPr/>
        </p:nvSpPr>
        <p:spPr>
          <a:xfrm>
            <a:off x="1523880" y="2235240"/>
            <a:ext cx="457200" cy="3808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 Placeholder 3"/>
          <p:cNvSpPr/>
          <p:nvPr/>
        </p:nvSpPr>
        <p:spPr>
          <a:xfrm>
            <a:off x="533520" y="609480"/>
            <a:ext cx="80769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91440" bIns="46800" anchor="b">
            <a:normAutofit fontScale="76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Use a GIF Image to Display Project Information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9" name="Text Placeholder 3" descr=""/>
          <p:cNvPicPr/>
          <p:nvPr/>
        </p:nvPicPr>
        <p:blipFill>
          <a:blip r:embed="rId1"/>
          <a:stretch/>
        </p:blipFill>
        <p:spPr>
          <a:xfrm>
            <a:off x="2514600" y="2286000"/>
            <a:ext cx="3724200" cy="3057480"/>
          </a:xfrm>
          <a:prstGeom prst="rect">
            <a:avLst/>
          </a:prstGeom>
          <a:ln w="0">
            <a:noFill/>
          </a:ln>
        </p:spPr>
      </p:pic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6666ff"/>
                </a:solidFill>
                <a:latin typeface="Verdana"/>
              </a:rPr>
              <a:t>Use a GIF Image to Display Information</a:t>
            </a:r>
            <a:endParaRPr b="1" lang="en-US" sz="29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571" name="Line Callout 1 (Accent Bar) 6"/>
          <p:cNvSpPr/>
          <p:nvPr/>
        </p:nvSpPr>
        <p:spPr>
          <a:xfrm>
            <a:off x="533520" y="2057400"/>
            <a:ext cx="167616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27798" y="27675"/>
                </a:moveTo>
                <a:lnTo>
                  <a:pt x="22582" y="2700"/>
                </a:lnTo>
              </a:path>
              <a:path w="21600" h="21600">
                <a:moveTo>
                  <a:pt x="22582" y="0"/>
                </a:moveTo>
                <a:lnTo>
                  <a:pt x="22582" y="21600"/>
                </a:lnTo>
              </a:path>
            </a:pathLst>
          </a:custGeom>
          <a:solidFill>
            <a:srgbClr val="595959"/>
          </a:solidFill>
          <a:ln w="190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Verdana"/>
              </a:rPr>
              <a:t>To GIF image file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 option selec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Line Callout 1 (Accent Bar) 6"/>
          <p:cNvSpPr/>
          <p:nvPr/>
        </p:nvSpPr>
        <p:spPr>
          <a:xfrm>
            <a:off x="6553080" y="1905120"/>
            <a:ext cx="1676520" cy="2057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8020" y="16167"/>
                </a:moveTo>
                <a:lnTo>
                  <a:pt x="-982" y="1200"/>
                </a:lnTo>
              </a:path>
              <a:path w="21600" h="21600">
                <a:moveTo>
                  <a:pt x="-982" y="0"/>
                </a:moveTo>
                <a:lnTo>
                  <a:pt x="-982" y="21600"/>
                </a:lnTo>
              </a:path>
            </a:pathLst>
          </a:custGeom>
          <a:solidFill>
            <a:srgbClr val="595959"/>
          </a:solidFill>
          <a:ln w="190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Project suggests that you save the file in the same location as the practice file and with the same name, except with a .gif exten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 Placeholder 3"/>
          <p:cNvSpPr/>
          <p:nvPr/>
        </p:nvSpPr>
        <p:spPr>
          <a:xfrm>
            <a:off x="533520" y="609480"/>
            <a:ext cx="80769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91440" bIns="46800" anchor="b">
            <a:normAutofit fontScale="76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Use a GIF Image to Display Project Information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6666ff"/>
                </a:solidFill>
                <a:latin typeface="Verdana"/>
              </a:rPr>
              <a:t>Use a GIF Image to Display Information</a:t>
            </a:r>
            <a:endParaRPr b="1" lang="en-US" sz="29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575" name="Rounded Rectangle 7"/>
          <p:cNvSpPr/>
          <p:nvPr/>
        </p:nvSpPr>
        <p:spPr>
          <a:xfrm>
            <a:off x="2955960" y="2481120"/>
            <a:ext cx="2301840" cy="6858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Rounded Rectangle 6"/>
          <p:cNvSpPr/>
          <p:nvPr/>
        </p:nvSpPr>
        <p:spPr>
          <a:xfrm>
            <a:off x="2362320" y="1676520"/>
            <a:ext cx="2133360" cy="6858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Rounded Rectangle 8"/>
          <p:cNvSpPr/>
          <p:nvPr/>
        </p:nvSpPr>
        <p:spPr>
          <a:xfrm>
            <a:off x="3505320" y="3276720"/>
            <a:ext cx="2514600" cy="6858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olb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Down Arrow 10"/>
          <p:cNvSpPr/>
          <p:nvPr/>
        </p:nvSpPr>
        <p:spPr>
          <a:xfrm>
            <a:off x="2971800" y="2235240"/>
            <a:ext cx="457200" cy="3808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Down Arrow 14"/>
          <p:cNvSpPr/>
          <p:nvPr/>
        </p:nvSpPr>
        <p:spPr>
          <a:xfrm>
            <a:off x="3505320" y="3035160"/>
            <a:ext cx="457200" cy="3812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Rounded Rectangle 8"/>
          <p:cNvSpPr/>
          <p:nvPr/>
        </p:nvSpPr>
        <p:spPr>
          <a:xfrm>
            <a:off x="3962520" y="4114800"/>
            <a:ext cx="2361960" cy="6858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We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Down Arrow 14"/>
          <p:cNvSpPr/>
          <p:nvPr/>
        </p:nvSpPr>
        <p:spPr>
          <a:xfrm>
            <a:off x="3962520" y="3873600"/>
            <a:ext cx="457200" cy="3808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 Placeholder 3"/>
          <p:cNvSpPr/>
          <p:nvPr/>
        </p:nvSpPr>
        <p:spPr>
          <a:xfrm>
            <a:off x="533520" y="609480"/>
            <a:ext cx="80769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91440" bIns="46800" anchor="b">
            <a:normAutofit fontScale="76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Use a GIF Image to Display Project Information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0T19:14:18Z</dcterms:created>
  <dc:creator/>
  <dc:description/>
  <dc:language>en-US</dc:language>
  <cp:lastModifiedBy>Custom Editorial Productions</cp:lastModifiedBy>
  <dcterms:modified xsi:type="dcterms:W3CDTF">2007-06-12T18:23:36Z</dcterms:modified>
  <cp:revision>200</cp:revision>
  <dc:subject/>
  <dc:title>Project Basics</dc:title>
</cp:coreProperties>
</file>