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C93-0F6D-47D9-9CE3-70AC1C2D9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73E3-0806-43E4-9B20-28D18709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90F-E815-455A-BB7F-45272565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D09C-FE79-4C45-BC85-4FBF655E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655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16509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057400" y="24638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057400" y="332748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057400" y="41655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057400" y="50036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809880" y="16509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24638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3809880" y="332748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809880" y="41655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09880" y="50036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562720" y="16509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562720" y="24638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562720" y="332748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562720" y="41655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5562720" y="50036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7315200" y="16509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315200" y="24638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7315200" y="332748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7315200" y="41655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315200" y="50036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838080"/>
            <a:ext cx="16002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2057400" y="838080"/>
            <a:ext cx="1600200" cy="337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3809880" y="838080"/>
            <a:ext cx="160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5562720" y="838080"/>
            <a:ext cx="16002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/Space 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315200" y="838080"/>
            <a:ext cx="160020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7924680" y="76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p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1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Van der Wall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E=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pac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inverse squar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kg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ccelerating a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ight-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Centu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u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ateritic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ic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trans-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D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auli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1800" y="2333520"/>
            <a:ext cx="7340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rokary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What is an organism wh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DNA is not contained in its nucle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mutu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gibberel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odixative phsophory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ouble replac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orman Herr</cp:lastModifiedBy>
  <dcterms:modified xsi:type="dcterms:W3CDTF">2011-10-19T20:53:52Z</dcterms:modified>
  <cp:revision>20</cp:revision>
  <dc:subject/>
  <dc:title>Science Jeopardy</dc:title>
</cp:coreProperties>
</file>